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A3A6A-A126-4EFF-874F-38763D2D5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62227-B479-4BD9-B3BF-B1175FBD6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03667-4A5C-4036-BDA1-553D75CF0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55554-85B1-40EF-A4A5-C53AC434D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17276-152B-464F-BFFB-36ADF7891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1F7ED-0AEE-4383-B6E6-460B036B3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08C1E-F9A7-4D3D-884A-BF2E390FD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B2A84-645E-41EC-BE2E-1ED0F6F94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39E61-6050-4DD6-A818-FEEEB21DF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EA0E7-9419-4DE6-A5DD-5D647E1C0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3378A-7CCB-4977-AFE9-400220C84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D125-26E9-4A0D-9202-66F890A75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9F9E-235B-494B-AB61-83CDB7493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DILIGENCIA DEBID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84" name=""/>
          <p:cNvSpPr/>
          <p:nvPr/>
        </p:nvSpPr>
        <p:spPr>
          <a:xfrm>
            <a:off x="324000" y="1125360"/>
            <a:ext cx="849600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ejemplo, puede suceder que se trate de productos perecibles y que sufran daños en el transporte marítimo, en donde el seguro fue insuficiente.  En ese caso, el comprador sin duda recibirá un producto deteriorado en el país de destino y que no podrá vender en la cantidad y precio que inicialmente había estimad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Y así, los ejemplos podrían seguir.  En el comercio internacional existen muchos riesgos que pueden alterar fundamentalmente el negocio:  demoras en la navegación, pérdida de parte de los productos, echazón, hundimientos, guerras, huelgas, conmoción civil y tantos otro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ara la gran mayoría de los riesgos existe cobertura de seguro, pero si no se ha tomado una cobertura adecuada, alguien sufrirá una pérdi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otro lado, en muchos productos pueden existir bajas bruscas de precio después que la mercadería se ha embarcado y que afecten la venta de los mismos en el mercado de destino, con lo cual el comprador tendrá que venderlos a pérd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88" name=""/>
          <p:cNvSpPr/>
          <p:nvPr/>
        </p:nvSpPr>
        <p:spPr>
          <a:xfrm>
            <a:off x="395280" y="1125360"/>
            <a:ext cx="83534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puede haber incumplimientos del vendedor, en que no entrega las mercaderías adecuadas, sino que otras; o bien entrega las mercaderías comprometidas, pero están disconformes; o entrega menos cantidad; o el embalaje no es el adecuad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todos estos casos, podemos ver que el resultado del negocio no fue el que inicialmente se había previsto y que, en consecuencia, con el producto de esa importación el cliente no está en condiciones de pagar al ban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lo mismo, en ese escenario el banco quiere saber  si el cliente tiene otros recursos adicionales como para pagar el valor de la carta de crédito solicita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ara este fin, es fundamental un análisis a fondo y especializado de los balances y estados financieros del cliente.  De esta manera, de acuerdo con este análisis se podrá establecer las condiciones de liquidez, solvencia y endeudamiento del cliente que permitan una decisión favorable sobre la materi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caso de respuesta positiva, se emitirá la carta de crédi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92" name=""/>
          <p:cNvSpPr/>
          <p:nvPr/>
        </p:nvSpPr>
        <p:spPr>
          <a:xfrm>
            <a:off x="250920" y="1484280"/>
            <a:ext cx="83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68360" y="1125360"/>
            <a:ext cx="828036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Protec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este caso, el banco puede pedir garantías, que protejan el riesgo del crédito otorgado a su cli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os bancos podrán requerir garantías para la emisión de una carta de crédito si, a pesar de las respuestas positivas a todas las variables anteriores, se prefiere reducir el riesgo que signifique el otorgamiento de un crédi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proceso de otorgamiento de créditos a los clientes con o sin garantías, está reglamentado por la Superintendencia de Banco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as garantías se refieren a un bien distinto con cuya liquidación el banco puede obtener los recursos para pagarse del valor de la carta de crédito, si todos los mecanismos anteriores no permiten al banco recuperar su crédi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as garantías, en términos generales, pueden ser hipotecas, prendas, avales y fianz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97" name=""/>
          <p:cNvSpPr/>
          <p:nvPr/>
        </p:nvSpPr>
        <p:spPr>
          <a:xfrm>
            <a:off x="250920" y="1125360"/>
            <a:ext cx="82803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Perspectiv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Siendo los bancos instituciones comerciales, les interesa definir y establecer una relación de mediano plazo con su cliente, en que se analizan todas las posibles otras alternativas de relación bancaria: depósitos en cuenta corriente, depósitos a plazo, otro tipo de negocio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48" name=""/>
          <p:cNvSpPr/>
          <p:nvPr/>
        </p:nvSpPr>
        <p:spPr>
          <a:xfrm>
            <a:off x="611280" y="2924280"/>
            <a:ext cx="8137440" cy="36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24000" y="1125360"/>
            <a:ext cx="8496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1.</a:t>
            </a:r>
            <a:r>
              <a:rPr b="1" lang="es-ES" sz="2000" spc="-1" strike="noStrike">
                <a:solidFill>
                  <a:srgbClr val="ffff00"/>
                </a:solidFill>
                <a:latin typeface="Times New Roman"/>
              </a:rPr>
              <a:t>	</a:t>
            </a:r>
            <a:r>
              <a:rPr b="1" lang="es-ES" sz="2000" spc="-1" strike="noStrike">
                <a:solidFill>
                  <a:srgbClr val="ffff00"/>
                </a:solidFill>
                <a:latin typeface="Times New Roman"/>
              </a:rPr>
              <a:t>Concep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término que es una traducción literal del inglés “due diligence” se refiere a ciertas consideraciones de orden legal relacionadas con actividad previa que debe realizar un empresario antes de comprometerse a la realización de un contrato, especialmente en materia de negocios internaciona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No existe una definición típica sobre este concepto, el que podría entenderse como “el conjunto de actividades que debe realizar un empresario con el objeto de estudiar y analizar ciertas materias sobre las que, inicialmente, no tiene una información completa y que son decisivas para su decisión final sobre el asunto.  Entre las materias que se deben estudiar se encuentran aquellas de orden general o macroeconómico relativas a la situación general de orden político, económico, social, legal y financiero de un país y aquellas vinculadas principalmente con la contrapar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53" name=""/>
          <p:cNvSpPr/>
          <p:nvPr/>
        </p:nvSpPr>
        <p:spPr>
          <a:xfrm>
            <a:off x="179280" y="1125360"/>
            <a:ext cx="849636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as actividades comprendidas en la “diligencia debida” se aplican en una gran gama de negocio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os principales son las llamadas “fusiones y adquisiciones de empresas”, especialmente en negocios internacionales.  Estas operaciones se denominan en inglés “Mergers &amp; Acquisitions” M &amp; A y se suelen identificar en todos los manuales y publicaciones con las letras M &amp; 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se aplican en compraventas internacionales, especialmente en aquellas en que se establece una relación permanente, o bien el contrato de una cierta significación o bien el precio se paga a plaz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concepto se aplica no solamente en materias de comercio internacional, sino que también en operaciones de comercio interno en donde se debe despejar algunas incógnitas antes de asumir un compromis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se aplica el concepto en otro tipo de situaciones, como por ejemplo de carácter médico, en que los requisitos de diligencia debida se aplican a las prácticas establecidas por la ciencia médica en el tratamiento de una enfermedad o en cirugía, de manera que, sino se cumple con las prácticas usuales el doctor incurre en responsabilidad leg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57" name=""/>
          <p:cNvSpPr/>
          <p:nvPr/>
        </p:nvSpPr>
        <p:spPr>
          <a:xfrm>
            <a:off x="539640" y="14842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95280" y="1197000"/>
            <a:ext cx="84247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2.</a:t>
            </a:r>
            <a:r>
              <a:rPr b="1" lang="es-ES" sz="2000" spc="-1" strike="noStrike">
                <a:solidFill>
                  <a:srgbClr val="ffff00"/>
                </a:solidFill>
                <a:latin typeface="Times New Roman"/>
              </a:rPr>
              <a:t>	</a:t>
            </a:r>
            <a:r>
              <a:rPr b="1" lang="es-ES" sz="2000" spc="-1" strike="noStrike">
                <a:solidFill>
                  <a:srgbClr val="ffff00"/>
                </a:solidFill>
                <a:latin typeface="Times New Roman"/>
              </a:rPr>
              <a:t>Formación Especializa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xiste abundante literatura internacional sobre la materia, la que se puede encontrar en Interne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en el extranjero se ofrecen cursos especiales en universidades e institutos profesionales que otorgan una formación especializada en este tema, especialmente en lo relacionado con adquisiciones de empres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a responsabilidad de cumplir con un proceso de diligencia debida pertenece al empresario que ha resuelto arriesgar sus capitales en un negocio nuev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empresario suele delegar esta responsabilidad en la administración superior de sus sociedades, que se supone normalmente tienen la formación requerida para cumplir con este objetiv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existen instituciones que, entre otros servicios, relacionados con la administración de empresas, ofrecen asesoría profesional en este campo de actividad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stas instituciones son principalmente las empresas de auditoría intern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62" name=""/>
          <p:cNvSpPr/>
          <p:nvPr/>
        </p:nvSpPr>
        <p:spPr>
          <a:xfrm>
            <a:off x="324000" y="1413000"/>
            <a:ext cx="84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50920" y="974880"/>
            <a:ext cx="8713800" cy="58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3.</a:t>
            </a:r>
            <a:r>
              <a:rPr b="1" lang="es-ES" sz="2000" spc="-1" strike="noStrike">
                <a:solidFill>
                  <a:srgbClr val="ffff00"/>
                </a:solidFill>
                <a:latin typeface="Times New Roman"/>
              </a:rPr>
              <a:t>	</a:t>
            </a:r>
            <a:r>
              <a:rPr b="1" lang="es-ES" sz="2000" spc="-1" strike="noStrike">
                <a:solidFill>
                  <a:srgbClr val="ffff00"/>
                </a:solidFill>
                <a:latin typeface="Times New Roman"/>
              </a:rPr>
              <a:t>Campos de Investig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os temas que deben ser estudiados e investigados varían de manera significativa, dependiendo del tipo de negocio o actividad comercial que se pretende realiza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literatura y cursos internacionales que se ofrecen a través de Internet figuran muchas publicaciones con el nombre de “CHECKLIST”, que se refiere a una lista de actividades que deben ser cumplidas para este propósito con un cierto orden y metodologí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 continuación se mencionarán algunos de los principales campos de estudio que se utilizan principalmente en el sector financiero para el propósito de evaluar el otorgamiento de un crédito a una persona o empresa determina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Uno de los mecanismos que tradicionalmente han utilizado los bancos, se denomina el </a:t>
            </a:r>
            <a:r>
              <a:rPr b="1" lang="es-ES" sz="2000" spc="-1" strike="noStrike">
                <a:solidFill>
                  <a:srgbClr val="ffff00"/>
                </a:solidFill>
                <a:latin typeface="Times New Roman"/>
              </a:rPr>
              <a:t>Estudio de las 5 P</a:t>
            </a:r>
            <a:r>
              <a:rPr b="0" lang="es-ES" sz="2000" spc="-1" strike="noStrike">
                <a:solidFill>
                  <a:srgbClr val="ffff00"/>
                </a:solidFill>
                <a:latin typeface="Times New Roman"/>
              </a:rPr>
              <a:t>, que corresponde a un análisis de 5 variables, que permite analizar el caso, todas las cuales empiezan con la letra P, esto 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 Person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 Propósi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 Pag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 Protec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 Perspectiv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67" name=""/>
          <p:cNvSpPr/>
          <p:nvPr/>
        </p:nvSpPr>
        <p:spPr>
          <a:xfrm>
            <a:off x="324000" y="1268280"/>
            <a:ext cx="835164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los puntos siguientes se comentan brevemente cada una de estas variables, relacionadas con la solicitud que efectúe un cliente a un banco para la apertura de una carta de crédito.   Este instrumento permite el pago del precio en contratos de compraventa internacional de mercaderí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Person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banco trata de obtener la información más completa posible acerca de la persona que solicita la emisión de la carta de crédi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Como la palabra lo indica,  este es un </a:t>
            </a:r>
            <a:r>
              <a:rPr b="0" lang="es-ES" sz="2000" spc="-1" strike="noStrike" u="sng">
                <a:solidFill>
                  <a:srgbClr val="ffff00"/>
                </a:solidFill>
                <a:uFillTx/>
                <a:latin typeface="Times New Roman"/>
              </a:rPr>
              <a:t>crédito</a:t>
            </a:r>
            <a:r>
              <a:rPr b="0" lang="es-ES" sz="2000" spc="-1" strike="noStrike">
                <a:solidFill>
                  <a:srgbClr val="ffff00"/>
                </a:solidFill>
                <a:latin typeface="Times New Roman"/>
              </a:rPr>
              <a:t> que el banco otorgará a su cliente, en cuanto lo usual es que el banco pague al vendedor el precio y después recupere ese valor de su cli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lo tanto, habrá un período en que el banco, que ya pagó el valor de los documentos, tiene un crédito en contra del comprador y que, si no lo puede recuperar, deberá asumir la pérd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71" name=""/>
          <p:cNvSpPr/>
          <p:nvPr/>
        </p:nvSpPr>
        <p:spPr>
          <a:xfrm>
            <a:off x="684360" y="1557360"/>
            <a:ext cx="799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39640" y="1484280"/>
            <a:ext cx="8280360" cy="469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lo tanto, en esta primera fase del cuestionario, los bancos deben obtener la seguridad de que el cliente tiene una disposición moral para cumplir con sus compromisos y que ha tenido comportamiento adecuados en su historia comercial y financier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xisten datos de carácter públicos que proporcionan antecedentes sobre esta materi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el banco solicita información financiera del cliente, como por ejemplo: antecedentes tributarios, balances, pagos de impuestos, ventas recientes, et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76" name=""/>
          <p:cNvSpPr/>
          <p:nvPr/>
        </p:nvSpPr>
        <p:spPr>
          <a:xfrm>
            <a:off x="395280" y="1268280"/>
            <a:ext cx="83534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Propósi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esta variable el banco solicita, por lo general, informes muy completos sobre el negocio mismo que se le pide financia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ejemplo, se suele pedir antecedentes del producto, calidad, grado de aceptación en el público, antecedentes históricos de ventas, proyecciones de ventas futuras, situación de la competencia, margen de ganancias, etc.</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palabras simples, el banco quiere entender que está participando en el financiamiento de un negocio serio, que ha tenido buenos resultados anteriormente y en donde no existen mayores riesgos de realizarlo en esta oportunida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Si se trata de negocios nuevos, en que no existe mucha información histórica, el banco será más cauteloso y pedirá más antecedentes para tener la seguridad de que no hay un riesgo muy elev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80" name=""/>
          <p:cNvSpPr/>
          <p:nvPr/>
        </p:nvSpPr>
        <p:spPr>
          <a:xfrm>
            <a:off x="395280" y="1125360"/>
            <a:ext cx="856944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Pag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Cada negocio debe bastarse y financiarse a sí mismo, es la regla genera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esta variable se necesita saber todo el detalle de los costos de la importación de ese producto que al banco se le pide financiar y cuáles son los resultados esperados de ese negocio, de manera que con el producto del mismo, el comprador pueda pagar al banco y también tener utilidad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ara ello es muy importante la información obtenida anteriormente en los puntos ya mencionados, respecto de la historia comercial del cliente y del propósito de esa import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 continuación, se realiza otro ejercicio para determinar que, si por alguna razón, el negocio no resulta como se había inicialmente estimado, si existen otros fondos que el cliente pueda tener para pagar con posterioridad al banco el valor que éste abonó al vendedo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uede ocurrir, y de hecho ha ocurrido muchas veces, en comercio internacional, que una vez embarcada la mercadería se presenten problemas que afecten los resultados del negocio, a veces muy gravem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osé Luis López Blanco</cp:lastModifiedBy>
  <dcterms:modified xsi:type="dcterms:W3CDTF">2005-03-30T13:59:18Z</dcterms:modified>
  <cp:revision>93</cp:revision>
  <dc:subject/>
  <dc:title>PowerPoint Presentation</dc:title>
</cp:coreProperties>
</file>