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2D557-CE36-4C2B-818E-0C566CA9D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95B5B-87F2-47EF-B380-B94B354C0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2AB27-56B1-4D35-A07F-77A0D7708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4EC54-4EB3-492E-9E47-5FF97BE48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4B47-0C0D-4021-BD12-D81845DAE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B4138-E76D-4E4A-87A6-56AE5B79E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B22A9-FEC5-4910-90EF-B8CFB67D5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32610-57AB-4236-9561-13888FA72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BACDF-C962-4C61-B464-2331A164A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06171-4BAE-44F4-AF7D-348235E56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709F7-386E-4A0F-A135-48E56D502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792FC-3378-41B3-9932-128482E05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16FE-A919-4FE3-A0A0-A608B5C3C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br>
              <a:rPr sz="4400"/>
            </a:br>
            <a:r>
              <a:rPr b="0" lang="es-ES" sz="4400" spc="-1" strike="noStrike">
                <a:solidFill>
                  <a:srgbClr val="a50021"/>
                </a:solidFill>
                <a:latin typeface="Tahoma"/>
              </a:rPr>
              <a:t>Trabajo en Clas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la casa para Guardaparque, y una pequeña hosteria y miradores en el Santuario de la Naturaleza de Villa Paul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 y porque</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empresa ele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 y porque (cont.).</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Vergara</cp:lastModifiedBy>
  <dcterms:modified xsi:type="dcterms:W3CDTF">2006-09-12T20:36:18Z</dcterms:modified>
  <cp:revision>48</cp:revision>
  <dc:subject/>
  <dc:title>PowerPoint Presentation</dc:title>
</cp:coreProperties>
</file>