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A158B-E47D-4213-9F3A-765E87B1A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0F523-FDA5-4955-96A9-C9419079F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19C2D-FAAC-4850-872E-851333508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2DC77-14EF-41F7-926C-B95752242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82C3F-4E69-4270-931C-1D85AA36C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65892-95AD-4728-BFB1-617A8DA52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D8CC3-C483-4D7F-9EC6-52C10963F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67B7E-D559-488D-89D3-2180553DB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1BE41-4099-4443-A849-B293BDCE5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88AF6-7BB9-46DF-8A43-76B71C904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0C628-A749-4BB7-98A5-520921F8A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6748D-43B4-403B-8086-4CE6E9E11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0E1B-C580-4568-A7D5-5C876E6DEE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 de Evaluaci</a:t>
            </a:r>
            <a:r>
              <a:rPr b="0" lang="es-ES" sz="4400" spc="-1" strike="noStrike">
                <a:solidFill>
                  <a:srgbClr val="a50021"/>
                </a:solidFill>
                <a:latin typeface="Tahoma"/>
              </a:rPr>
              <a:t>ón de Impacto Ambiental</a:t>
            </a:r>
            <a:br>
              <a:rPr sz="4400"/>
            </a:br>
            <a:r>
              <a:rPr b="0" lang="es-ES" sz="4400" spc="-1" strike="noStrike">
                <a:solidFill>
                  <a:srgbClr val="a50021"/>
                </a:solidFill>
                <a:latin typeface="Tahoma"/>
              </a:rPr>
              <a:t>Trabajo en Clas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ahoma"/>
              </a:rPr>
              <a:t>Defina si las ss. Actividades deben someterse al S.E.I.A.</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arrollo de un condominio privado de 20 casas de 140 m2 c/u, a orillas del mar con un peque</a:t>
            </a:r>
            <a:r>
              <a:rPr b="0" lang="es-ES" sz="2800" spc="-1" strike="noStrike">
                <a:solidFill>
                  <a:srgbClr val="000000"/>
                </a:solidFill>
                <a:latin typeface="Tahoma"/>
              </a:rPr>
              <a:t>ño enbarcadero para naves de uso recreativ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mpieza de un sitio de dos hectáreas donde hace años funcionó un relleno sanitario.</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yecto para extraer áridos en una cantera, en una cantidad de 50.000 m3 en un a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ahoma"/>
              </a:rPr>
              <a:t>Defina si las ss. Actividades deben someterse al S.E.I.A.</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dificación a un Hotel aprobado en una zona de interés turístico, en la cual se mantiene la capacidad del hotel, pero se cambio su diseño para hacerlo más armónica con el paisaje y la arquitectura local.</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Central Térmica tiene una autorización para utilizar gas natural, y se pretende utilizar petróleo. Eso hace que sus emisiones de MP-10 aumenten de cero a media tonelada día, y de SO2 de cero a una y medio tonelada día.</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ahoma"/>
              </a:rPr>
              <a:t>Defina si las ss. Actividades deben someterse al S.E.I.A.</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un liceo en una zona rural, un un terreno de 1,5 hc. que pretende atender a 500 alumnos, y con una infraestructura de 3.000 m2.</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l mismo liceo en la comuna de la Pintana.</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ucción de la casa para Guardaparque, y una pequeña hosteria y miradores en el Santuario de la Naturaleza de Villa Pauli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Define como deben someterse a E.I.A, los ss. proyectos</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 de una planta para producir papel tissue, que se ubicará en una zona industrial exclusiva. Sus emisiones son de magnitud menor en relación a otras fuentes de la zona. Utiliza papel reciclado como insumo, y tiene una importante afluencia de camiones, en una zona construida con buena vialidad. Sus vecinos son esencialmente otras industrias dentro del barrio indusitrial. Los residuos líquidos se descargan al alcantarillado, debidamente tratados cumplimiendo la norma de descarga exis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Define como deben someterse a E.I.A, los ss. Proyectos y porque</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a empresa electrica tiene aprobada una planta termoeléctrica a gas natural en la Sexta Región, cercana a zonas agrícolas, pero todavía no ha empezado su construcción. Fruto de la presente crisis, decide modificarla para construir en su lugar una planta que utilice indistintamente carbón o petcoke que tendrá entre un 2 y un 4% de azufre. Sus emisiones de material particulado serán de dos toneladas día, y sus emisiones de S02, será de 40 toneladas dí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Define como deben someterse a E.I.A, los ss. Proyectos y porque (cont.).</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l SO2, puede ser causante de lluvia ácida. No genera grandes cantidades de ceniza como residuo sólido, pero estas deben ser depositados en un relleno construido para tal efecto, y es necesario verificar si con el viento imperante estas pueden dispersarse.  </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vier Vergara</cp:lastModifiedBy>
  <dcterms:modified xsi:type="dcterms:W3CDTF">2006-09-12T20:36:18Z</dcterms:modified>
  <cp:revision>48</cp:revision>
  <dc:subject/>
  <dc:title>PowerPoint Presentation</dc:title>
</cp:coreProperties>
</file>