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1F38F-B7A8-4297-AAA9-B7E436111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9A14-5838-473F-8B77-F3719FD18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D9087-6AD1-4CB6-B4CB-8F23FD30E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DBB03-28C0-4973-8089-78B1B8A2A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43D19-0903-4193-AFD5-936CBE2B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78EBC-34E3-47A3-8BF7-6BBD7C80B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89918-CA64-47F2-95FD-FA9048C3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A776-21D9-49E2-8BAA-F7B16822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4F8F1-1C2D-4990-BDD2-146BD8C4B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D2E3-549D-4E9A-8A11-55D3F75F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A350-C897-479E-89EF-F30581F6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5D1E-AF81-4E3F-AB39-84727DE3A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9C13-2F03-4D7E-A3F5-80A539762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U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10T16:04:11Z</dcterms:modified>
  <cp:revision>37</cp:revision>
  <dc:subject/>
  <dc:title>PowerPoint Presentation</dc:title>
</cp:coreProperties>
</file>