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A4C5BB-79DD-4B23-A844-9B75925D4A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DF870-3223-42B6-B034-4D4A7D6D1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04CBFC-F785-4B40-A748-47196332CC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576C25-A9F2-46C9-9DAF-31EA62EDAA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45FA9-521E-4940-A243-6A2143731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FB4AA-14A9-47E2-8860-332B3C071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7CAAC-137A-4CB5-AD98-22935C54B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C435B-4FF3-490E-847C-9C8390D2A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96638-B2B1-4FEB-BDA6-71A9A19E6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09D84-460D-4BD1-9842-7ACCC56BA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C6ED3-4FAE-4648-B6B9-9FD05E001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D4CFD-BCE1-49C3-9319-ADF8E9813D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55625-9DB3-4DEC-BB2F-F4E4414C0C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Derecho Ambiental en Chile: Breve Historia y Principios Rectores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rso Derecho Ambiental</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Javier Vergara Fisher</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atricio Leyton Florez</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ontamina Paga</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t>
            </a:r>
            <a:r>
              <a:rPr b="0" lang="es-CL" sz="2800" spc="-1" strike="noStrike">
                <a:solidFill>
                  <a:srgbClr val="000000"/>
                </a:solidFill>
                <a:latin typeface="Tahoma"/>
              </a:rPr>
              <a:t>El particular que actualmente contamina o que lo haga en el futuro debe incorporar en sus costos de producción todas las inversiones necesarias para evitar la contaminación”  (Mensaje ley de Bases) internalizar las externalidad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e deben desarrollar instrumentos de políticas ambientales tendientes a internalizar estos cos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ontamina Paga: Instrumentos de mercado (excepciones al principio)</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ncepto general del principio, es que no pueden existir subsidios o incentivos fiscales para cumplir con la normativa ambiental. </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xcepciones al principio aceptadas por la teoría: </a:t>
            </a:r>
            <a:endParaRPr b="0" lang="en-US" sz="2800" spc="-1" strike="noStrike">
              <a:solidFill>
                <a:srgbClr val="000000"/>
              </a:solidFill>
              <a:latin typeface="Times New Roman"/>
            </a:endParaRPr>
          </a:p>
          <a:p>
            <a:pPr lvl="1" marL="720720" indent="-277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tuaciones externalidades positivas. </a:t>
            </a:r>
            <a:endParaRPr b="0" lang="en-US" sz="2400" spc="-1" strike="noStrike">
              <a:solidFill>
                <a:srgbClr val="000000"/>
              </a:solidFill>
              <a:latin typeface="Times New Roman"/>
            </a:endParaRPr>
          </a:p>
          <a:p>
            <a:pPr lvl="1" marL="720720" indent="-277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equeñas industrias (habitualmente costos de desarrollo, asimetrías de información).</a:t>
            </a:r>
            <a:endParaRPr b="0" lang="en-US" sz="2400" spc="-1" strike="noStrike">
              <a:solidFill>
                <a:srgbClr val="000000"/>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ontamina Paga: Instrumentos de Regulación Directa</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Normas de calidad ambiental</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Normas de emisió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Normas de proceso</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ohibicione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ontamina Paga: Instrumentos de Mercado </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mpuest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Tarifa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ermisos de emisión transabl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pósitos retornables</a:t>
            </a:r>
            <a:r>
              <a:rPr b="0" lang="es-CL"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 </a:t>
            </a:r>
            <a:r>
              <a:rPr b="0" lang="es-CL" sz="4400" spc="-1" strike="noStrike">
                <a:solidFill>
                  <a:srgbClr val="800000"/>
                </a:solidFill>
                <a:latin typeface="Tahoma"/>
              </a:rPr>
              <a:t>Contamina Paga: Instrumentos de aceptabilidad social</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ducación Ambiental</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nvestiga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ontamina Paga: Instrumentos voluntario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uditorias (vinculados a mercad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cuerdos voluntarios, compromisos voluntarios, autoregulació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de Responsabilidad</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Quien genera daños ambientales debe repararl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iseños especiales de sistemas de responsabilidad  en materia ambiental (en términos generales o para determinadas actividad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anifestación del principio del que Contamina Pag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Participativo</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as personas tienen derecho a participar en el desarrollo de los procesos ambiental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recho – Deber de Informar</a:t>
            </a:r>
            <a:r>
              <a:rPr b="0" lang="es-CL"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Derecho a la Informacion</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l Derecho – Deber</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recho para los ciudadano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ber para la autoridad en ciertos caso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ber para los entes regulados en determinados casos: ( manejo de sustancias o desechos peligros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de la Prevención</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vitar las producción de efectos ambientales antes que su reparación.</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Normas de calidad y emisió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stema de Evaluación de Impacto Ambiental</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stema de responsabilidad. </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hile</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ís de alrededor de 15.000.000 millones de habitantes.</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rga y angosta faja de tierra (fronteras naturales, el desierto de atacama; la Cordillera de los Andes; El Pacífico).</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limas variados: desértico en el norte, mediterráneo en zona central, humedo frío en el sur (bosques siempre verde).</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Gran cantidad de terreno difícil de habitar. Genera presión sobre las mejores áreas.</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ncentración urbana en la zona centr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del Gradualismo</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Gradualidad en el establecimientos de nuevos estándar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lazos adecuados para tomar medidas de control de contaminación o para la aplicación de nuevos estándares</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00000"/>
                </a:solidFill>
                <a:latin typeface="Tahoma"/>
              </a:rPr>
              <a:t>Ventanilla Unica</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No se consagra expresamente en mensaje, pero es parte de la ley.</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Unidad de Gestió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os diversos aspectos ambientales de los proyectos de inversión deben analizarse en una sola discusión ambien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Precautorio: Ausente de ley 19.300</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incipio 15 Declaracion de Río:</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	</a:t>
            </a:r>
            <a:r>
              <a:rPr b="0" lang="es-CL" sz="3200" spc="-1" strike="noStrike">
                <a:solidFill>
                  <a:srgbClr val="000000"/>
                </a:solidFill>
                <a:latin typeface="Tahoma"/>
              </a:rPr>
              <a:t>“</a:t>
            </a:r>
            <a:r>
              <a:rPr b="0" lang="es-CL" sz="3200" spc="-1" strike="noStrike">
                <a:solidFill>
                  <a:srgbClr val="000000"/>
                </a:solidFill>
                <a:latin typeface="Tahoma"/>
              </a:rPr>
              <a:t>Cuando haya peligro de daño grave o irreversible, la falta de certeza científica absoluta no deberá utilizarse como razón para postergar la adopción de medidas eficaces en función de los costos para impedir la degradación del medio ambiente.”</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Precautorio</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certeza científica:</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Bioseguridad</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Ondas de radiodifusión</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No se contempla como principio inspirador en ley Chilena, pero es parte de varios tratados suscritos por Chi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00000"/>
                </a:solidFill>
                <a:latin typeface="Tahoma"/>
              </a:rPr>
              <a:t>De la Cuna a la Tumba</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plica en materia de residuos peligrosos.</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sponsabilidad del generador de residuos se extiende hasta entregarlos a una entidad autorizada para su adecuada disposición.</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n otros países, ha generado normas muy estrictas en materia de responsabilidad por inadecuada disposición.</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glamento Residuos Peligrosos, establece obligaciones más detalladas que antes para generadores.</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Organizarse en grupos de cuatro persona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 la luz de los principios e intrumentos discutidos en clases, cada grupo analizará uno de los problemas propuestos, y luego cada grupo presentará al resto del grupo su opinión respecto al tem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92" name=""/>
          <p:cNvSpPr/>
          <p:nvPr/>
        </p:nvSpPr>
        <p:spPr>
          <a:xfrm>
            <a:off x="990720" y="1981080"/>
            <a:ext cx="7391160" cy="51580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Grupo A: </a:t>
            </a:r>
            <a:endParaRPr b="0" lang="en-US" sz="3200" spc="-1" strike="noStrike">
              <a:solidFill>
                <a:srgbClr val="000000"/>
              </a:solidFill>
              <a:latin typeface="Times New Roman"/>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0" lang="es-ES" sz="3200" spc="-1" strike="noStrike">
                <a:solidFill>
                  <a:srgbClr val="000000"/>
                </a:solidFill>
                <a:latin typeface="Tahoma"/>
              </a:rPr>
              <a:t>Se está analizando un sudsidio a la conservación de bosque nativo, de modo que se pagarán ciertas cantidades a los dueños de terrenos que estando cubierto con bosque nativo que no los exploten.</a:t>
            </a:r>
            <a:endParaRPr b="0" lang="en-US" sz="32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lvl="1" marL="727920" indent="-280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3200" spc="-1" strike="noStrike">
                <a:solidFill>
                  <a:srgbClr val="000000"/>
                </a:solidFill>
                <a:latin typeface="Tahoma"/>
              </a:rPr>
              <a:t>Grupo B: </a:t>
            </a:r>
            <a:endParaRPr b="0" lang="en-US" sz="3200" spc="-1" strike="noStrike">
              <a:solidFill>
                <a:srgbClr val="000000"/>
              </a:solidFill>
              <a:latin typeface="Times New Roman"/>
            </a:endParaRPr>
          </a:p>
          <a:p>
            <a:pPr lvl="1" marL="7279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0" lang="es-ES" sz="3200" spc="-1" strike="noStrike">
                <a:solidFill>
                  <a:srgbClr val="000000"/>
                </a:solidFill>
                <a:latin typeface="Tahoma"/>
              </a:rPr>
              <a:t>Se están estudiando nuevas normas de emisión para aquellas empresas que emiten Arsénico al ambiente. Dado los altos costo de control, se está analizando la introducción de incentivos tributarios a quienes cumplan las normas con un año de anticipación a su vigencia. </a:t>
            </a: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lvl="1" marL="735480" indent="-28296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3200" spc="-1" strike="noStrike">
                <a:solidFill>
                  <a:srgbClr val="000000"/>
                </a:solidFill>
                <a:latin typeface="Tahoma"/>
              </a:rPr>
              <a:t>Grupos C: </a:t>
            </a:r>
            <a:endParaRPr b="0" lang="en-US" sz="3200" spc="-1" strike="noStrike">
              <a:solidFill>
                <a:srgbClr val="000000"/>
              </a:solidFill>
              <a:latin typeface="Times New Roman"/>
            </a:endParaRPr>
          </a:p>
          <a:p>
            <a:pPr lvl="1" marL="735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0" lang="es-ES" sz="3200" spc="-1" strike="noStrike">
                <a:solidFill>
                  <a:srgbClr val="000000"/>
                </a:solidFill>
                <a:latin typeface="Tahoma"/>
              </a:rPr>
              <a:t>Se ha definido que el sector termoeléctrico tiene altos niveles de emisión de SO2. Se ha propuesto tomar medidas inmediatas exigiendo en el plazo de seis meses la reducción de las emisiones de esas instalaciones en un 50%.</a:t>
            </a:r>
            <a:endParaRPr b="0" lang="en-US" sz="3200" spc="-1" strike="noStrike">
              <a:solidFill>
                <a:srgbClr val="000000"/>
              </a:solidFill>
              <a:latin typeface="Times New Roman"/>
            </a:endParaRPr>
          </a:p>
          <a:p>
            <a:pPr lvl="1" marL="73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98" name=""/>
          <p:cNvSpPr/>
          <p:nvPr/>
        </p:nvSpPr>
        <p:spPr>
          <a:xfrm>
            <a:off x="304920" y="1828800"/>
            <a:ext cx="8305560" cy="48834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Grupo D:</a:t>
            </a:r>
            <a:endParaRPr b="0" lang="en-US" sz="3200" spc="-1" strike="noStrike">
              <a:solidFill>
                <a:srgbClr val="000000"/>
              </a:solidFill>
              <a:latin typeface="Times New Roman"/>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3200" spc="-1" strike="noStrike">
                <a:solidFill>
                  <a:srgbClr val="000000"/>
                </a:solidFill>
                <a:latin typeface="Tahoma"/>
              </a:rPr>
              <a:t>Se ha está produciendo inquietud sobre la líneas de alta tensión, en cuanto a los efectos en salud que puede tener para quienes viven en sus cercanías. No existe una norma sobre el particular, pero se decide establecer una norma de emisión para esas instalaciones.</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hile</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conomía sustentada esencialmente el uso, y explotación de recursos naturales. </a:t>
            </a:r>
            <a:endParaRPr b="0" lang="en-US" sz="2800" spc="-1" strike="noStrike">
              <a:solidFill>
                <a:srgbClr val="000000"/>
              </a:solidFill>
              <a:latin typeface="Times New Roman"/>
            </a:endParaRPr>
          </a:p>
          <a:p>
            <a:pPr lvl="1" marL="683280" indent="-262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Norte y algo en zona central: minería (fines siglo XIX: salitre, Siglo XX cobre).</a:t>
            </a:r>
            <a:endParaRPr b="0" lang="en-US" sz="2400" spc="-1" strike="noStrike">
              <a:solidFill>
                <a:srgbClr val="000000"/>
              </a:solidFill>
              <a:latin typeface="Times New Roman"/>
            </a:endParaRPr>
          </a:p>
          <a:p>
            <a:pPr lvl="1" marL="683280" indent="-262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Zona centro,  centro sur y parte del sur: agricultura ( hasta década de los 80, para uso consumo interno, a partir de los 80´, esencialente mercado externo.</a:t>
            </a:r>
            <a:endParaRPr b="0" lang="en-US" sz="2400" spc="-1" strike="noStrike">
              <a:solidFill>
                <a:srgbClr val="000000"/>
              </a:solidFill>
              <a:latin typeface="Times New Roman"/>
            </a:endParaRPr>
          </a:p>
          <a:p>
            <a:pPr lvl="1" marL="683280" indent="-262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Zona centro sur y sur: forestal( esencialmente mercado externo) y ganadería ( mercado interno y últimamente externo).</a:t>
            </a:r>
            <a:endParaRPr b="0" lang="en-US" sz="2400" spc="-1" strike="noStrike">
              <a:solidFill>
                <a:srgbClr val="000000"/>
              </a:solidFill>
              <a:latin typeface="Times New Roman"/>
            </a:endParaRPr>
          </a:p>
          <a:p>
            <a:pPr lvl="1" marL="683280" indent="-262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Todo el país: pesca.</a:t>
            </a:r>
            <a:endParaRPr b="0" lang="en-US" sz="2400" spc="-1" strike="noStrike">
              <a:solidFill>
                <a:srgbClr val="000000"/>
              </a:solidFill>
              <a:latin typeface="Times New Roman"/>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Grupo E: </a:t>
            </a:r>
            <a:endParaRPr b="0" lang="en-US" sz="3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0" lang="es-ES" sz="3200" spc="-1" strike="noStrike">
                <a:solidFill>
                  <a:srgbClr val="000000"/>
                </a:solidFill>
                <a:latin typeface="Tahoma"/>
              </a:rPr>
              <a:t>Estamos en un pequeño valle con pocas casas, pero donde las emisiones de las chimeneas de las casas están causando un problema de aumento de concentraciones ambientales. Señale formas de regular ese problema.</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hile</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Fines de los 80´ y a partir de los 90:</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uerte inserción internacional de la economía.</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Intento de deresarrollar una economía vinculado a los servicios (financieros, turísticos, etc.).</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solidación de un sistema jurídico de protección al Derecho de Propiedad y el Derecho a emprender (Constitución 1980).</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 pesar de temprano reconocimiento de ciertos derechos en materia ambiental, es un proceso de introducción más paulatino en el ámbito de la gestión pública y privado (Constitución 198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Una Breve Historia: Derecho del Medio Ambiente en Chile</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hile desde el siglo XIX y luego en el XX existen ciertas normas que tienen incidencia ambiental:</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ódigo de Civil (Código de Bello): Acciones posesorías y normas sobre daño contingente en materia de responsabilidad (poca o ninguna aplicación en materia ambiental).</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egislación “sectorial”. Infinidad de normas de relevancia ambiental entregan competencia a diversas entidades e incluso tribunales (Riles 1916), Protección Salud, Agricultura, Parque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Una Breve Historia: Derecho del Medio Ambiente en Chile</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conocimiento Constitucional (1980):</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recho a vivir en un medio ambiente libre de contaminación.</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curso o acción de protección.</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imitación Derecho de Propiedad.</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imitación al Derecho a desarrollar actividades económica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imeros casos relevantes ( Lago Chungará, Bahía de Chañaral, etc.)</a:t>
            </a:r>
            <a:endParaRPr b="0" lang="en-US" sz="2800" spc="-1" strike="noStrike">
              <a:solidFill>
                <a:srgbClr val="000000"/>
              </a:solidFill>
              <a:latin typeface="Times New Roman"/>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Una Breve Historia: Derecho del Medio Ambiente en Chile</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Fines de los 80 y Década del 90: </a:t>
            </a:r>
            <a:endParaRPr b="0" lang="en-US" sz="2800" spc="-1" strike="noStrike">
              <a:solidFill>
                <a:srgbClr val="000000"/>
              </a:solidFill>
              <a:latin typeface="Times New Roman"/>
            </a:endParaRPr>
          </a:p>
          <a:p>
            <a:pPr lvl="1" marL="735480" indent="-2829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roblemas de Contaminación en la Región Metropolitana, y otros.</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flictos sociales en materias de rellenos sanitarios. </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Necesidad de inserción internacional (regulaciones mímimas de emisiones en el sector minero).</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ey 19.300 sobre Bases Generales del Medio Ambiente.</a:t>
            </a:r>
            <a:endParaRPr b="0" lang="en-US" sz="2400" spc="-1" strike="noStrike">
              <a:solidFill>
                <a:srgbClr val="000000"/>
              </a:solidFill>
              <a:latin typeface="Times New Roman"/>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Ley 19.300 sobre Bases  Generales del Medio Ambiente (marzo 1994)</a:t>
            </a:r>
            <a:endParaRPr b="0" lang="en-US" sz="4400" spc="-1" strike="noStrike">
              <a:solidFill>
                <a:srgbClr val="000000"/>
              </a:solidFill>
              <a:latin typeface="Times New Roman"/>
            </a:endParaRPr>
          </a:p>
        </p:txBody>
      </p:sp>
      <p:sp>
        <p:nvSpPr>
          <p:cNvPr id="56" name="PlaceHolder 2"/>
          <p:cNvSpPr>
            <a:spLocks noGrp="1"/>
          </p:cNvSpPr>
          <p:nvPr>
            <p:ph/>
          </p:nvPr>
        </p:nvSpPr>
        <p:spPr>
          <a:xfrm>
            <a:off x="762120" y="2362320"/>
            <a:ext cx="7772400" cy="4114800"/>
          </a:xfrm>
          <a:prstGeom prst="rect">
            <a:avLst/>
          </a:prstGeom>
          <a:noFill/>
          <a:ln w="0">
            <a:noFill/>
          </a:ln>
        </p:spPr>
        <p:txBody>
          <a:bodyPr lIns="90000" rIns="90000" tIns="46800" bIns="46800" anchor="t">
            <a:normAutofit fontScale="95000"/>
          </a:bodyPr>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rresponde a un acuerdo entre el Gobierno de la Epoca y los sectores empresariales (oposición de sectores más ecologistas).</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ey General (asume que habrán leyes específicas, en materias complementarias). </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 ley en su mensaje establece los principios que la inspiran: No se encuentran en su texto, como parte del articulado.  </a:t>
            </a:r>
            <a:endParaRPr b="0" lang="en-US" sz="2800" spc="-1" strike="noStrike">
              <a:solidFill>
                <a:srgbClr val="000000"/>
              </a:solidFill>
              <a:latin typeface="Times New Roman"/>
            </a:endParaRPr>
          </a:p>
          <a:p>
            <a:pPr marL="325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s de Ley 19.300</a:t>
            </a:r>
            <a:endParaRPr b="0" lang="en-US" sz="4400" spc="-1" strike="noStrike">
              <a:solidFill>
                <a:srgbClr val="000000"/>
              </a:solidFill>
              <a:latin typeface="Times New Roman"/>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Gonzalo Moyano</cp:lastModifiedBy>
  <dcterms:modified xsi:type="dcterms:W3CDTF">2007-08-10T16:04:11Z</dcterms:modified>
  <cp:revision>37</cp:revision>
  <dc:subject/>
  <dc:title>PowerPoint Presentation</dc:title>
</cp:coreProperties>
</file>