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D212C-9FCD-4153-A455-9D621B499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62E16-3720-4485-8863-5BADCB0D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03F25-6D4E-40B3-AAC5-00CD3D64B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E238-8B07-4519-BE71-0ABB22622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180D-638A-4592-8A89-9F1FBAA7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CB21-F881-4016-A702-C621C90D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9B46-074A-419E-BB31-0184B59F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00AC-0FD1-4956-AF93-7F2B67318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B7B2-BF81-4E68-8B2A-0BE747F5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9C1C-AB03-40C8-A642-243BB4C9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0404-30DD-46FD-91FD-4E0CAF7B2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1347-0797-4CE6-ABC1-177085E8A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B4CB-9214-437E-AC25-9976BFB1F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U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10T16:04:11Z</dcterms:modified>
  <cp:revision>37</cp:revision>
  <dc:subject/>
  <dc:title>PowerPoint Presentation</dc:title>
</cp:coreProperties>
</file>