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B5352-C3AB-47B8-8729-61834964A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2A2EF-451D-4773-A8A4-ECDD8D774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BE2F5-4A91-4785-8A38-63FB4AD4C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994CF-01A8-4BE4-A659-E85FF71C9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E47A1-E79C-4685-9D65-8D17E152E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FC03F-B29E-405E-8681-D2D6C385E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C2822-4682-4E04-9E85-F8975E7C8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A47E4-76B7-42B6-AC1B-8839ECF9F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68B61-F3EB-4635-8138-3A8D6AF4B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DA951-39CB-4126-A0D0-71DFC26BD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3F66F-D4D6-4C47-967C-25ED55744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81713-5F89-424F-B518-AC612A77F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1B6E5-BE5D-4948-A64F-2915BD131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4A964-3981-4D74-AD38-4172817F9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BBC1E-3A49-440B-A23E-D9FE79C01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9B93E-F5FF-4D7B-A396-0A035C3F5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29A22D-A770-48E7-9535-625F3C52D9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77634-030E-48F3-991A-11DFACDCD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37124-1811-4F77-8043-10B806C96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3278B-4F74-42FA-8E90-6DB83390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EC153-D63A-4B4D-ACC9-FDCBBEAFB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5A589-26F8-4975-8850-17314E1B5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FBD4-6858-4155-BAAF-7FBADEA85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54FF-41A0-4310-B962-B6CDB71ED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F9B2-8CA2-4A79-9EDA-662B78AB605B}"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AE3B-CECB-44D8-91BF-1F6A9431D25B}"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97000"/>
            <a:ext cx="7772400" cy="2016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Century Gothic"/>
              </a:rPr>
              <a:t>LEY DE IMPUESTO A LA RENT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Profesor:</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 </a:t>
            </a:r>
            <a:r>
              <a:rPr b="0" lang="es-MX" sz="2800" spc="-1" strike="noStrike">
                <a:solidFill>
                  <a:srgbClr val="ffffff"/>
                </a:solidFill>
                <a:latin typeface="Century Gothic"/>
              </a:rPr>
              <a:t>Rodrigo Rojas Palma</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Ayudante:</a:t>
            </a:r>
            <a:r>
              <a:rPr b="0" lang="es-MX" sz="2800" spc="-1" strike="noStrike">
                <a:solidFill>
                  <a:srgbClr val="ffffff"/>
                </a:solidFill>
                <a:latin typeface="Century Gothic"/>
              </a:rPr>
              <a:t> </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Rodrigo Zarhi Hernánd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7"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fontScale="96000"/>
          </a:bodyPr>
          <a:p>
            <a:pPr marL="329040" indent="-32904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Ordinari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Ocasionales.</a:t>
            </a:r>
            <a:endParaRPr b="0" lang="en-US" sz="3200" spc="-1" strike="noStrike">
              <a:solidFill>
                <a:srgbClr val="ffffff"/>
              </a:solidFill>
              <a:latin typeface="Arial"/>
            </a:endParaRPr>
          </a:p>
          <a:p>
            <a:pPr marL="32904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fuente chilena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Rentas de fuente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xtranjera</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categoría</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b.- Presuntas c.- Estimadas</a:t>
            </a: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11280" y="1125360"/>
            <a:ext cx="7921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Efectiv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468360" y="620640"/>
            <a:ext cx="7777080" cy="512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vengadas</a:t>
            </a:r>
            <a:r>
              <a:rPr b="0" lang="en-US" sz="3200" spc="-1" strike="noStrike">
                <a:solidFill>
                  <a:srgbClr val="ffffff"/>
                </a:solidFill>
                <a:latin typeface="Century Gothic"/>
              </a:rPr>
              <a:t>	</a:t>
            </a:r>
            <a:r>
              <a:rPr b="0" lang="en-US" sz="3200" spc="-1" strike="noStrike">
                <a:solidFill>
                  <a:srgbClr val="ffffff"/>
                </a:solidFill>
                <a:latin typeface="Century Gothic"/>
              </a:rPr>
              <a:t>b.- Percibidas </a:t>
            </a:r>
            <a:r>
              <a:rPr b="0" lang="en-US" sz="3200" spc="-1" strike="noStrike">
                <a:solidFill>
                  <a:srgbClr val="ffffff"/>
                </a:solidFill>
                <a:latin typeface="Century Gothic"/>
              </a:rPr>
              <a:t>	</a:t>
            </a: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1"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no se consideran Renta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8"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l abogado de la empresa</a:t>
            </a:r>
            <a:r>
              <a:rPr b="0" lang="en-US" sz="3200" spc="-1" strike="noStrike">
                <a:solidFill>
                  <a:srgbClr val="ffffff"/>
                </a:solidFill>
                <a:latin typeface="Century Gothic"/>
              </a:rPr>
              <a:t> lo grava un impuesto de Segunda categoría relacionado con la alícuota del Global Complementario. Si el abogado pertenece a la empresa con contrato de trabajo, estará afecto al impuesto único a los trabajadores de la Segunda Categorí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1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
          <p:cNvSpPr/>
          <p:nvPr/>
        </p:nvSpPr>
        <p:spPr>
          <a:xfrm>
            <a:off x="468360" y="692280"/>
            <a:ext cx="777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f.-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3"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2"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2"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08"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4"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3"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7-05-23T21:42:17Z</dcterms:modified>
  <cp:revision>173</cp:revision>
  <dc:subject/>
  <dc:title>LEY DE IMPUESTO A LA RENTA</dc:title>
</cp:coreProperties>
</file>