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20A8-E61D-402D-84A5-2308AE0BC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DE7F-9D2D-406A-BFEF-18FB5D1BF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D728-41A0-4C52-BF8E-A6792F81C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277F-62BE-43B5-AB2E-85267393D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7735B-D529-4B5B-936A-1619BD6C6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1AFC8-2847-485F-B065-E7E4F04E7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8F751-56CD-4711-88D9-209C4D7E2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40B27-BEA1-4E66-82E4-3E97D6C6D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EA02E-4581-44B4-B236-599BBFDE9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870AF-0F64-4AD4-A5A1-12B524358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1902F-A127-49AC-898B-38AC2260B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EC4E-4B8E-4B8A-BEF9-2DF98561C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FFB56-648A-44C4-9A0E-77480E841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968E2-67E4-4EBF-8C06-9AE23FD5E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F8902-2E9E-45AB-A50A-37D7C2CDE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187FC-4C0F-4724-8967-D9B62927C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E35C4-0FBB-483F-AFBA-E15ADD3A0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CB22-272A-44D0-A41A-646B0B378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EC36-4B27-41C0-AA3A-52D9D3FE7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2400-044F-4A9F-8BE2-4F32382C3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052F-013E-4644-8602-A1AA21727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AE48-EE59-4302-ABED-98265691A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3B9F-BBA5-43EC-BF92-16DA394C5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78E5-19FB-4008-873E-55690A68B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E76FA-3553-4D09-8B99-138D31B5BE8D}" type="slidenum">
              <a:rPr b="0" lang="es-ES_trad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D5A1E-A33A-4F56-987E-4940AA0A4CFC}" type="slidenum">
              <a:rPr b="0" lang="es-ES_trad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ccecff"/>
                </a:solidFill>
                <a:latin typeface="Century Gothic"/>
              </a:rPr>
              <a:t>HECHOS GRAVADOS</a:t>
            </a:r>
            <a:br>
              <a:rPr sz="3600"/>
            </a:br>
            <a:r>
              <a:rPr b="1" lang="es-MX" sz="3600" spc="-1" strike="noStrike">
                <a:solidFill>
                  <a:srgbClr val="ccecff"/>
                </a:solidFill>
                <a:latin typeface="Century Gothic"/>
              </a:rPr>
              <a:t>ESPECIALE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520" y="35053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VENT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Transformación de sociedad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Transformación de socied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La transformación de sociedades consiste sólo en el cambio de especie o tipo social efectuado por reforma o estatutos, subsistiendo la misma persona jurídica, es decir, </a:t>
            </a: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EL MISMO CONTRIBUYENTE CON DISTINTA ORGANIZACIÓN LEG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447920" y="4876920"/>
            <a:ext cx="609588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En consecuencia,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Century Gothic"/>
              </a:rPr>
              <a:t>no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 se produce hecho grav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Fusión y Absorción de Sociedad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4360" y="1052640"/>
            <a:ext cx="7765920" cy="33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Fusió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- Por Creación: fusión de dos o más sociedades distintas se forma una nueva sociedad, aportando las primitivas sociedades todo su activo y pasivo a la nuev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- Fusión por incorporación (absorción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- cuando se aporta a una sociedad existente todo el activo y pasivo de otra, la que la sucede en todos sus derechos y obligacion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403280" y="5734080"/>
            <a:ext cx="640080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No hay hecho gravado socios aportan derechos person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División de Sociedad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2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Divisió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Una sociedad se separa en dos o más socied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Las nuevas personas jurídicas resultantes de la división cubren en conjunto el capital y objeto de la sociedad dividid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50920" y="4653000"/>
            <a:ext cx="8497800" cy="180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No existe transferencia de bienes corporales muebles ya que actividades y patrimonio de nuevas sociedades, son  en conjunto, idénticas a las de la sociedad que se divide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Aportes del partícipe a una cuenta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en participació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Entrega de bienes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Century Gothic"/>
              </a:rPr>
              <a:t>corporales muebles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 por un “vendedor” que sea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Century Gothic"/>
              </a:rPr>
              <a:t>partícipe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 en un contrato de asociación o cuentas en participación, al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Century Gothic"/>
              </a:rPr>
              <a:t>gestor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, no constituye hecho grav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39640" y="4419720"/>
            <a:ext cx="8136000" cy="180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Se fundamente criterio en que intención de las partes no es la de transferir el dominio, ni tampoco ser considerada como un contrato que por su naturaleza sirva para transferir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3.- Adjudicaciones en liquidaciones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de sociedades 8 (c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7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djudicación de bienes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Century Gothic"/>
              </a:rPr>
              <a:t>corporales mue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Dichos muebles sean propios del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Century Gothic"/>
              </a:rPr>
              <a:t>giro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 de la respectiva sociedad o comun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djudicación debe ser originada por liquidación de sociedad o comun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11280" y="4581360"/>
            <a:ext cx="7993080" cy="1373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No se aplica a liquidaciones de comunidad hereditaria  y comunidad que queda a la disolución de la sociedad conyug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Adjudicación de bienes corporales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inmuebl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djudicación de bienes corporales inmue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Liquidación de sociedades que sean empresas constructoras, comunidades, cooperativas de vivien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No es necesario que sea del giro de la constructora, comunidad o cooperativ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4.- Retiros efectuados por 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empresario, socios, director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Retiros efectuados por empresario, socios, directores o emple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Bienes corporales muebles del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Century Gothic"/>
              </a:rPr>
              <a:t>gi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Objeto: uso o consumo personal de tales personas o sus famil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692360" y="5257800"/>
            <a:ext cx="633564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No da  derecho a crédito fisc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Faltantes de inventario – Se 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consideran retiro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258560" y="1699920"/>
            <a:ext cx="7396200" cy="41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Presunción legal de que los faltantes de inventario constituyen reti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Es necesario justificar salida de faltantes mediante documentación fehaci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anotaciones cronológicas en sistema de inventario permanente, contabilidad fidedig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Denuncias por robos o acciden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Informes liquidadoras de segu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Mermas reconocidas por ley u organismo E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6.- Bienes entregados a rifas o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sorteo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(art. 8 letra 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Retiro de bienes corporales mue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Sean o no del giro de la empre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Destinados a rifas y sorte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Fines promocionales o de propagan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Realizado por vendedores (no prestadores de 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No es necesaria la habitual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900000" y="6021360"/>
            <a:ext cx="79200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No da  derecho a crédito fisc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7.- Bienes distribuidos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gratuitamente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rt. 8 letra 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Entrega o distribución gratuita de bie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realizados con fines de promoción o propagan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calidad de vende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pueden o no ser del giro del vende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No cumplen requisitos distribuciones efectuadas con fin simplemente benéf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26920" y="5877000"/>
            <a:ext cx="684072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No da  derecho a crédito fisc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Hechos gravados especiales en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las venta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Operaciones, transacciones o prestaciones que la ley expresamente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Century Gothic"/>
              </a:rPr>
              <a:t>EQUIPARA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 a ventas. – Establecidas artículo 8 de la Le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unque no tengan todos los elementos del hecho gravado básico de ventas (p.e. puede faltar calidad de “vendedor”, habitualidad, etc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7.- Contrato de Instalación o 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Confección de Especialidad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Tiene por objeto la incorporación de elementos que adhieren permanentemente al inmueble y son necesarios para que cumpla cabalmente la función específica para lo cual se construy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Se equiparan a venta cuando son a “suma alzada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Ejemplo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scensores, climas artificiales, puertas y ventanas, sanitarios, electricidad, escaleras mecánicas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Si no concurren todos los elementos del hecho gravado especial, puede ser un hecho gravado básico (servicio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8.- Contratos Generales de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Construcció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Concepto del contrato de constru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Contrato que tiene por finalidad la confección de una obra material inmueble nueva que comprenda al menos dos especialidades, sea que se efectúe por si mismo o por intermedio de tercer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Ejempl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urbanización de sitios, construcción de vivienda, instalación sistema de señalización de tránsito; red alcantarillado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Venta/Servicio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Contratos de instalación o confección de especialidades y Contratos generales de constru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Suma alzada: IVA, hecho gravado especial equiparado a Venta, artículo 8 letra 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Administración: IVA, hecho gravado básico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de servi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9.- Venta de establecimiento de 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comercio y otras universalidad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Establecimiento de Comerc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Universalidad de hecho con existencia distinta a la de los      elementos que la componen, corporales e incorporales, donde el comerciante ejerce su ofic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Universalidad de Hec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- todo conjunto de bienes corporales e incorporales unidos opr su afectación a un fin común y que posee individualidad propia e independiente de los elementos que la componen (p.e. Fábricas, establecimientos industriales, bibliotecas, museos, etc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               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9.- Venta de establecimiento de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comercio y otras universalidad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Requisitos del hecho gravado espec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Es el valor de los bienes corporales muebles PROPIOS DEL GIRO del establecimiento o universalidad que se vend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Calidad de “vendedor” de los bie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Se exceptúan bienes del activo inmoviliz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Excep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No se aplica a la cesión del derecho de herencia (art.8 letra f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9.- Si establecimiento o 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universalidad incluyen inmueble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rt. 8 letra 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Venta de establecimientos de comercio y otras universalidades que comprenden inmuebles del giro de una empresa constructo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deben pertenecer el activo realizable, ser “vendedor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10.- Promesa de venta de bienes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corporales inmuebl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Promesa de vent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bienes corporales inmue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de propiedad de una empresa constructo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del gi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construidos total o parcialmente por el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11.- Contratos de arriendo con opción de compra de b. corp. inmuebl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15640" y="234936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Contrato de arriendo con opción de comp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celebrados por empresas constructora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respecto de inmuebles total o parcialmente construidos por ell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se asimilan a las promesas de venta para la aplicación del tributo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12.- Venta de Bienes del Activo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Fijo (art. 8 letra m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Venta de bienes corporales muebles o inmue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Clasificados en activo fij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Venta antes de los 48 meses contados desde su adquisición (muebles) ó 12 meses (inmuebles); o antes de su depreciación total (normal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Que el contribuyente haya tenido derecho al CREDITO FISCAL por IVA soport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Venta establecimiento de comerc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Listado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1. - Importa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2. - Aportes a socied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3. - Adjudica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4. - Retiros efectuados por vendedor o dueñ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5. - Retiros destinados a rifas y sorte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6. - Entregas o distribuciones gratuit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7. - Contratos instalación o confección de especialid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6212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ccecff"/>
                </a:solidFill>
                <a:latin typeface="Century Gothic"/>
              </a:rPr>
              <a:t>HECHOS GRAVADOS</a:t>
            </a:r>
            <a:br>
              <a:rPr sz="3600"/>
            </a:br>
            <a:r>
              <a:rPr b="1" lang="es-MX" sz="3600" spc="-1" strike="noStrike">
                <a:solidFill>
                  <a:srgbClr val="ccecff"/>
                </a:solidFill>
                <a:latin typeface="Century Gothic"/>
              </a:rPr>
              <a:t>ESPECIALE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93976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SERVIC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Listado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rtículo 8 letra g, h, i, 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1.- “arrendamiento” de ciertos bienes corpor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2.- “arrendamiento” de marcas, patentes y otras prestaciones simila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3.- estacionamientos de vehícul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4.- primas de seguros de las cooperativas de segu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1.- Arrendamiento de bienes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muebles e inmuebl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rrendamiento, subarrendamiento, usufructo o cualquier otra forma de cesión temporal del uso y goce d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a.- bienes corporales mue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b.- inmuebles amobl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c.- inmuebles con instalaciones o maquinarias que 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permitan el ejercicio de una actividad c. o 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d.- todo tipo de establecimiento de comerci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689040" y="1901880"/>
            <a:ext cx="776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rrendamiento, subarrendamiento, otras formas de cesión temporal de uso o go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Inmuebles amobl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mobiliario y menaje en cantidad y naturaleza suficiente para ser habit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title"/>
          </p:nvPr>
        </p:nvSpPr>
        <p:spPr>
          <a:xfrm>
            <a:off x="685800" y="414360"/>
            <a:ext cx="77724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Arrendamiento de inmuebles 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amoblados</a:t>
            </a:r>
            <a:r>
              <a:rPr b="0" lang="es-MX" sz="32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55640" y="5084640"/>
            <a:ext cx="770400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IVA  se aplica sólo a renta que exceda del 11% o del  avalúo fiscal al año o en la proporción que corresponda (sólo aplicable a arriend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0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Inmuebles no agrícolas que tengan instalaciones o maquinarias que permitan desarrollar actividad comercial o indust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Inmuebles agrícolas, en la parte que tengan actividades industriales anexas o complementarias desarrolladas dentro del pred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Arrendamiento de inmuebles 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con instalaciones</a:t>
            </a:r>
            <a:r>
              <a:rPr b="0" lang="es-MX" sz="32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55640" y="4876920"/>
            <a:ext cx="777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IVA sólo renta que exceda del 11% del avalúo fiscal o de la cantidad proporcional que corresponda (arriend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Arrendamiento, subarrendamiento, cualquier forma de cesión temporal del uso y goc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Bienes incorporales que tiene su origen en “propiedad intelectual” y “propiedad industrial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ccecff"/>
                </a:solidFill>
                <a:latin typeface="Century Gothic"/>
              </a:rPr>
              <a:t>2.- Arrendamiento de marcas, </a:t>
            </a:r>
            <a:br>
              <a:rPr sz="3600"/>
            </a:br>
            <a:r>
              <a:rPr b="1" lang="es-MX" sz="3600" spc="-1" strike="noStrike">
                <a:solidFill>
                  <a:srgbClr val="ccecff"/>
                </a:solidFill>
                <a:latin typeface="Century Gothic"/>
              </a:rPr>
              <a:t>patentes y prestaciones similares</a:t>
            </a:r>
            <a:r>
              <a:rPr b="0" lang="es-MX" sz="32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611280" y="836640"/>
            <a:ext cx="7632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No se grava la constitución del derecho, ni la enajenació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Exención: 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Artículo 59 Ley de la Ren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Servicios calificados como exportación 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de servic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3.- Estacionamiento de vehículos 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en playas de estacionamiento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7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Estacionamiento de vehículo en playas de estacionamiento u otros lugares destinado a dicho f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terrenos sin construcción, o construcciones liger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Edificios especialmente destinados a tal efec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11280" y="4724280"/>
            <a:ext cx="8208720" cy="1373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Se aplica a todos los valores que los usuarios paguen por estacionar vehículo en recinto, cualquiera sea el período o modalidad de pag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4.- Primas de seguros de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cooperativas de seguro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Primas de cooperativas de servicios de segu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ntes de modificación de 1980, no constituía hecho gravado por cuanto no era actividad clasificado en Nos. 3 y 4 art. 20 Ley Renta, sino que se clasificaban en el número 5 del mencionado precep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Existen ciertas exenciones aplic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Listado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8. - Contratos generales de constru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9. - Venta de establecimiento de comercio y de otras universid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10. - Promesa de venta de bienes corporales inmuebles de propiedad de una empresa constructora de su gir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11.- Contratos de arriendo con opción de comp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12. - Venta bienes activo fijo antes 48 ó 12 me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1.- Importacion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71280" y="14130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Importació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introducción legal de mercaderías extranjeras para su uso o consumo en el paí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No se distingue si hay habitual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Importación realizada por cualquier persona, sea o no vendedor o prestador de servi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611280" y="836640"/>
            <a:ext cx="7705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Impuesto se devenga al consumarse legalmente la importa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lgunas excepcione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dm. Temporal /Almacenes Particula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Zona Fran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Depósito Aduane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2.- Aportes a sociedad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71640" y="1341000"/>
            <a:ext cx="761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porte o transferencia de dominio o de una cuota de dominio con ocasión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- constitución, ampliación, modific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SOCIE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Bienes corporales muebles o inmuebles de propiedad de empresas constructoras, o en derechos reales constituidos sobre dichos bie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Aportante debe tener calidad de “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Century Gothic"/>
                <a:ea typeface="Times New Roman"/>
              </a:rPr>
              <a:t>vendedor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ccecff"/>
                </a:solidFill>
                <a:latin typeface="Century Gothic"/>
              </a:rPr>
              <a:t>Aportes </a:t>
            </a:r>
            <a:r>
              <a:rPr b="1" lang="es-MX" sz="3600" spc="-1" strike="noStrike" u="sng">
                <a:solidFill>
                  <a:srgbClr val="ccecff"/>
                </a:solidFill>
                <a:uFillTx/>
                <a:latin typeface="Century Gothic"/>
              </a:rPr>
              <a:t>no</a:t>
            </a:r>
            <a:r>
              <a:rPr b="1" lang="es-MX" sz="3600" spc="-1" strike="noStrike">
                <a:solidFill>
                  <a:srgbClr val="ccecff"/>
                </a:solidFill>
                <a:latin typeface="Century Gothic"/>
              </a:rPr>
              <a:t> gravados con IVA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Aportes de bienes del 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- aportante debe ser “vendedor” de esos bie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(Salvo artículo 8 letra 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Aportes de derechos person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Caso transformación de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empresa individual en sociedad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Empresario individual aporta todo su activo y pasivo a una persona juríd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Si el aporte comprende bienes corporales muebles del giro del empresario individual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209680" y="4572000"/>
            <a:ext cx="502920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Se configura el hecho gravado espec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16:16:24Z</dcterms:created>
  <dc:creator>CEYZAGUIRRE</dc:creator>
  <dc:description/>
  <dc:language>en-US</dc:language>
  <cp:lastModifiedBy>Bj</cp:lastModifiedBy>
  <dcterms:modified xsi:type="dcterms:W3CDTF">2007-03-05T16:25:40Z</dcterms:modified>
  <cp:revision>637</cp:revision>
  <dc:subject/>
  <dc:title>II. LEY DEL IMPUESTO AL VALOR AGREGADO (IVA)  Aspectos teóricos del Impuesto al  Valor Agregado Estructura General de la Ley</dc:title>
</cp:coreProperties>
</file>