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C08-404F-426F-AF40-BCE2D198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B2D-5A54-4D1D-B2D3-53BD1BCA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6F9-9D90-4EFE-B8F8-215E3C9C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C23-602F-4D94-9967-49972779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613F-5B00-4EF6-A506-B1340315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E45F-5383-4A4B-8BE6-1B641D8B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89A3-FBF6-4A48-87CD-191B3C7D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8CAA-623D-4710-B13B-EE84B52B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F2DF-B1E8-4E20-BF50-937C6C4D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CD54-CC31-4EEA-A508-68E38DA3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6BC5-A879-4E8C-BAAF-FDB3DFB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C09-FD67-4C1F-87BE-2D1A0973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BB1E-8989-401F-9AF8-134BFAC5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2071-F041-4AC6-AD99-BB3C96D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0A55-4454-48CC-B91F-7D30AA6E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12C0-6AD1-4B36-A0F5-70680512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56B7-95D7-4342-A494-31191B61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E77-E4D3-4ED3-BEFC-6E141E8F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4A2-86B2-4EEE-9D70-E2773157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080-BB19-4107-8CA5-1B1BDF27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B0A-50D2-4A24-9689-5B1AE8F0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263-F014-43A6-9663-887D570E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E94-DCAE-40D7-8D15-A1E882BD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918-6657-4CDB-899C-CE1B9FDA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D8B9-C7C0-4106-AC96-371C7D8DF269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9FF3-E303-4677-A392-DFB081F2ED84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Transforma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ransformación de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 transformación de sociedades consiste sólo en el cambio de especie o tipo social efectuado por reforma o estatutos, subsistiendo la misma persona jurídica, es decir,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EL MISMO CONTRIBUYENTE CON DISTINTA ORGANIZACIÓN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76920"/>
            <a:ext cx="6095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 consecuencia,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n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se produc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usión y Absor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659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u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or Creación: fusión de dos o más sociedades distintas se forma una nueva sociedad, aportando las primitivas sociedades todo su activo y pasivo a la nue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Fusión por incorporación (absorció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cuando se aporta a una sociedad existente todo el activo y pasivo de otra, la que la sucede en todos sus derechos y oblig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400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hay hecho gravado socios aportan derech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ivis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vi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a sociedad se separa en dos o más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s nuevas personas jurídicas resultantes de la división cubren en conjunto el capital y objeto de la sociedad divi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653000"/>
            <a:ext cx="84978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xiste transferencia de bienes corporales muebles ya que actividades y patrimonio de nuevas sociedades, son  en conjunto, idénticas a las de la sociedad que se divid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portes del partícipe a una cuenta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articip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por un “vendedor” que se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partícipe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en un contrato de asociación o cuentas en participación, a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est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, no constituye hecho gra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4419720"/>
            <a:ext cx="8136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fundamente criterio en que intención de las partes no es la de transferir el dominio, ni tampoco ser considerada como un contrato que por su naturaleza sirva para transferi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e sociedades 8 (c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chos muebles sean propio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de la respectiva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581360"/>
            <a:ext cx="7993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aplica a liquidaciones de comunidad hereditaria  y comunidad que queda a la disolución de la sociedad conyu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mueble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5257800"/>
            <a:ext cx="633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3962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notaciones cronológicas en sistema de inventario permanente, contabilidad fidedi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nuncias por robos o acci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formes liquidador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6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sorte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7920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Bienes distribuido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877000"/>
            <a:ext cx="6840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EQUIPARA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jempl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scensores, climas artificiales, puertas y ventanas, sanitarios, electricidad, escaleras mecánic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no concurren todos los elementos del hecho gravado especial, puede ser un hecho gravado básico (servici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8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truc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rbanización de sitios, construcción de vivienda, instalación sistema de señalización de tránsito; red alcantarillad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Venta/Servici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de instalación o confección de especialidades y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uma alzada: IVA, hecho gravado especial equiparado a Venta, artículo 8 letra 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ministración: IVA, hecho gravado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    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aplica a la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0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1.- Contratos de arriendo con opción de compra de b. corp.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 parcialmente construidos por 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; o antes de su depreciación total (norm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 - Impor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 - Aportes a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 - Adju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 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5. - Retiros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6. - Entregas o distribuciones gratu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7. 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9397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ículo 8 letra g, h, i,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“arrendamiento” de ciertos bienes corp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“arrendamiento” de marcas, patentes y otras prestacione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- estacionamientos de vehí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- primas de seguros de las cooperativ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muebles e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.-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.- inmuebles con instalaciones o maquinarias que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ermitan el ejercicio de una actividad c. o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9040" y="1901880"/>
            <a:ext cx="776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084640"/>
            <a:ext cx="770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876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VA sólo renta que exceda del 11% del avalúo fiscal o de la cantidad proporcional que corresponda (arrie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2.- Arrendamiento de marcas, 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836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xención: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59 Ley de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 calificados como exportación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Estacionamiento de vehículo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layas de estacion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724280"/>
            <a:ext cx="820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aplica a todos los valores que los usuarios paguen por estacionar vehículo en recinto, cualquiera sea el período o modalidad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8. -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9. 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0. - Promesa de venta de bienes corporales inmuebles de propiedad de una empresa constructora de su gi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1.-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2. 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1280" y="836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uesto se devenga al consumarse legalmente la impor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lgunas excepcion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m. Temporal /Almacene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Zona Fr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pósito Aduan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vended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Aportes </a:t>
            </a:r>
            <a:r>
              <a:rPr b="1" lang="es-MX" sz="3600" spc="-1" strike="noStrike" u="sng">
                <a:solidFill>
                  <a:srgbClr val="ccecff"/>
                </a:solidFill>
                <a:uFillTx/>
                <a:latin typeface="Century Gothic"/>
              </a:rPr>
              <a:t>no</a:t>
            </a: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 gravados con 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portes de bienes del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portante debe ser “vendedor” de es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(Salvo artículo 8 letra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es de derech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aso transformación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 individual en soci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mpresario individual aporta todo su activo y pasivo a una persona jurí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el aporte comprende bienes corporales muebles del giro del empresario individu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572000"/>
            <a:ext cx="5029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configura 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Bj</cp:lastModifiedBy>
  <dcterms:modified xsi:type="dcterms:W3CDTF">2007-03-05T16:25:40Z</dcterms:modified>
  <cp:revision>637</cp:revision>
  <dc:subject/>
  <dc:title>II. LEY DEL IMPUESTO AL VALOR AGREGADO (IVA)  Aspectos teóricos del Impuesto al  Valor Agregado Estructura General de la Ley</dc:title>
</cp:coreProperties>
</file>