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4F1-1608-4323-80F8-8553596A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0E4D-B3C0-4FE1-ADEB-9DD1B78F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E1A-6E36-4C8E-81DB-946C9539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E38-966D-4183-B450-3D0F34BA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FB38-27A8-4A66-9FC5-0B8A7606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0F7E-CF78-4365-AF53-4B050FA9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A776-EB85-402D-9358-71856912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0190-88D2-4B1E-95C5-2E0DBAC2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1D61-934C-4C09-9CEB-1A5A858C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2532-5DD9-442E-B673-73FF6E8C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B177-3303-416E-8946-6EDEAB4D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FFD-3EC1-4668-A279-B3FB68DE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FD9B-B863-4EF9-8FA0-D7C87863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A919-E81A-48E2-923D-BFF7C211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D266-9D78-41BF-B658-641E6AE9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919C-8162-4CAF-99AF-78572012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A480-B122-494B-B9E8-EBCCC857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C58D-14A0-4DF9-9460-3BF78AED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FD7A-FA1F-457C-A9A6-1754DCE8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078-7D06-40E5-AFE0-F1F812A7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9683-A5CB-44F6-B596-F9CD3D58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5D8-4C73-43C0-A40F-39C293BE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3132-A9A5-4D4A-AC2E-7D82724A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9E63-D82F-4020-A5FD-6EFCF90A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E560-DD71-4EAE-A402-6036D52557EA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C6DC-14E0-49D7-8321-5F9BF12F3CEC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Transformac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ransformación de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La transformación de sociedades consiste sólo en el cambio de especie o tipo social efectuado por reforma o estatutos, subsistiendo la misma persona jurídica, es decir, 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EL MISMO CONTRIBUYENTE CON DISTINTA ORGANIZACIÓN 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4876920"/>
            <a:ext cx="60958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 consecuencia,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n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se produc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usión y Absorc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6592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us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Por Creación: fusión de dos o más sociedades distintas se forma una nueva sociedad, aportando las primitivas sociedades todo su activo y pasivo a la nue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Fusión por incorporación (absorción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cuando se aporta a una sociedad existente todo el activo y pasivo de otra, la que la sucede en todos sus derechos y obligacion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5734080"/>
            <a:ext cx="64008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hay hecho gravado socios aportan derechos pers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Divis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ivis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a sociedad se separa en dos o más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Las nuevas personas jurídicas resultantes de la división cubren en conjunto el capital y objeto de la sociedad dividi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4653000"/>
            <a:ext cx="849780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existe transferencia de bienes corporales muebles ya que actividades y patrimonio de nuevas sociedades, son  en conjunto, idénticas a las de la sociedad que se divid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portes del partícipe a una cuenta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n participació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de bienes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corporales muebles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por un “vendedor” que sea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partícipe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en un contrato de asociación o cuentas en participación, a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estor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, no constituye hecho gra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4419720"/>
            <a:ext cx="813600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fundamente criterio en que intención de las partes no es la de transferir el dominio, ni tampoco ser considerada como un contrato que por su naturaleza sirva para transferir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3.- Adjudicaciones en liquidacio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de sociedades 8 (c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 bienes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ichos muebles sean propios de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ir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de la respectiva sociedad o comun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be ser originada por liquidación de sociedad o comun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4581360"/>
            <a:ext cx="7993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se aplica a liquidaciones de comunidad hereditaria  y comunidad que queda a la disolución de la sociedad conyug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djudicación de bienes corporal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 bienes corporales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Liquidación de sociedades que sean empresas constructoras, comunidades, cooperativas de viv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es necesario que sea del giro de la constructora, comunidad o cooperat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4.- Retiros efectuados por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mpresario, socios, director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s efectuados por empresario, socios, directores o emple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muebles de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bjeto: uso o consumo personal de tales personas o sus famil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5257800"/>
            <a:ext cx="63356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altantes de inventario – Se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sideran retir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699920"/>
            <a:ext cx="73962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esunción legal de que los faltantes de inventario constituyen reti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 necesario justificar salida de faltantes mediante documentación fehac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notaciones cronológicas en sistema de inventario permanente, contabilidad fidedig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nuncias por robos o accid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formes liquidadora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Mermas reconocidas por ley u organismo E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6.- Bienes entregados a rifas o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sorte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 de bienes 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an o no del gir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stinados a rifas y sorte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Fines promocionales o de propaga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 por vendedores (no prestadores de 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es necesaria la habitu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6021360"/>
            <a:ext cx="7920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7.- Bienes distribuido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gratuitament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o distribución gratuita de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s con fines de promoción o propaga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vende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ueden o no ser del giro del vende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cumplen requisitos distribuciones efectuadas con fin simplemente bené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5877000"/>
            <a:ext cx="68407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Hechos gravados especiales en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as venta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peraciones, transacciones o prestaciones que la ley expresamente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EQUIPARA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a ventas. – Establecidas artículo 8 de la L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unque no tengan todos los elementos del hecho gravado básico de ventas (p.e. puede faltar calidad de “vendedor”, habitualidad, etc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7.- Contrato de Instalación o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fección de Especi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iene por objeto la incorporación de elementos que adhieren permanentemente al inmueble y son necesarios para que cumpla cabalmente la función específica para lo cual se construy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equiparan a venta cuando son a “suma alzad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jempl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scensores, climas artificiales, puertas y ventanas, sanitarios, electricidad, escaleras mecánica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i no concurren todos los elementos del hecho gravado especial, puede ser un hecho gravado básico (servici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8.- Contratos Generales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strucció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cepto del contrato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ontrato que tiene por finalidad la confección de una obra material inmueble nueva que comprenda al menos dos especialidades, sea que se efectúe por si mismo o por intermedio de terce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jemp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rbanización de sitios, construcción de vivienda, instalación sistema de señalización de tránsito; red alcantarillado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Venta/Servici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s de instalación o confección de especialidades y Contratos generales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uma alzada: IVA, hecho gravado especial equiparado a Venta, artículo 8 letra 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dministración: IVA, hecho gravado básic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Venta de establecimiento de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tablecimiento de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iversalidad de hecho con existencia distinta a la de los      elementos que la componen, corporales e incorporales, donde el comerciante ejerce su of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niversalidad de H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todo conjunto de bienes corporales e incorporales unidos opr su afectación a un fin común y que posee individualidad propia e independiente de los elementos que la componen (p.e. Fábricas, establecimientos industriales, bibliotecas, museos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Venta de establecimiento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quisitos del hecho gravado espe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s el valor de los bienes corporales muebles PROPIOS DEL GIRO del establecimiento o universalidad que se ven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“vendedor” de los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 exceptúan bienes del activo inmoviliz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xcep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aplica a la cesión del derecho de herencia (art.8 letra 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Si establecimiento o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universalidad incluyen inmuebl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establecimientos de comercio y otras universalidades que comprenden inmuebles del giro de una empresa construct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ben pertenecer el activo realizable, ser “vendedo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0.- Promesa de venta de bie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rporales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omesa de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propiedad de una empresa construct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l g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struidos total o parcialmente por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1.- Contratos de arriendo con opción de compra de b. corp.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 de arriendo con opción de comp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elebrados por empresas constructor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specto de inmuebles total o parcialmente construidos por el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asimilan a las promesas de venta para la aplicación del tribut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2.- Venta de Bienes del Activo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ijo (art. 8 letra m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bienes corporales muebles o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lasificados en activo fi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antes de los 48 meses contados desde su adquisición (muebles) ó 12 meses (inmuebles); o antes de su depreciación total (norma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Que el contribuyente haya tenido derecho al CREDITO FISCAL por IVA sopor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establecimiento de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 - Import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 - Aportes a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3. - Adjud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4. - Retiros efectuados por vendedor o du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5. - Retiros destinados a rifas y sorte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6. - Entregas o distribuciones gratui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7. - Contratos instalación o confección de especi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93976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ículo 8 letra g, h, i, 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- “arrendamiento” de ciertos bienes corpo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- “arrendamiento” de marcas, patentes y otras prestaciones simi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3.- estacionamientos de vehícu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4.- primas de seguros de las cooperativa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.- Arrendamiento de bie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muebles e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usufructo o cualquier otra forma de cesión temporal del uso y goce 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.- bienes 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b.- inmuebles amobl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.- inmuebles con instalaciones o maquinarias que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ermitan el ejercicio de una actividad c. o 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.- todo tipo de establecimiento de comerc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9040" y="1901880"/>
            <a:ext cx="776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otras formas de cesión temporal de uso o go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mobl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mobiliario y menaje en cantidad y naturaleza suficiente para ser habi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moblado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55640" y="5084640"/>
            <a:ext cx="77040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VA  se aplica sólo a renta que exceda del 11% o del  avalúo fiscal al año o en la proporción que corresponda (sólo aplicable a arrien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no agrícolas que tengan instalaciones o maquinarias que permitan desarrollar actividad comercial o indus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grícolas, en la parte que tengan actividades industriales anexas o complementarias desarrolladas dentro del pre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 instalacione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487692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VA sólo renta que exceda del 11% del avalúo fiscal o de la cantidad proporcional que corresponda (arrie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rendamiento, subarrendamiento, cualquier forma de cesión temporal del uso y go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Bienes incorporales que tiene su origen en “propiedad intelectual” y “propiedad industri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2.- Arrendamiento de marcas, 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patentes y prestaciones similare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11280" y="836640"/>
            <a:ext cx="76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No se grava la constitución del derecho, ni la enajen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xención: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tículo 59 Ley de la R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 calificados como exportación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 serv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3.- Estacionamiento de vehículo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n playas de estacionamient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tacionamiento de vehículo en playas de estacionamiento u otros lugares destinado a dicho f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terrenos sin construcción, o construcciones lige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dificios especialmente destinados a tal efe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4724280"/>
            <a:ext cx="820872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aplica a todos los valores que los usuarios paguen por estacionar vehículo en recinto, cualquiera sea el período o modalidad de pa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4.- Primas de seguros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operativas de segur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imas de cooperativas de servicio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ntes de modificación de 1980, no constituía hecho gravado por cuanto no era actividad clasificado en Nos. 3 y 4 art. 20 Ley Renta, sino que se clasificaban en el número 5 del mencionado precep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xisten ciertas exenciones aplic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8. - Contratos generales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9. - Venta de establecimiento de comercio y de otras univers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0. - Promesa de venta de bienes corporales inmuebles de propiedad de una empresa constructora de su gir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1.- Contratos de arriendo con opción de comp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2. - Venta bienes activo fijo antes 48 ó 12 me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.- Importacion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Import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troducción legal de mercaderías extranjeras para su uso o consumo en el pa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distingue si hay habitu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mportación realizada por cualquier persona, sea o no vendedor o prestador de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11280" y="836640"/>
            <a:ext cx="770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mpuesto se devenga al consumarse legalmente la import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lgunas excepcion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m. Temporal /Almacenes Parti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Zona Fran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pósito Aduan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2.- Aportes a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porte o transferencia de dominio o de una cuota de dominio con ocasión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constitución, ampliación, modif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SOCI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enes corporales muebles o inmuebles de propiedad de empresas constructoras, o en derechos reales constituidos sobre dichos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ante debe tener calidad de “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vendedor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Aportes </a:t>
            </a:r>
            <a:r>
              <a:rPr b="1" lang="es-MX" sz="3600" spc="-1" strike="noStrike" u="sng">
                <a:solidFill>
                  <a:srgbClr val="ccecff"/>
                </a:solidFill>
                <a:uFillTx/>
                <a:latin typeface="Century Gothic"/>
              </a:rPr>
              <a:t>no</a:t>
            </a: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 gravados con IV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portes de bienes del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aportante debe ser “vendedor” de esos bi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(Salvo artículo 8 letra 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es de derechos pers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aso transformación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mpresa individual en socieda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mpresario individual aporta todo su activo y pasivo a una persona juríd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i el aporte comprende bienes corporales muebles del giro del empresario individu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4572000"/>
            <a:ext cx="50292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configura el hecho gravado espe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6:24Z</dcterms:created>
  <dc:creator>CEYZAGUIRRE</dc:creator>
  <dc:description/>
  <dc:language>en-US</dc:language>
  <cp:lastModifiedBy>Bj</cp:lastModifiedBy>
  <dcterms:modified xsi:type="dcterms:W3CDTF">2007-03-05T16:25:40Z</dcterms:modified>
  <cp:revision>637</cp:revision>
  <dc:subject/>
  <dc:title>II. LEY DEL IMPUESTO AL VALOR AGREGADO (IVA)  Aspectos teóricos del Impuesto al  Valor Agregado Estructura General de la Ley</dc:title>
</cp:coreProperties>
</file>