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3BEB-EE6A-4382-BAE6-5238A7E50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B14E-A8A7-4E00-8472-8C5840B24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4F3D-9B0A-4BAB-BDA9-8BBCF035D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4CB8-9547-4BFF-A3C6-F29BC8EDD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85F8C-C021-4348-901D-708A0A1C4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3925B-F324-4851-B12A-C6BE9B2BA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C30E7-DCCE-472F-B7B6-13396D24D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98DEB-9E47-43ED-8C3C-98FECA233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2390B-809A-43C7-A009-A0FB1951A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21EB8-8610-4FDA-B14B-4E69E3EB2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32401-B8A2-41AE-961A-7CD229EB0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232A-D385-4AC1-9490-5B043AA67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B60E0-6E02-42AE-995C-6E8D0DBF5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98169-D63F-4F7E-A724-7E9BF6B88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FD5FD-0FED-475E-831A-A17418236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EF91E-B759-4872-AAD6-C06BEA96B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F2AA3-3683-4852-9618-12DE85759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4082-EAFC-47D7-9E61-0965BF5EE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AC3A-1E3F-4147-A9B1-A2527624A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E929-8381-4504-8A98-CA0749370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266A-FCD0-4271-94DB-2606BF9EF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C75B-6732-4DBD-9172-B08968EC5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8AC6-5CBD-4E01-8065-7DF862E59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D6CE-8E2C-4091-84C2-DBC03ADFA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762D3-65DC-4AD1-9DBC-6980C6C12B76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AE122-B3B0-49B0-A0C5-DDDB3A22A108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00"/>
                </a:solidFill>
                <a:latin typeface="Century Gothic"/>
              </a:rPr>
              <a:t>IMPUESTO AL</a:t>
            </a:r>
            <a:br>
              <a:rPr sz="3600"/>
            </a:br>
            <a:r>
              <a:rPr b="1" lang="es-MX" sz="3600" spc="-1" strike="noStrike">
                <a:solidFill>
                  <a:srgbClr val="ffff00"/>
                </a:solidFill>
                <a:latin typeface="Century Gothic"/>
              </a:rPr>
              <a:t>VALOR AGREGADO (IVA)</a:t>
            </a:r>
            <a:br>
              <a:rPr sz="3600"/>
            </a:br>
            <a:br>
              <a:rPr sz="3600"/>
            </a:br>
            <a:r>
              <a:rPr b="1" lang="es-MX" sz="3600" spc="-1" strike="noStrike">
                <a:solidFill>
                  <a:srgbClr val="ffff00"/>
                </a:solidFill>
                <a:latin typeface="Century Gothic"/>
              </a:rPr>
              <a:t> </a:t>
            </a:r>
            <a:r>
              <a:rPr b="1" lang="es-MX" sz="2400" spc="-1" strike="noStrike">
                <a:solidFill>
                  <a:srgbClr val="ffff00"/>
                </a:solidFill>
                <a:latin typeface="Century Gothic"/>
              </a:rPr>
              <a:t>Profesor: Rodrigo Rojas Palma</a:t>
            </a:r>
            <a:br>
              <a:rPr sz="2400"/>
            </a:br>
            <a:br>
              <a:rPr sz="2400"/>
            </a:br>
            <a:r>
              <a:rPr b="0" lang="es-MX" sz="2400" spc="-1" strike="noStrike">
                <a:solidFill>
                  <a:srgbClr val="ffff00"/>
                </a:solidFill>
                <a:latin typeface="Century Gothic"/>
              </a:rPr>
              <a:t>Ayudantes: </a:t>
            </a:r>
            <a:br>
              <a:rPr sz="2400"/>
            </a:br>
            <a:r>
              <a:rPr b="0" lang="es-MX" sz="2400" spc="-1" strike="noStrike">
                <a:solidFill>
                  <a:srgbClr val="ffff00"/>
                </a:solidFill>
                <a:latin typeface="Century Gothic"/>
              </a:rPr>
              <a:t>Jorge Carraha </a:t>
            </a:r>
            <a:br>
              <a:rPr sz="2400"/>
            </a:br>
            <a:r>
              <a:rPr b="0" lang="es-MX" sz="2400" spc="-1" strike="noStrike">
                <a:solidFill>
                  <a:srgbClr val="ffff00"/>
                </a:solidFill>
                <a:latin typeface="Century Gothic"/>
              </a:rPr>
              <a:t>Rodrigo Zarhi</a:t>
            </a:r>
            <a:br>
              <a:rPr sz="2400"/>
            </a:br>
            <a:br>
              <a:rPr sz="2400"/>
            </a:br>
            <a:r>
              <a:rPr b="0" lang="es-MX" sz="2400" spc="-1" strike="noStrike">
                <a:solidFill>
                  <a:srgbClr val="ffff00"/>
                </a:solidFill>
                <a:latin typeface="Century Gothic"/>
              </a:rPr>
              <a:t>2007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685800" y="68544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ffff"/>
                </a:solidFill>
                <a:latin typeface="Century Gothic"/>
              </a:rPr>
              <a:t>HECHO GRAVADO BÁSIC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362320" y="358128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Century Gothic"/>
              </a:rPr>
              <a:t>VENT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REQUISITOS HECHO GRAVADO</a:t>
            </a:r>
            <a:br>
              <a:rPr sz="3200"/>
            </a:b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BASICO VENTA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1.- Convención Traslaticia de Domin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2.- Sobre bienes corporales muebles, o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inmuebles de empresas constructor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3.- A Título Oneros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4.- Ubicados en Territorio Nacion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5.- Realizada por un “vendedor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1.- Convención Traslaticia de</a:t>
            </a:r>
            <a:br>
              <a:rPr sz="3200"/>
            </a:b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dominio o de una cuota dominio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Convención, acto o contrato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independiente del nombre que le den las partes que sirva par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Transferir el domin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Transferir una cuota de domin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• 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Dominio: derecho real que permite usar, gozar y disponer de una cosa arbitrariamente “propiedad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• 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Propiedad, separada del goce de la cosa se llama “nuda propiedad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es-MX" sz="3200" spc="-1" strike="noStrike">
                <a:solidFill>
                  <a:srgbClr val="ffff00"/>
                </a:solidFill>
                <a:latin typeface="Century Gothic"/>
              </a:rPr>
              <a:t>2.- Debe recaer sobre bienes corporales</a:t>
            </a:r>
            <a:br>
              <a:rPr sz="3200"/>
            </a:br>
            <a:r>
              <a:rPr b="0" lang="es-MX" sz="3200" spc="-1" strike="noStrike">
                <a:solidFill>
                  <a:srgbClr val="ffff00"/>
                </a:solidFill>
                <a:latin typeface="Century Gothic"/>
              </a:rPr>
              <a:t>muebles, bienes corporales inmuebles de una empresa constructora, o derechos real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" y="33526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944280"/>
            <a:ext cx="7772400" cy="579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Clasificación de los Bien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2971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Bien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981080" y="1828800"/>
            <a:ext cx="457200" cy="2971800"/>
          </a:xfrm>
          <a:custGeom>
            <a:avLst/>
            <a:gdLst>
              <a:gd name="textAreaLeft" fmla="*/ 292320 w 457200"/>
              <a:gd name="textAreaRight" fmla="*/ 457560 w 457200"/>
              <a:gd name="textAreaTop" fmla="*/ 77400 h 2971800"/>
              <a:gd name="textAreaBottom" fmla="*/ 2894400 h 2971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195640" y="1989000"/>
            <a:ext cx="2209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Corpor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  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(ser real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886200" y="1828800"/>
            <a:ext cx="228600" cy="1752480"/>
          </a:xfrm>
          <a:custGeom>
            <a:avLst/>
            <a:gdLst>
              <a:gd name="textAreaLeft" fmla="*/ 0 w 228600"/>
              <a:gd name="textAreaRight" fmla="*/ 82440 w 22860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191120" y="20574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Century Gothic"/>
              </a:rPr>
              <a:t>Mueb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995640" y="3352680"/>
            <a:ext cx="141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Century Gothic"/>
              </a:rPr>
              <a:t>Inmueb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580000" y="16286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Century Gothic"/>
              </a:rPr>
              <a:t>Por Naturalez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580000" y="220500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Century Gothic"/>
              </a:rPr>
              <a:t>Por Anticipa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08720" y="2781360"/>
            <a:ext cx="23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Century Gothic"/>
              </a:rPr>
              <a:t>- </a:t>
            </a:r>
            <a:r>
              <a:rPr b="0" lang="es-MX" sz="1600" spc="-1" strike="noStrike">
                <a:solidFill>
                  <a:srgbClr val="ffffff"/>
                </a:solidFill>
                <a:latin typeface="Century Gothic"/>
              </a:rPr>
              <a:t>prod. de</a:t>
            </a:r>
            <a:r>
              <a:rPr b="0" lang="es-MX" sz="1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s-MX" sz="1600" spc="-1" strike="noStrike">
                <a:solidFill>
                  <a:srgbClr val="ffffff"/>
                </a:solidFill>
                <a:latin typeface="Century Gothic"/>
              </a:rPr>
              <a:t>inmue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68360" y="4581360"/>
            <a:ext cx="2376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Incorpor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     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(derecho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724360" y="314172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Century Gothic"/>
              </a:rPr>
              <a:t>Por Naturalez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486400" y="3276720"/>
            <a:ext cx="76320" cy="1066680"/>
          </a:xfrm>
          <a:custGeom>
            <a:avLst/>
            <a:gdLst>
              <a:gd name="textAreaLeft" fmla="*/ 48960 w 76320"/>
              <a:gd name="textAreaRight" fmla="*/ 76320 w 7632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724360" y="371628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Century Gothic"/>
              </a:rPr>
              <a:t>Por Adherenc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724360" y="42926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Century Gothic"/>
              </a:rPr>
              <a:t>Por Destina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24280" y="4572000"/>
            <a:ext cx="76320" cy="1371600"/>
          </a:xfrm>
          <a:custGeom>
            <a:avLst/>
            <a:gdLst>
              <a:gd name="textAreaLeft" fmla="*/ 48960 w 76320"/>
              <a:gd name="textAreaRight" fmla="*/ 76320 w 7632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859280" y="4797360"/>
            <a:ext cx="15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Rea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76920" y="5486400"/>
            <a:ext cx="156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Century Gothic"/>
              </a:rPr>
              <a:t>Pers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Clasificación de los derechos</a:t>
            </a:r>
            <a:br>
              <a:rPr sz="3200"/>
            </a:b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(cont.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71640" y="3500280"/>
            <a:ext cx="181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Derech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048120" y="1600200"/>
            <a:ext cx="457200" cy="4191120"/>
          </a:xfrm>
          <a:custGeom>
            <a:avLst/>
            <a:gdLst>
              <a:gd name="textAreaLeft" fmla="*/ 292320 w 457200"/>
              <a:gd name="textAreaRight" fmla="*/ 457560 w 457200"/>
              <a:gd name="textAreaTop" fmla="*/ 109080 h 4191120"/>
              <a:gd name="textAreaBottom" fmla="*/ 4082040 h 4191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09880" y="1828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Century Gothic"/>
              </a:rPr>
              <a:t>REA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257800" y="1828800"/>
            <a:ext cx="228600" cy="2743200"/>
          </a:xfrm>
          <a:custGeom>
            <a:avLst/>
            <a:gdLst>
              <a:gd name="textAreaLeft" fmla="*/ 146160 w 228600"/>
              <a:gd name="textAreaRight" fmla="*/ 228960 w 228600"/>
              <a:gd name="textAreaTop" fmla="*/ 71280 h 2743200"/>
              <a:gd name="textAreaBottom" fmla="*/ 2671920 h 274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638680" y="175248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Century Gothic"/>
              </a:rPr>
              <a:t>Domini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638680" y="21337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Century Gothic"/>
              </a:rPr>
              <a:t>Herenc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638680" y="251460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Century Gothic"/>
              </a:rPr>
              <a:t>Usufruc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289548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Century Gothic"/>
              </a:rPr>
              <a:t>Us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638680" y="3276720"/>
            <a:ext cx="181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Century Gothic"/>
              </a:rPr>
              <a:t>Habita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3657600"/>
            <a:ext cx="152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Century Gothic"/>
              </a:rPr>
              <a:t>Servidumb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638680" y="39625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Century Gothic"/>
              </a:rPr>
              <a:t>Prend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638680" y="434340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Century Gothic"/>
              </a:rPr>
              <a:t>Hipote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590920" y="320040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657600" y="2819520"/>
            <a:ext cx="15620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600" spc="-1" strike="noStrike">
                <a:solidFill>
                  <a:srgbClr val="ffffff"/>
                </a:solidFill>
                <a:latin typeface="Century Gothic"/>
              </a:rPr>
              <a:t>Se grava su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600" spc="-1" strike="noStrike">
                <a:solidFill>
                  <a:srgbClr val="ffffff"/>
                </a:solidFill>
                <a:latin typeface="Century Gothic"/>
              </a:rPr>
              <a:t>transferenc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564000" y="46530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Century Gothic"/>
              </a:rPr>
              <a:t>PERSONA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86400" y="5029200"/>
            <a:ext cx="196524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Century Gothic"/>
              </a:rPr>
              <a:t>Recaen sobre determinad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Century Gothic"/>
              </a:rPr>
              <a:t>Personas (arriendo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1020600"/>
            <a:ext cx="7772400" cy="57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A.- Transferencias afecta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De bienes corporales mueb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Derechos reales sobre bienes corpora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mueb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De bienes corporales inmueb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- De propiedad de una empresa constructor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  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construidos totalmente por ella o en par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  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por un tercero para ell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Derechos reales sobre bienes corporales inmueb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Situación de empresa constructora</a:t>
            </a:r>
            <a:br>
              <a:rPr sz="3200"/>
            </a:b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que encarga la obra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La primera venta constituye hecho grav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- a.- por cuenta propia, realizando ella misma todas las especialidad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- b.- por cuenta propia, celebrando con terceros uno o más contratos de administración para la ejecución de la ob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- c.- por cuenta propia, celebrando con terceros todas o algunas especialidad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Situación de empresa constructora</a:t>
            </a:r>
            <a:br>
              <a:rPr sz="3200"/>
            </a:b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que encarga la obra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4360" y="169992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La posterior venta NO constituye hecho grav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Por cuenta propia celebrando un contrato general de construcción por suma alzada con otra empresa constructo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Adquiriendo obras construidas y terminadas por otra empresa constructo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Situación de empresa constructora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Inmuebles adquiridos terminados, a los cuales la empresa constructora efectúa obras adicionales, complementarias, ampliaciones, terminaciones o remodelaciones – Hecho gravado sólo las obras complementaria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826920" y="7650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Century Gothic"/>
              </a:rPr>
              <a:t>Clasificación Impuestos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Century Gothic"/>
              </a:rPr>
              <a:t>1.- Impuestos Direct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Century Gothic"/>
              </a:rPr>
              <a:t>2.- Impuestos Indirect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3.- Convención a título Oneroso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Convención que transfiere el domin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debe ser a título oneroso (no nec. Dinero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Art. 1440 define contratos gratuitos y oneros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- </a:t>
            </a:r>
            <a:r>
              <a:rPr b="0" lang="es-MX" sz="2800" spc="-1" strike="noStrike" u="sng">
                <a:solidFill>
                  <a:srgbClr val="ffffff"/>
                </a:solidFill>
                <a:uFillTx/>
                <a:latin typeface="Century Gothic"/>
                <a:ea typeface="Times New Roman"/>
              </a:rPr>
              <a:t>Gratuitos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: sólo tienen por objeto la utilidad de una de las partes, sufriendo la otra todo el gravamen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- </a:t>
            </a:r>
            <a:r>
              <a:rPr b="0" lang="es-MX" sz="2800" spc="-1" strike="noStrike" u="sng">
                <a:solidFill>
                  <a:srgbClr val="ffffff"/>
                </a:solidFill>
                <a:uFillTx/>
                <a:latin typeface="Century Gothic"/>
                <a:ea typeface="Times New Roman"/>
              </a:rPr>
              <a:t>Onerosos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: utilidad de ambas partes, gravándose uno beneficio del otr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2120" y="-30600"/>
            <a:ext cx="7772400" cy="155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4.- Bienes deben estar ubicados en</a:t>
            </a:r>
            <a:br>
              <a:rPr sz="3200"/>
            </a:b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el Territorio Naciona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Ubicados en territorio nacion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Independiente lugar en que se celebre conven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respectiv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Situación bienes ubicados transitoriamen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fuera de Ch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- bienes cuya inscripción, matrícula o patente haya sido otorgada en Ch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- bienes que se encuentren embarcad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  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país procedenc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5.- Realizada por un “vendedor”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Vendedor – definición leg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Artículo 2 No. 3 Le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Definición – artículo 2 No. 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Habitualidad – calificada por el SI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- ART. 4.- Reglamento: SII considerará la naturaleza, cantidad y frecuenc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- Presunciones de habitualidad - gir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“</a:t>
            </a: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Habitualidad” – elemento subjetivo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95280" y="1052280"/>
            <a:ext cx="835344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Corresponde al contribuyente probar que no existe habitualidad y/o que no adquirió con “ánimo” de revend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Se presume habitualidad respecto 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todas las transferencias y retiros efectuados por un vendedor dentro de su gir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Ventas respecto de las cuales no</a:t>
            </a:r>
            <a:br>
              <a:rPr sz="3200"/>
            </a:b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se tiene calidad de vendedor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Particulares que ocasionalmente vendan sus bienes nuevos o usad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Empresas que vendan bienes corporales muebles que integran su activo inmovilizado o fijo (ojo art. 8 letra 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611280" y="1052640"/>
            <a:ext cx="7777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Ventas materiales sobrantes adquiridos con ánimo de ser consumidos o utilizados durante rodaje administrativo (p.e. papel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Calificación habitualidad venta de</a:t>
            </a:r>
            <a:br>
              <a:rPr sz="3200"/>
            </a:b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inmuebl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Vendedor: Empresa constructor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Empresa organizada para construir 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vender, aunque no sea exclusivo, o sea esporádico, o aprovechad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ocasionalmente para construir y vend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Adjudicaciones – se presume habitualid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¿Quién es vendedor?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523880" y="281952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Century Gothic"/>
              </a:rPr>
              <a:t>Vended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124080" y="1828800"/>
            <a:ext cx="457200" cy="2438280"/>
          </a:xfrm>
          <a:custGeom>
            <a:avLst/>
            <a:gdLst>
              <a:gd name="textAreaLeft" fmla="*/ 0 w 457200"/>
              <a:gd name="textAreaRight" fmla="*/ 164880 w 457200"/>
              <a:gd name="textAreaTop" fmla="*/ 63360 h 2438280"/>
              <a:gd name="textAreaBottom" fmla="*/ 2374920 h 2438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732840" y="2206800"/>
            <a:ext cx="45486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Century Gothic"/>
              </a:rPr>
              <a:t>A.- persona dedicada en form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Century Gothic"/>
              </a:rPr>
              <a:t>HABITUAL a venta de bien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Century Gothic"/>
              </a:rPr>
              <a:t>Corporales muebles o inmueb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Century Gothic"/>
              </a:rPr>
              <a:t>B.- productor, fabricante o empres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Century Gothic"/>
              </a:rPr>
              <a:t>constructora que vende materias prim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Century Gothic"/>
              </a:rPr>
              <a:t>o insumos no utilizad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55640" y="4800600"/>
            <a:ext cx="229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Century Gothic"/>
              </a:rPr>
              <a:t>Habitualid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124080" y="4572000"/>
            <a:ext cx="152640" cy="1066680"/>
          </a:xfrm>
          <a:custGeom>
            <a:avLst/>
            <a:gdLst>
              <a:gd name="textAreaLeft" fmla="*/ 97560 w 152640"/>
              <a:gd name="textAreaRight" fmla="*/ 153000 w 15264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352680" y="4724280"/>
            <a:ext cx="50292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Century Gothic"/>
              </a:rPr>
              <a:t>Bienes corporales del GIRO –activo realiza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Century Gothic"/>
              </a:rPr>
              <a:t>Calificada por el SII - Presuncion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00"/>
                </a:solidFill>
                <a:latin typeface="Century Gothic"/>
              </a:rPr>
              <a:t>NO son vendedore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Particulares que venden ocasionalmen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Empresas que vendan activo fijo (8 letra 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Empresas que vendan material oficina sobran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Habitualidad Empresas</a:t>
            </a:r>
            <a:br>
              <a:rPr sz="3200"/>
            </a:b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Constructora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Toda empresa organizada para construi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y vender inmueb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Aunque giro construcción no sea exclusiv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Aunque giro construcción sea esporádico o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de menor importanc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Cuando existe organización empresar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distinta usada ocasionalmente para construir y vender uno o varios inmueb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00"/>
                </a:solidFill>
                <a:latin typeface="Century Gothic"/>
              </a:rPr>
              <a:t>1.- Los Impuestos Directos</a:t>
            </a: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Gravan la riqueza al momento de su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- genera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- produc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- obten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00"/>
                </a:solidFill>
                <a:latin typeface="Century Gothic"/>
              </a:rPr>
              <a:t>No se califica de habitual en</a:t>
            </a:r>
            <a:br>
              <a:rPr sz="3600"/>
            </a:br>
            <a:r>
              <a:rPr b="1" lang="es-MX" sz="3600" spc="-1" strike="noStrike">
                <a:solidFill>
                  <a:srgbClr val="ffff00"/>
                </a:solidFill>
                <a:latin typeface="Century Gothic"/>
              </a:rPr>
              <a:t>empresas constructora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4360" y="148428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Ventas de inmuebles que las empresas constructoras hayan construido para su uso, esto 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- Necesarios para producir la renta, 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- Que hayan estado sujeto al tratamiento contable y tributario de ACTIVO FIJ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685800" y="1523880"/>
            <a:ext cx="762120" cy="36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Century Gothic"/>
              </a:rPr>
              <a:t>V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Century Gothic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Century Gothic"/>
              </a:rPr>
              <a:t>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Century Gothic"/>
              </a:rPr>
              <a:t>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Century Gothic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Century Gothic"/>
              </a:rPr>
              <a:t>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Century Gothic"/>
              </a:rPr>
              <a:t>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Century Gothic"/>
              </a:rPr>
              <a:t>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219320" y="685800"/>
            <a:ext cx="533160" cy="5181480"/>
          </a:xfrm>
          <a:custGeom>
            <a:avLst/>
            <a:gdLst>
              <a:gd name="textAreaLeft" fmla="*/ 0 w 533160"/>
              <a:gd name="textAreaRight" fmla="*/ 192600 w 533160"/>
              <a:gd name="textAreaTop" fmla="*/ 135000 h 5181480"/>
              <a:gd name="textAreaBottom" fmla="*/ 5046480 h 5181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547640" y="907920"/>
            <a:ext cx="23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Century Gothic"/>
              </a:rPr>
              <a:t>Persona natur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547640" y="1676520"/>
            <a:ext cx="20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Century Gothic"/>
              </a:rPr>
              <a:t>Comunidad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547640" y="1341360"/>
            <a:ext cx="23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Century Gothic"/>
              </a:rPr>
              <a:t>Persona juríd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19280" y="2133720"/>
            <a:ext cx="237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Century Gothic"/>
              </a:rPr>
              <a:t>Sociedades de hech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886200" y="1219320"/>
            <a:ext cx="464652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Century Gothic"/>
              </a:rPr>
              <a:t>Se dedique en  forma habitual a la venta de bienes corporales muebles, sean de su propia producción o de tercero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476360" y="3429000"/>
            <a:ext cx="208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Century Gothic"/>
              </a:rPr>
              <a:t>Empresa Constructor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200400" y="3124080"/>
            <a:ext cx="76320" cy="1524240"/>
          </a:xfrm>
          <a:custGeom>
            <a:avLst/>
            <a:gdLst>
              <a:gd name="textAreaLeft" fmla="*/ 22320 w 76320"/>
              <a:gd name="textAreaRight" fmla="*/ 76320 w 76320"/>
              <a:gd name="textAreaTop" fmla="*/ 63360 h 1524240"/>
              <a:gd name="textAreaBottom" fmla="*/ 1460880 h 1524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657600" y="914400"/>
            <a:ext cx="152280" cy="1676520"/>
          </a:xfrm>
          <a:custGeom>
            <a:avLst/>
            <a:gdLst>
              <a:gd name="textAreaLeft" fmla="*/ 0 w 152280"/>
              <a:gd name="textAreaRight" fmla="*/ 106920 w 152280"/>
              <a:gd name="textAreaTop" fmla="*/ 69840 h 1676520"/>
              <a:gd name="textAreaBottom" fmla="*/ 160668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987640" y="3068640"/>
            <a:ext cx="23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Century Gothic"/>
              </a:rPr>
              <a:t>Persona natur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987640" y="35053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Century Gothic"/>
              </a:rPr>
              <a:t>Persona juríd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276720" y="380988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Century Gothic"/>
              </a:rPr>
              <a:t>Comunidad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059280" y="4114800"/>
            <a:ext cx="2198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Century Gothic"/>
              </a:rPr>
              <a:t>Sociedades de hech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181480" y="3048120"/>
            <a:ext cx="228600" cy="1600200"/>
          </a:xfrm>
          <a:custGeom>
            <a:avLst/>
            <a:gdLst>
              <a:gd name="textAreaLeft" fmla="*/ 66960 w 228600"/>
              <a:gd name="textAreaRight" fmla="*/ 228960 w 228600"/>
              <a:gd name="textAreaTop" fmla="*/ 66600 h 1600200"/>
              <a:gd name="textAreaBottom" fmla="*/ 15336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257800" y="3124080"/>
            <a:ext cx="251460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Century Gothic"/>
              </a:rPr>
              <a:t>Se dedique en  forma habitual a la venta de bienes corporales inmuebles construidos total o parcialmente por ell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676520" y="4724280"/>
            <a:ext cx="181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Century Gothic"/>
              </a:rPr>
              <a:t>Productor Fabrican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809880" y="4648320"/>
            <a:ext cx="76320" cy="1295280"/>
          </a:xfrm>
          <a:custGeom>
            <a:avLst/>
            <a:gdLst>
              <a:gd name="textAreaLeft" fmla="*/ 0 w 76320"/>
              <a:gd name="textAreaRight" fmla="*/ 53640 w 76320"/>
              <a:gd name="textAreaTop" fmla="*/ 53640 h 1295280"/>
              <a:gd name="textAreaBottom" fmla="*/ 124164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92360" y="573408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Century Gothic"/>
              </a:rPr>
              <a:t>Empresa Constructor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4876920"/>
            <a:ext cx="3809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Century Gothic"/>
              </a:rPr>
              <a:t>Venda materias primas e insumos que por cualquiera causa no utilice en sus procesos Productiv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62120" y="2468520"/>
            <a:ext cx="7772400" cy="57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00"/>
                </a:solidFill>
                <a:latin typeface="Century Gothic"/>
              </a:rPr>
              <a:t>HECHO GRAVADO BÁSICO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320040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SERVICI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Definición de Servicio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294920" y="1905120"/>
            <a:ext cx="678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Art. 2 No 2 Le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“La acción o prestación que una persona realiza para otra y por la cual percibe un interés, prima, comisión o cualquiera otra forma de remuneración, siempre que provenga del ejercicio de las actividades comprendidas en los Números 3 y 4 del Artículo 20 de la Ley de la Rent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Requisitos del Servicio como</a:t>
            </a:r>
            <a:br>
              <a:rPr sz="3200"/>
            </a:b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hecho gravado básico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A.- Que una persona realice una acción o prestación a favor de otra perso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B.- Que dicha persona perciba por la acción o prestación un interés, prima, comisión o remuner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C.- Que la acción o prestación provenga ejercicio actividades artículo 20 Nos. 3 y 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D.- Que el servicio se preste o utilice en Ch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00"/>
                </a:solidFill>
                <a:latin typeface="Century Gothic"/>
              </a:rPr>
              <a:t>A.- Realización de una prestación a</a:t>
            </a:r>
            <a:br>
              <a:rPr sz="3600"/>
            </a:br>
            <a:r>
              <a:rPr b="1" lang="es-MX" sz="3600" spc="-1" strike="noStrike">
                <a:solidFill>
                  <a:srgbClr val="ffff00"/>
                </a:solidFill>
                <a:latin typeface="Century Gothic"/>
              </a:rPr>
              <a:t>favor de otra persona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755280" y="2060640"/>
            <a:ext cx="74674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Puede ser realizada por persona natural o jurídi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Prestación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- acto o hecho que un contratante realiza o promete  a otro, </a:t>
            </a:r>
            <a:r>
              <a:rPr b="0" lang="es-MX" sz="3200" spc="-1" strike="noStrike" u="sng">
                <a:solidFill>
                  <a:srgbClr val="ffffff"/>
                </a:solidFill>
                <a:uFillTx/>
                <a:latin typeface="Century Gothic"/>
              </a:rPr>
              <a:t>sin importar que sea HABITUAL u OCASIO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00"/>
                </a:solidFill>
                <a:latin typeface="Century Gothic"/>
              </a:rPr>
              <a:t>B.- Que el prestador del servicio</a:t>
            </a:r>
            <a:br>
              <a:rPr sz="3600"/>
            </a:br>
            <a:r>
              <a:rPr b="1" lang="es-MX" sz="3600" spc="-1" strike="noStrike">
                <a:solidFill>
                  <a:srgbClr val="ffff00"/>
                </a:solidFill>
                <a:latin typeface="Century Gothic"/>
              </a:rPr>
              <a:t>perciba una remuneración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755280" y="2133360"/>
            <a:ext cx="716292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Percepción de “interés, prima o comisión, o cualquiera otra forma de remuneración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Con la percepción nace la obligación tributar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Percibir”: recibir una cosa y entregarse de ell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C.- Proveniente actividades del</a:t>
            </a:r>
            <a:br>
              <a:rPr sz="3200"/>
            </a:b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 artículo 20 No. 3 y 4 Ley Renta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Actividades del 20 No. 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- Industria, comercio, minería, explotación de las riquezas del mar, y demás actividades extractiv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- Cías. Aéreas, de seguros, bancos, asociaciones de ahorro y préstamos, sociedades administradoras fondos mutuos, sociedades de inversión o capitalización, empresas financieras y otras de actividad análog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00"/>
                </a:solidFill>
                <a:latin typeface="Century Gothic"/>
              </a:rPr>
              <a:t>C.- Proveniente actividades del</a:t>
            </a:r>
            <a:br>
              <a:rPr sz="3600"/>
            </a:br>
            <a:r>
              <a:rPr b="1" lang="es-MX" sz="3600" spc="-1" strike="noStrike">
                <a:solidFill>
                  <a:srgbClr val="ffff00"/>
                </a:solidFill>
                <a:latin typeface="Century Gothic"/>
              </a:rPr>
              <a:t> artículo 20 No. 3 y 4 Ley Renta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4360" y="191592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Actividades del 20 No. 3 (cont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- Empresas constructor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- Empresas periodísticas, publicitarias, de radiodifusión y televis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- Empresas de procesamiento automático de dat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- Empresas de telecomunicacio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(continuación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4360" y="134136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Actividades del 20 No.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- Corredores que sean personas jurídic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- Corredores que sean personas naturales, cuyas rentas no provengan exclusivamente de su trabajo o actuación person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- Comisionistas con oficina estableci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- Martilleros, agentes de aduana, embarcadores y otros que intervienen com. Marítim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868320"/>
            <a:ext cx="7772400" cy="57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00"/>
                </a:solidFill>
                <a:latin typeface="Century Gothic"/>
              </a:rPr>
              <a:t>2.- Impuestos Indirecto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Grava la riqueza cuando se consu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- 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Contribuyente de Derecho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satisface la obligación tributar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- </a:t>
            </a:r>
            <a:r>
              <a:rPr b="1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Contribuyente de Hecho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soporta carga del tribu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(continuación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Actividades del 20 No.4 (cont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- Agentes de seguros que no sean personas naturale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- Clínicas, hospitales, laboratorios y otros establecimientos análogos particulare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- Empresas de diversión y esparcimien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Interpretaciones del SII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Actividades del art. 20 No. 3 incluye rentas del “comercio”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Se hace referencia al artículo 3 del Código de Comercio (def. de acto de comercio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- Contrato de suministro – hoy super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- Gestor de Negoci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D.- El servicio debe prestarse o</a:t>
            </a:r>
            <a:br>
              <a:rPr sz="3200"/>
            </a:b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utilizarse en Chil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Territorialidad – art. 5 Le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Servicio Prestado en Chi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- cuando la actividad que genera el servicio es desarrollada en el territorio nacio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(continuación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Territorialidad – art. 5 Le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Servicio Utilizado en Ch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- cuando la actividad que genera el servicio es desarrollada fuera pero el beneficio es en Ch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1904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00"/>
                </a:solidFill>
                <a:latin typeface="Century Gothic"/>
              </a:rPr>
              <a:t>HECHOS GRAVADOS</a:t>
            </a:r>
            <a:br>
              <a:rPr sz="3600"/>
            </a:br>
            <a:r>
              <a:rPr b="1" lang="es-MX" sz="3600" spc="-1" strike="noStrike">
                <a:solidFill>
                  <a:srgbClr val="ffff00"/>
                </a:solidFill>
                <a:latin typeface="Century Gothic"/>
              </a:rPr>
              <a:t>ESPECIALE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33520" y="350532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VENT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Hechos gravados especiales en</a:t>
            </a:r>
            <a:br>
              <a:rPr sz="3200"/>
            </a:b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las venta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Operaciones, transacciones o prestaciones que la ley expresamente EQUIPARA a ventas. – Establecidas artículo 8 de la Le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Aunque no tengan todos los elementos del hecho gravado básico de ventas (p.e. puede faltar calidad de “vendedor”, habitualidad, etc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00"/>
                </a:solidFill>
                <a:latin typeface="Century Gothic"/>
              </a:rPr>
              <a:t>Listado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Importacio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- Aportes a sociedad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- Adjudicacio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- Retiros efectuados por vendedor o dueñ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- Retiros destinados a rifas y sorte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- Entregas o distribuciones gratuit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- Contratos instalación o confección de especialidad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00"/>
                </a:solidFill>
                <a:latin typeface="Century Gothic"/>
              </a:rPr>
              <a:t>Listado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Contratos generales de construc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Venta de establecimiento de comercio y de otras universidad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Promesa de venta de bienes corporales muebles de propiedad de una empresa constructora de su giro, contratos de arriendo con opción de comp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venta bienes activo fijo antes 48 ó 12 me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1.- Importacion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Importació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introducción legal de mercaderías extranjeras para su uso o consumo en el paí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No se distingue si hay habitualid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Importación realizada por cualquier persona, sea o no vendedor o prestador de servici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Impuesto se devenga al consumarse legalmente la importación (terminad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2.- Aportes a sociedad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Aporte o transferencia de dominio o de una cuota de dominio con ocasión 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constitución, ampliación, modific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  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SOCIED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Bienes corporales muebles o inmuebles de propiedad de empresas constructoras, o en derechos reales constituidos sobre dichos bie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Aportante debe tener calidad de “vendedor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00"/>
                </a:solidFill>
                <a:latin typeface="Century Gothic"/>
              </a:rPr>
              <a:t>Impuesto a las Ventas y Servicios</a:t>
            </a:r>
            <a:br>
              <a:rPr sz="3600"/>
            </a:br>
            <a:r>
              <a:rPr b="1" lang="es-MX" sz="3600" spc="-1" strike="noStrike">
                <a:solidFill>
                  <a:srgbClr val="ffff00"/>
                </a:solidFill>
                <a:latin typeface="Century Gothic"/>
              </a:rPr>
              <a:t>es un impuesto Indirecto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Mayor recaudación fisc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De traslación o recarg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Beneficio fisc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Declaración y pago mensu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3.- Adjudicaciones en liquidaciones</a:t>
            </a:r>
            <a:br>
              <a:rPr sz="3200"/>
            </a:b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de sociedades (8,c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641600"/>
            <a:ext cx="7772400" cy="27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Adjudicación de bienes corporales mueb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Dichos muebles sean propios del giro de la respectiva sociedad o comunid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Adjudicación debe ser originada por liquidación de sociedad o comunid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Adjudicación de bienes corporales</a:t>
            </a:r>
            <a:br>
              <a:rPr sz="3200"/>
            </a:b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inmuebl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Adjudicación de bienes corporales inmueb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Liquidación de sociedades que sean empresas constructoras, comunidades, cooperativas de viviend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No es necesario que sea del giro de la constructora, comunidad o cooperativ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4.- Retiros efectuados por </a:t>
            </a:r>
            <a:br>
              <a:rPr sz="3200"/>
            </a:b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empresario, socios, director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Retiros efectuados por empresario, socios, directores o emplead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Bienes corporales muebles del gir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Objeto: uso o consumo personal de tales personas o sus famili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Retiro de Bienes Corporales</a:t>
            </a:r>
            <a:br>
              <a:rPr sz="3200"/>
            </a:b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inmuebl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Retiro de inmue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del giro de una empresa constructor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construido total o parcialmente por ell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Si forma parte de activo fijo (mas de 12 meses) el retiro no se afecta con IV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772400" cy="113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Faltantes de inventario – Se </a:t>
            </a:r>
            <a:br>
              <a:rPr sz="3200"/>
            </a:b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consideran retiro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Century Gothic"/>
              </a:rPr>
              <a:t>Presunción legal de que los faltantes de inventario constituyen retir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Century Gothic"/>
              </a:rPr>
              <a:t>Es necesario justificar salida de faltantes mediante documentación fehacient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5.- Bienes entregados a rifas o</a:t>
            </a:r>
            <a:br>
              <a:rPr sz="3200"/>
            </a:b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distribuidos gratuitament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(art. 8 letra 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Retiro de bienes corporales mueb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Sean o no del giro de la empres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Destinados a rifas y sorte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Fines promocionales o de propagan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Realizado por vendedores (no prestadores de S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No es necesaria la habitualid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5.1 Bienes distribuidos</a:t>
            </a:r>
            <a:br>
              <a:rPr sz="3200"/>
            </a:b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gratuitament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(art. 8 letra 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Entrega o distribución gratuita de bie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realizados con fines de promoción o propagan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calidad de vended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pueden o no ser del giro del vended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No cumplen requisitos distribuciones efectuadas con fin simplemente benéfic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539640" y="620640"/>
            <a:ext cx="81360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anotaciones cronológicas en sistema de inventario permanente, contabilidad fidedig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Denuncias por robos o acciden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Informes liquidadoras de segur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- Mermas reconocidas por ley u organismo E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6.- Contrato de Instalación o </a:t>
            </a:r>
            <a:br>
              <a:rPr sz="3200"/>
            </a:b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Confección de Especialidad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Tiene por objeto la incorporación de elementos que adhieren permanentemente al inmueble y son necesarios para que cumpla cabalmente la función específica para lo cual se construy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Se equiparan a venta cuando son a “suma alzada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7.- Contratos Generales de</a:t>
            </a:r>
            <a:br>
              <a:rPr sz="3200"/>
            </a:b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Construcción</a:t>
            </a:r>
            <a:br>
              <a:rPr sz="3200"/>
            </a:b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4360" y="213336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Concepto del contrato de construc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Contrato que tiene por finalidad la confección de una obra material inmueble nueva que comprenda al menos dos especialidades, sea que se efectúe por si mismo o por intermedio de tercero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Century Gothic"/>
              </a:rPr>
              <a:t>(continuación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IVA llega a poder del Fisco fraccionadam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en diferentes etapas de circulación produc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(productor – mayorista – minorista –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consumido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Los que intervienen en proceso 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producción, distribución y venta recuper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IV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Monto total impuesto recaudado e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diferentes etapas – SOPORTADO PO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CONSUMIDOR FI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Tip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- suma alza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• </a:t>
            </a:r>
            <a:r>
              <a:rPr b="0" lang="es-MX" sz="20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El que construye suministra materias o materias principa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- administr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• </a:t>
            </a:r>
            <a:r>
              <a:rPr b="0" lang="es-MX" sz="20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el que encarga la construcción suministra la materia o las materias primas principa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Situación Históri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- Hasta el 01.10.87 sólo se gravaban los contratos por administración (servicio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7.- Contratos Generales de</a:t>
            </a:r>
            <a:br>
              <a:rPr sz="3200"/>
            </a:b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Construcción (cont.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8.- Venta de establecimiento de </a:t>
            </a:r>
            <a:br>
              <a:rPr sz="3200"/>
            </a:b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comercio y otras universalidad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Century Gothic"/>
              </a:rPr>
              <a:t>Establecimiento de Comerci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Universalidad de hecho con existencia distinta a la de los elementos que la componen, corporales e incorporales, donde el comerciante ejerce su ofic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539640" y="620640"/>
            <a:ext cx="80647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Century Gothic"/>
              </a:rPr>
              <a:t>Universalidad de Hech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- todo conjunto de bienes corporales e incorporales unidos por su afectación a un fin común y que posee individualidad propia e independiente de los elementos que la componen (p.e. Fábricas, establecimientos industriales, bibliotecas, museos, etc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8.- Venta de establecimiento de</a:t>
            </a:r>
            <a:br>
              <a:rPr sz="3200"/>
            </a:b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comercio y otras universalidad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Requisitos del hecho gravado espec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Es el valor de los bienes corporales muebles PROPIOS DEL GIRO del establecimiento o universalidad que se vend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Calidad de “vendedor” de los bie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Se exceptúan bienes del activo inmoviliz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Excep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Cesión del derecho de herencia (art.8 letra f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8.1 Si establecimiento o </a:t>
            </a:r>
            <a:br>
              <a:rPr sz="3200"/>
            </a:b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universalidad incluyen inmuebl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Art. 8 letra 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Venta de establecimientos de comercio y otras universalidades que comprenden inmuebles del giro de una empresa constructo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deben pertenecer el activo realizable, ser “vendedor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9.- Promesa de venta de bienes</a:t>
            </a:r>
            <a:br>
              <a:rPr sz="3200"/>
            </a:b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corporales inmuebl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Promesa de vent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bienes corporales inmueb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de propiedad de una empresa constructo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del gir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construidos total o parcialmente por ell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10.- Contratos de arriendo con opción </a:t>
            </a:r>
            <a:br>
              <a:rPr sz="3200"/>
            </a:b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de compra de b.c. inmuebl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Contrato de arriendo con opción de comp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celebrados por empresas constructora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respecto de inmuebles total 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parcialmente construidos por ell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se asimilan a las promesas de venta para la aplicación del tributo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12.- Venta de Bienes del Activo</a:t>
            </a:r>
            <a:br>
              <a:rPr sz="3200"/>
            </a:b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Fijo (art. 8 letra m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Venta de bienes corporales muebles o inmueb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Clasificados en activo fij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Venta antes de los 48 meses contados desde su adquisición (muebles) ó 12 meses (inmue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Que el contribuyente haya tenido derecho al CREDITO FISCAL por IVA soport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62120" y="1523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00"/>
                </a:solidFill>
                <a:latin typeface="Century Gothic"/>
              </a:rPr>
              <a:t>HECHOS GRAVADOS</a:t>
            </a:r>
            <a:br>
              <a:rPr sz="3600"/>
            </a:br>
            <a:r>
              <a:rPr b="1" lang="es-MX" sz="3600" spc="-1" strike="noStrike">
                <a:solidFill>
                  <a:srgbClr val="ffff00"/>
                </a:solidFill>
                <a:latin typeface="Century Gothic"/>
              </a:rPr>
              <a:t>ESPECIALE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2960280"/>
            <a:ext cx="7772400" cy="22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SERVICI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00"/>
                </a:solidFill>
                <a:latin typeface="Century Gothic"/>
              </a:rPr>
              <a:t>1.- Arrendamiento de bienes</a:t>
            </a:r>
            <a:br>
              <a:rPr sz="3600"/>
            </a:br>
            <a:r>
              <a:rPr b="1" lang="es-MX" sz="3600" spc="-1" strike="noStrike">
                <a:solidFill>
                  <a:srgbClr val="ffff00"/>
                </a:solidFill>
                <a:latin typeface="Century Gothic"/>
              </a:rPr>
              <a:t>muebles e inmueble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4360" y="240336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Century Gothic"/>
              </a:rPr>
              <a:t>Arrendamiento, subarrendamiento, usufructo o cualquier otra forma de cesión temporal del uso y goce de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(continuación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Cuantía del impuesto no se increment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por aplicación del impues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IVA no repercute en mayor costo 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producción, distribución n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comercializ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No influye en fijación de precios de ven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179280" y="620640"/>
            <a:ext cx="84981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a.- bienes corporales mueb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b.- inmuebles amoblad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c.- inmuebles con instalaciones o maquinarias que permitan el ejercicio de una actividad comercial o industri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- d.- todo tipo de establecimiento de comercio</a:t>
            </a: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685800" y="1641600"/>
            <a:ext cx="7772400" cy="27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3000"/>
          </a:bodyPr>
          <a:p>
            <a:pPr marL="216000" indent="-21600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Arrendamiento bienes corporales muebles que forman parte del activo fij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Arrendamiento entre particula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Leas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Sobre bienes cuya venta está exenta de IV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1.- Arrendamiento de bienes</a:t>
            </a:r>
            <a:br>
              <a:rPr sz="3200"/>
            </a:b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corporales muebles (cont.)</a:t>
            </a: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685800" y="190476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Arrendamiento, subarrendamiento, otras formas de cesión temporal de uso o go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Inmuebles amoblad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- mobiliario y menaje en cantidad y naturaleza suficiente para ser habit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1.- Arrendamiento de inmuebles </a:t>
            </a:r>
            <a:br>
              <a:rPr sz="3200"/>
            </a:b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amoblados</a:t>
            </a: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826920" y="5157720"/>
            <a:ext cx="7561440" cy="119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IVA  se aplica sólo a renta que exceda del 11% o del  avalúo fiscal al año o en la proporción que corresponda (sólo aplicable a arriendo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685800" y="1641600"/>
            <a:ext cx="7772400" cy="29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Inmuebles no agrícolas que tengan instalaciones o maquinarias que permitan desarrollar actividad comercial o industr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Inmuebles agrícolas, en la parte que tengan actividades industriales anexas o complementarias desarrolladas dentro del pred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1.- Arrendamiento de inmuebles </a:t>
            </a:r>
            <a:br>
              <a:rPr sz="3200"/>
            </a:b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con instalaciones</a:t>
            </a: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971640" y="5805360"/>
            <a:ext cx="748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Century Gothic"/>
              </a:rPr>
              <a:t>IVA sólo renta que exceda del 11% del avaluo fiscal o de la cantidad proporcional que corresponda (arriendo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Arrendamiento, subarrendamiento, cualquier forma de cesión temporal del uso y goc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Bienes incorporales que tiene su origen en “propiedad intelectual” y “propiedad industrial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No se grava la constitución del derecho, ni la enajenació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2.- Arrendamiento de marcas, </a:t>
            </a:r>
            <a:br>
              <a:rPr sz="3200"/>
            </a:b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patentes y prestaciones similares</a:t>
            </a: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00"/>
                </a:solidFill>
                <a:latin typeface="Century Gothic"/>
              </a:rPr>
              <a:t>3.- Estacionamiento de vehículos </a:t>
            </a:r>
            <a:br>
              <a:rPr sz="3600"/>
            </a:br>
            <a:r>
              <a:rPr b="1" lang="es-MX" sz="3600" spc="-1" strike="noStrike">
                <a:solidFill>
                  <a:srgbClr val="ffff00"/>
                </a:solidFill>
                <a:latin typeface="Century Gothic"/>
              </a:rPr>
              <a:t>en playas de estacionamiento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641600"/>
            <a:ext cx="7772400" cy="27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Estacionamiento de vehículo en playas de estacionamiento u otros lugares destinado a dicho f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53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53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- terrenos sin construcción, o construcciones liger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53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- Edificios especialmente destinados a tal efec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4.- Primas de seguros de</a:t>
            </a:r>
            <a:br>
              <a:rPr sz="3200"/>
            </a:b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cooperativas de seguro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Primas de cooperativas de servicios de segur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Antes de modificación de 1980, no constituía hecho gravado por cuanto no era actividad clasificado en Nos. 3 y 4 art. 20 Ley Renta, sino que se clasificaban en el número 5 del mencionado precep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Existen ciertas exenciones aplicab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“</a:t>
            </a: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Base Imponible” –precio</a:t>
            </a:r>
            <a:br>
              <a:rPr sz="3200"/>
            </a:b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pagado por consumidor final</a:t>
            </a: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Concepto “valor agregado” no es en rig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el hecho grav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Se establece un impuesto a Ventas 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Servici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Sistema dotado de mecanismo que impi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efecto “cascada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Mecanismo demuestra que en realidad 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persigue un porcentaje del “valor final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Estructura General de la Ley</a:t>
            </a:r>
            <a:br>
              <a:rPr sz="3200"/>
            </a:b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(Decreto Ley 825 de 1974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Título I – Normas Gener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- Materia y Destino del Impuesto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  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Definiciones, Contribuyentes, Otr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Título I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- Impuesto al Valor agreg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Título II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- Impuestos Especiales a las Ventas 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  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Servici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Título I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- Administración del Impues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2T15:01:31Z</dcterms:created>
  <dc:creator>JCARRAHA</dc:creator>
  <dc:description/>
  <dc:language>en-US</dc:language>
  <cp:lastModifiedBy>.</cp:lastModifiedBy>
  <dcterms:modified xsi:type="dcterms:W3CDTF">2007-04-10T13:52:31Z</dcterms:modified>
  <cp:revision>28</cp:revision>
  <dc:subject/>
  <dc:title>Presentación de PowerPoint</dc:title>
</cp:coreProperties>
</file>