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AE2-F7B5-4778-80E3-22E274B2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14C-5713-4357-AEB3-A00B8F56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051-F72A-41E6-A112-95B03A63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8E9-82C4-4320-BF26-CD45EAA4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98C-F621-47AB-9730-D5B33D87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306B-A5CC-4492-B632-6C6166B5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F1A-A3D1-4740-A918-58C227A2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56B-AD1E-48D1-92A9-B3AFDD81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EB5-7941-46E9-87A5-730166EC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4CB-DB9C-4A0B-9C26-8C461BEB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637-0593-427E-B4C1-E35690E1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0AF-A29B-4011-81CE-986476CB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7594-A6DE-45C2-B0B5-A48165A2DE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240" y="-484200"/>
            <a:ext cx="3398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1080" rIns="11160" tIns="64116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QUEMA IMPUESTOS A LA R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95280" y="557280"/>
            <a:ext cx="8280360" cy="5608080"/>
            <a:chOff x="395280" y="557280"/>
            <a:chExt cx="8280360" cy="5608080"/>
          </a:xfrm>
        </p:grpSpPr>
        <p:grpSp>
          <p:nvGrpSpPr>
            <p:cNvPr id="43" name=""/>
            <p:cNvGrpSpPr/>
            <p:nvPr/>
          </p:nvGrpSpPr>
          <p:grpSpPr>
            <a:xfrm>
              <a:off x="496080" y="1851480"/>
              <a:ext cx="3231360" cy="862560"/>
              <a:chOff x="496080" y="1851480"/>
              <a:chExt cx="3231360" cy="862560"/>
            </a:xfrm>
          </p:grpSpPr>
          <p:sp>
            <p:nvSpPr>
              <p:cNvPr id="44" name=""/>
              <p:cNvSpPr/>
              <p:nvPr/>
            </p:nvSpPr>
            <p:spPr>
              <a:xfrm>
                <a:off x="16066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IRL y Soc. de Person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960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.A.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n CP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71764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Bs. Raíces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V. Mobiliari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117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0080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223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4030560" y="1851480"/>
              <a:ext cx="1918440" cy="1941120"/>
              <a:chOff x="4030560" y="1851480"/>
              <a:chExt cx="1918440" cy="1941120"/>
            </a:xfrm>
          </p:grpSpPr>
          <p:sp>
            <p:nvSpPr>
              <p:cNvPr id="51" name=""/>
              <p:cNvSpPr/>
              <p:nvPr/>
            </p:nvSpPr>
            <p:spPr>
              <a:xfrm>
                <a:off x="4030560" y="1851480"/>
                <a:ext cx="1918440" cy="118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Utilidad en enajenación de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rt. 17 N° 8 letras: a) b), c), d) y 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ciones – Pertenencias Mineras Derechos de Agua – Propiedad Intelectual – et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No habitual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030560" y="336132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Primera Categoría -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939200" y="30376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395280" y="2714400"/>
              <a:ext cx="4644720" cy="2048760"/>
              <a:chOff x="395280" y="2714400"/>
              <a:chExt cx="4644720" cy="2048760"/>
            </a:xfrm>
          </p:grpSpPr>
          <p:sp>
            <p:nvSpPr>
              <p:cNvPr id="55" name=""/>
              <p:cNvSpPr/>
              <p:nvPr/>
            </p:nvSpPr>
            <p:spPr>
              <a:xfrm>
                <a:off x="160704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9608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18000" y="2714400"/>
                <a:ext cx="100944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96080" y="357696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Impuesto Art. 21 – Gastos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01160" y="3253320"/>
                <a:ext cx="0" cy="323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10960" y="3361320"/>
                <a:ext cx="1817640" cy="10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09800" y="32533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09800" y="4439880"/>
                <a:ext cx="30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39560" y="44398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03920" y="325332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03920" y="3469320"/>
                <a:ext cx="40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07840" y="3469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07840" y="4655520"/>
                <a:ext cx="262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33680" y="465552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27440" y="422424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tiros y G.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5280" y="4116240"/>
                <a:ext cx="12117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001160" y="557280"/>
              <a:ext cx="6866640" cy="1294200"/>
              <a:chOff x="1001160" y="557280"/>
              <a:chExt cx="6866640" cy="1294200"/>
            </a:xfrm>
          </p:grpSpPr>
          <p:sp>
            <p:nvSpPr>
              <p:cNvPr id="72" name=""/>
              <p:cNvSpPr/>
              <p:nvPr/>
            </p:nvSpPr>
            <p:spPr>
              <a:xfrm>
                <a:off x="16066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06680" y="120420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Capit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001160" y="664920"/>
                <a:ext cx="60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001160" y="6649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11760" y="88056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111760" y="152784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414520" y="1527840"/>
                <a:ext cx="80784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4344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616840" y="1312200"/>
                <a:ext cx="232236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2616840" y="664920"/>
                <a:ext cx="181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57200" y="5572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ª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261920" y="880560"/>
                <a:ext cx="0" cy="9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444280" y="664920"/>
                <a:ext cx="131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050160" y="1851480"/>
              <a:ext cx="2625480" cy="2372760"/>
              <a:chOff x="6050160" y="1851480"/>
              <a:chExt cx="2625480" cy="2372760"/>
            </a:xfrm>
          </p:grpSpPr>
          <p:sp>
            <p:nvSpPr>
              <p:cNvPr id="86" name=""/>
              <p:cNvSpPr/>
              <p:nvPr/>
            </p:nvSpPr>
            <p:spPr>
              <a:xfrm>
                <a:off x="6756840" y="18514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Trabaj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5016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b. Depend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Sueldos y Pension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6388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fesionales independien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Honorario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50160" y="3577320"/>
                <a:ext cx="1211760" cy="64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de 2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554520" y="1959120"/>
                <a:ext cx="20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7867800" y="1959120"/>
                <a:ext cx="20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488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06976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554880" y="325332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5488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6504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95280" y="3253320"/>
              <a:ext cx="8280000" cy="2912040"/>
              <a:chOff x="395280" y="3253320"/>
              <a:chExt cx="8280000" cy="2912040"/>
            </a:xfrm>
          </p:grpSpPr>
          <p:sp>
            <p:nvSpPr>
              <p:cNvPr id="98" name=""/>
              <p:cNvSpPr/>
              <p:nvPr/>
            </p:nvSpPr>
            <p:spPr>
              <a:xfrm>
                <a:off x="4030560" y="476316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lobal Complementari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progresiv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30560" y="551808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di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35% y ot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95280" y="476316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5280" y="551808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111400" y="497880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111400" y="573408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39200" y="519480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33320" y="594972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72880" y="3253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545440" y="4439520"/>
                <a:ext cx="282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45440" y="443952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58800" y="4871160"/>
                <a:ext cx="17164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Naturales con Domicilio o Residencia en Chi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58800" y="5518080"/>
                <a:ext cx="1716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sin Domicilio ni Residencia en Chile (Personas Naturales o Jurídic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49360" y="497880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949360" y="573408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261920" y="4223880"/>
                <a:ext cx="1009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 percibid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2843280" y="2708280"/>
            <a:ext cx="77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ime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tegor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sa 1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70160" y="443700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6360" y="524988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F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45" idx="1"/>
            <a:endCxn id="58" idx="1"/>
          </p:cNvCxnSpPr>
          <p:nvPr/>
        </p:nvCxnSpPr>
        <p:spPr>
          <a:xfrm rot="10800000">
            <a:off x="496080" y="2120400"/>
            <a:ext cx="360" cy="1725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 flipH="1" rot="16200000">
            <a:off x="3587760" y="3188880"/>
            <a:ext cx="1497600" cy="1688400"/>
          </a:xfrm>
          <a:prstGeom prst="bentConnector3">
            <a:avLst>
              <a:gd name="adj1" fmla="val 515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48:45Z</dcterms:created>
  <dc:creator> Rodrigo Rojas</dc:creator>
  <dc:description/>
  <dc:language>en-US</dc:language>
  <cp:lastModifiedBy> Rodrigo Rojas</cp:lastModifiedBy>
  <dcterms:modified xsi:type="dcterms:W3CDTF">2007-03-05T15:37:51Z</dcterms:modified>
  <cp:revision>20</cp:revision>
  <dc:subject/>
  <dc:title>Diapositiva 1</dc:title>
</cp:coreProperties>
</file>