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BCF-F046-43AE-99C1-C8980F15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C796-6BCA-4A30-8065-384C2941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EFD-AF4D-4D00-9964-49CBFA15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7304-7EDC-460C-8427-60CB9BC5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0860-5C35-4B85-83B4-1B03248A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9820-9D3A-475F-AB37-B69CD4AD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D7A6-0A3E-484B-B9C4-B413331B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030-48C2-47F8-9E6D-A5141E0B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399C-50F7-440C-B821-0EF18D36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32E-574E-4DA1-B93C-3AF20BCB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BE37-FC85-42AD-A36E-90F2224D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FD9-348B-4E6D-A9C7-0BA755C4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39F5-B346-4F47-B24E-F4AE6D78A0F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240" y="-484200"/>
            <a:ext cx="3398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1080" rIns="11160" tIns="64116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QUEMA IMPUESTOS A LA R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95280" y="557280"/>
            <a:ext cx="8280360" cy="5608080"/>
            <a:chOff x="395280" y="557280"/>
            <a:chExt cx="8280360" cy="5608080"/>
          </a:xfrm>
        </p:grpSpPr>
        <p:grpSp>
          <p:nvGrpSpPr>
            <p:cNvPr id="43" name=""/>
            <p:cNvGrpSpPr/>
            <p:nvPr/>
          </p:nvGrpSpPr>
          <p:grpSpPr>
            <a:xfrm>
              <a:off x="496080" y="1851480"/>
              <a:ext cx="3231360" cy="862560"/>
              <a:chOff x="496080" y="1851480"/>
              <a:chExt cx="3231360" cy="862560"/>
            </a:xfrm>
          </p:grpSpPr>
          <p:sp>
            <p:nvSpPr>
              <p:cNvPr id="44" name=""/>
              <p:cNvSpPr/>
              <p:nvPr/>
            </p:nvSpPr>
            <p:spPr>
              <a:xfrm>
                <a:off x="160668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IRL y Soc. de Person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9608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.A.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n CP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71764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Bs. Raíces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V. Mobiliari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1176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0080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2236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4030560" y="1851480"/>
              <a:ext cx="1918440" cy="1941120"/>
              <a:chOff x="4030560" y="1851480"/>
              <a:chExt cx="1918440" cy="1941120"/>
            </a:xfrm>
          </p:grpSpPr>
          <p:sp>
            <p:nvSpPr>
              <p:cNvPr id="51" name=""/>
              <p:cNvSpPr/>
              <p:nvPr/>
            </p:nvSpPr>
            <p:spPr>
              <a:xfrm>
                <a:off x="4030560" y="1851480"/>
                <a:ext cx="1918440" cy="118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Utilidad en enajenación de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rt. 17 N° 8 letras: a) b), c), d) y 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ciones – Pertenencias Mineras Derechos de Agua – Propiedad Intelectual – et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No habitual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030560" y="336132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Único Primera Categoría - 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939200" y="303768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395280" y="2714400"/>
              <a:ext cx="4644720" cy="2048760"/>
              <a:chOff x="395280" y="2714400"/>
              <a:chExt cx="4644720" cy="2048760"/>
            </a:xfrm>
          </p:grpSpPr>
          <p:sp>
            <p:nvSpPr>
              <p:cNvPr id="55" name=""/>
              <p:cNvSpPr/>
              <p:nvPr/>
            </p:nvSpPr>
            <p:spPr>
              <a:xfrm>
                <a:off x="1607040" y="271440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mera Categoría 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96080" y="271440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mera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718000" y="2714400"/>
                <a:ext cx="100944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96080" y="357696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Impuesto Art. 21 – Gastos Rechaz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01160" y="3253320"/>
                <a:ext cx="0" cy="323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10960" y="3361320"/>
                <a:ext cx="1817640" cy="10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09800" y="3253320"/>
                <a:ext cx="0" cy="11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09800" y="4439880"/>
                <a:ext cx="30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39560" y="443988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303920" y="325332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303920" y="3469320"/>
                <a:ext cx="40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07840" y="3469320"/>
                <a:ext cx="0" cy="11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707840" y="4655520"/>
                <a:ext cx="262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33680" y="465552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27440" y="4224240"/>
                <a:ext cx="131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tiros y G. Rechaz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5280" y="4116240"/>
                <a:ext cx="12117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1001160" y="557280"/>
              <a:ext cx="6866640" cy="1294200"/>
              <a:chOff x="1001160" y="557280"/>
              <a:chExt cx="6866640" cy="1294200"/>
            </a:xfrm>
          </p:grpSpPr>
          <p:sp>
            <p:nvSpPr>
              <p:cNvPr id="72" name=""/>
              <p:cNvSpPr/>
              <p:nvPr/>
            </p:nvSpPr>
            <p:spPr>
              <a:xfrm>
                <a:off x="1606680" y="55728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1ª.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06680" y="120420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 Capit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001160" y="664920"/>
                <a:ext cx="60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001160" y="664920"/>
                <a:ext cx="0" cy="11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11760" y="88056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111760" y="152784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414520" y="1527840"/>
                <a:ext cx="80784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434480" y="55728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nt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616840" y="1312200"/>
                <a:ext cx="232236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2616840" y="664920"/>
                <a:ext cx="181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757200" y="557280"/>
                <a:ext cx="11106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ª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261920" y="880560"/>
                <a:ext cx="0" cy="97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444280" y="664920"/>
                <a:ext cx="131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050160" y="1851480"/>
              <a:ext cx="2625480" cy="2372760"/>
              <a:chOff x="6050160" y="1851480"/>
              <a:chExt cx="2625480" cy="2372760"/>
            </a:xfrm>
          </p:grpSpPr>
          <p:sp>
            <p:nvSpPr>
              <p:cNvPr id="86" name=""/>
              <p:cNvSpPr/>
              <p:nvPr/>
            </p:nvSpPr>
            <p:spPr>
              <a:xfrm>
                <a:off x="6756840" y="1851480"/>
                <a:ext cx="11106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 Trabaj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50160" y="2714400"/>
                <a:ext cx="121176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rab. Depend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Sueldos y Pension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63880" y="2714400"/>
                <a:ext cx="121176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fesionales independien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Honorario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50160" y="3577320"/>
                <a:ext cx="1211760" cy="64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Único de 2ª.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0% al 4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6554520" y="1959120"/>
                <a:ext cx="20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7867800" y="1959120"/>
                <a:ext cx="20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4880" y="1959120"/>
                <a:ext cx="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069760" y="1959120"/>
                <a:ext cx="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554880" y="325332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554880" y="3253320"/>
                <a:ext cx="80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65040" y="3253320"/>
                <a:ext cx="80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95280" y="3253320"/>
              <a:ext cx="8280000" cy="2912040"/>
              <a:chOff x="395280" y="3253320"/>
              <a:chExt cx="8280000" cy="2912040"/>
            </a:xfrm>
          </p:grpSpPr>
          <p:sp>
            <p:nvSpPr>
              <p:cNvPr id="98" name=""/>
              <p:cNvSpPr/>
              <p:nvPr/>
            </p:nvSpPr>
            <p:spPr>
              <a:xfrm>
                <a:off x="4030560" y="476316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lobal Complementari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progresiva 0% al 4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30560" y="551808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di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35% y ot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95280" y="4763160"/>
                <a:ext cx="1615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édito: según tasa que  afectaron las utilidad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5280" y="5518080"/>
                <a:ext cx="1615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édito: según tasa que afectaron las utilidad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111400" y="4978800"/>
                <a:ext cx="19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111400" y="5734080"/>
                <a:ext cx="19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39200" y="519480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33320" y="5949720"/>
                <a:ext cx="131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372880" y="3253320"/>
                <a:ext cx="0" cy="11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545440" y="4439520"/>
                <a:ext cx="282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45440" y="443952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58800" y="4871160"/>
                <a:ext cx="17164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rsonas Naturales con Domicilio o Residencia en Chi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58800" y="5518080"/>
                <a:ext cx="171648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rsonas sin Domicilio ni Residencia en Chile (Personas Naturales o Jurídica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949360" y="4978800"/>
                <a:ext cx="10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949360" y="5734080"/>
                <a:ext cx="10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261920" y="4223880"/>
                <a:ext cx="1009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ntas percibid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2843280" y="2708280"/>
            <a:ext cx="77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ime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tegor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sa 1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70160" y="443700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6360" y="524988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F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45" idx="1"/>
            <a:endCxn id="58" idx="1"/>
          </p:cNvCxnSpPr>
          <p:nvPr/>
        </p:nvCxnSpPr>
        <p:spPr>
          <a:xfrm rot="10800000">
            <a:off x="496080" y="2120400"/>
            <a:ext cx="360" cy="17258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 flipH="1" rot="16200000">
            <a:off x="3587760" y="3188880"/>
            <a:ext cx="1497600" cy="1688400"/>
          </a:xfrm>
          <a:prstGeom prst="bentConnector3">
            <a:avLst>
              <a:gd name="adj1" fmla="val 515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48:45Z</dcterms:created>
  <dc:creator> Rodrigo Rojas</dc:creator>
  <dc:description/>
  <dc:language>en-US</dc:language>
  <cp:lastModifiedBy> Rodrigo Rojas</cp:lastModifiedBy>
  <dcterms:modified xsi:type="dcterms:W3CDTF">2007-03-05T15:37:51Z</dcterms:modified>
  <cp:revision>20</cp:revision>
  <dc:subject/>
  <dc:title>Diapositiva 1</dc:title>
</cp:coreProperties>
</file>