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D57-298F-430D-A3DA-D929ACE0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849-EDA4-4A49-903D-70E07335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AF0-BCE2-429E-960A-DBA0E869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F9D-BE26-4ED0-ADF2-3C43053F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B678-9689-4646-BB09-34BB5A7F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27EC-98A6-4BC1-8F16-F22333BC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76D6-B892-4DF4-8A4C-26A35ACA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2A05-14B8-451C-B08F-FB7B980E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E058-6614-45CA-90FB-8E5767EC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9ECC-FDD3-4B6B-BE80-CEF16039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24D7-9F89-4B2C-AF99-51F599CC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1BC-89DD-474B-9F25-7DA95E03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B522-99E5-46D5-9DFB-576D0AE7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B884-80BB-4BD6-A48C-2D715D1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05B1-1EFD-462E-BD88-40BA45A8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5DDD-76B4-4E26-A6D7-6E084E6B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6477-CE18-4E89-950F-C1861B03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E5C-13AF-48AE-9903-BF2D7CD0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82E-FD1C-401B-8C59-260E7AD8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75A-2CAE-4A53-A5EC-52210F85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AE8-5805-4B61-88AB-583DF56D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84D-1C19-4ACA-BA0E-5985CF0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61F-C6DD-432D-83FA-F60F9174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66E-8EE9-49BC-B899-D8D401D5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BA3C-76CA-4F6D-8417-F83DC334EEA0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B9E4-1BAF-42EB-9B80-B19111060DC7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aeaea"/>
                </a:solidFill>
                <a:latin typeface="Century Gothic"/>
              </a:rPr>
              <a:t>Impuesto a las Ventas y Servicios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terminación del Débito Fiscal mensual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BOLE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 :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286000"/>
            <a:ext cx="2743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88 Cód. Tributar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55 LIV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FACTU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Neto: 1.00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IVA:   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: 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4149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LIBRO DE VENTAS   mes    año</a:t>
            </a:r>
            <a:r>
              <a:rPr b="0" lang="es-MX" sz="18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Día Bol del N° al N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181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5181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Fact. N° Fecha Cliente Ru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6530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8053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Totales mes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4076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Dividir por 1.19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Sumar IV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recarga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Art. 59 de la LIV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77043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gregado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pre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, reajustes, diferencias de cambio y gastos de financiamien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moratori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facturación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0" lang="es-ES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76500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333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Si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or restituciones a los compradores de devoluciones de bienes muebles o rescili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: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Venta de bienes muebles: Fecha devengamiento de IVA (emisión por entrega real o simbólic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Sentencia judicial: Fecha desde que sentencia se entienda ejecutoriad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2306160" y="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ocumentación de operaciones dejadas sin efecto, como consecuencia de devoluciones de mercaderías o resciliaciones de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bolet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Reverso de la boleta: Fecha, nombre, dirección, cédula de identidad y firma comprad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val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Emisión de nota de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ulaciones de operaciones documentadas que no configurarían hecho gravado de ventas o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sin que haya existido entrega real o simbólica de mercaderí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de remuneración percibida sin que se haya prestado el servi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1483/83 – 48/96 – 7304/78 – 1720/97 – 105/9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98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BJETIVOS DEL CRE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57200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valor agreg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 cada etap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572000"/>
            <a:ext cx="49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incidencia del 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n el consumidor fi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s la cuantificación de los hechos grava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ermite determinar la cuantía de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éb. Fiscal = B. Imp. * Tasa (19%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Century Gothic"/>
              </a:rPr>
              <a:t>Base Imponi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Naturale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Jurídica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C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836640"/>
            <a:ext cx="5976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stituye un crédito en contra Fisco, a favor contribuy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titular no puede accionar contra el Fisco, no obstante puede excepcionarse del pago del débito por la vía de rebaj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crédito con limitaciones, que tienen como finalidad cumplir objetivo económico – jurídico del I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9520" y="304920"/>
            <a:ext cx="79945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1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derecho </a:t>
            </a: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patrimonial y personalísim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rt. 39 del Reglam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Contribuyentes que pueden invocar el crédito fiscal (Art. 23 LIV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Contribuyentes del IVA (inclusive exportador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Que hayan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soportad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dan derech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(Art. 23 N° 1 al 5 de la Ley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deben distinguir requisitos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cc"/>
                </a:solidFill>
                <a:uFillTx/>
                <a:latin typeface="Century Gothic"/>
              </a:rPr>
              <a:t>Requisitos Formales</a:t>
            </a: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: (Art. 24 y 25 LIVS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04200" y="1125360"/>
            <a:ext cx="6858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160020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1. Respaldo documental.:</a:t>
            </a: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35812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. Registro en Libro de Compras.: (Art. 59 LIV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51577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3. Oportunidad del derecho: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1295280"/>
            <a:ext cx="4354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Facturas y Notas de Déb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-Comp. Liq. Grav. Aduan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Fact. Compras cambio de sujeto (IVA pag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4653000"/>
            <a:ext cx="410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Período tributario emisión factu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(o PT sigte. o subsgte. caso recepción o registro con atras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2692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413000"/>
            <a:ext cx="8820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Que los documentos de respaldo cumplan requisitos, (Art. 23 N. 5 y 54 de la LIVS y 69 y 71 bis del Reglamento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Formato preestablecido (Res. 1.667/198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Timbra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54936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completa del emis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del rece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Descripción de la operación o guía de despacho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Fecha de emisió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Que IVA recargado figure separadamente (Art. 24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y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69 de la LIV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Recepción y contabilización oportu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Efectividad de operaci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2.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Tratamiento tributario IVA extemporáne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Gasto tributario o costo del act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devolución conforme Art. 126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compensación Art. 127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REQUISITOS SUSTANT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1. 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Dan derecho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: El IVA soportado por :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 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Utilización de servicios destinad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al activo realizab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Inmuebles o utilización de servici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stinados al activo fij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o utiliz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servicios que constituyan gas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tipo general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165420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2349000"/>
            <a:ext cx="860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as ventas: Precio de venta de los bienes corporales muebles: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os servicios: Valor de las prestacion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6028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Base Imponible en l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Hechos gravados básicos y especia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sideraciones a tener present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2. </a:t>
            </a: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Relación con operacion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gravadas: (Art. 23 N° 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o hay crédito sin déb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Bienes y servicios deben estar afectos a la generación de operaciones gravad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3. Crédito Fiscal proporcional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(Art. 23 N° 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Bienes y servicios afectos a la generación tanto de operaciones gravadas y no gravad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l crédito fiscal se calcula en forma proporcional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8040" y="46944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4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las adquisiciones o utilizaciones de servicios no digan relación con</a:t>
            </a: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: (Art. 23 N° 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8040" y="1829880"/>
            <a:ext cx="777384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eaeaea"/>
                </a:solidFill>
                <a:latin typeface="Century Gothic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5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el crédito fiscal sea auténtico y cumpla normas legales y reglamentarias (Art. 23 N° 5), por tan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2598480"/>
            <a:ext cx="3049560" cy="19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No se tie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derech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1916280"/>
            <a:ext cx="5688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1 Facturas No Fidedignas o Fals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2 IVA recargado indebidam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3 Facturas que no cumplen requisitos form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Determinan improcedencia del cré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Facturas no Fidedign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Contienen irregularidades materiales por lo que no se ajustarían a la verdad: Ej.: Correcciones: alteración correlativo, et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942840" y="6444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5.1 </a:t>
            </a: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Facturas No Fidedignas o Falsa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476280"/>
            <a:ext cx="80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Facturas falsas: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 Faltan a la verdad o realidad que preten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-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Falsedad material: Alteran el sentido de la factur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Falsedad ideológica: Contienen actos o cosas falsas o mentirosas. Nunca debieran dar derecho a C.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2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otorgadas por personas no contribuyentes del impues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personas no contribuyent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operaciones no gravadas y /o exenta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Qué ocurre con el IVA rechazado al comprador y enterado por el emis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3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que no cumplen requisitos legales o reglamentario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de las factur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rma: Se desprenden por el mero exame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4000" y="0"/>
            <a:ext cx="8135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Negación del crédito fiscal, procedimientos y medios de prueba para reestablecer su derecho (Art. 23 N° 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r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3No.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0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Inc. 1°: Establece presunción de negación C.F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2°: Medidas de prevención de rechaz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3°: Medios de prueba ante objeción S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260280"/>
            <a:ext cx="8281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incluyen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ereses y gastos de financiami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Reajustes y diferencias de cambi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. Moratorios exigibles o percibidos anticipadamente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Valor envases y garantías por devolucion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mpuestos: excepto LIVS e Imp. específico combusti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deducen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onificación o descuento coetáneo a la factur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Acciones preventivas para resguardar el derecho a créd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Procedimientos y medios de prueba para reestablecer derecho a crédito fiscal en caso de objeción por el SII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. Pago con cheque nominativo al emisor con cuenta corriente del comprador o beneficiario del servicio. (Cheque original o fotoc. autorizada por el banco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. Anotación en el dorso del cheque RUT del emisor y N. de la factu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. Que la cuenta corriente bancaria se encuentra registrada en la contabilidad, (si procede) y que la operación se registró oportunamente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. Cumplimiento de requisitos de for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. Que la operación fue real y efectiv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(Transporte de las mercaderías; ingreso a bodega; anotación en controles de inventario y otros instrumentos de prueb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l procedimiento anterior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n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773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Determinación del Crédito Fiscal Mensual: (Art. 24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recargado en factur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comprob. Importacio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notas de débito recibidas por aumentos del impuesto facturad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62064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-) IVA según notas de créditos recibid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or bonificaciones, descuentos y devoluc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e mercaderías o resciliaciones de servici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Que emisores hayan rebajado de sus débi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iscales, conforme a Art. 2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Jurisprudencia Administrativa del S.I.I.</a:t>
            </a:r>
            <a:br>
              <a:rPr sz="3600"/>
            </a:b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Oficios Recomendad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3391/ 88 – 1471/96 – 74/88 – 5730/80 – 1447/79 – 1755/77 – 4175/87 – 1969/90 – 439/77 – 1739/97 – 4825/95 – 5476/7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67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por operaciones de crédito de dinero. Exentos conforme a N° 10, letra E, Artículo 12 de la LIV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Monto de la variación de U.F. Por operaciones a plazo que ya pagaron el impuesto (saldos de preci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se excepcion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260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Conceptos relevant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62064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jemplo: Venta de productos afectos a impuestos adicionales al IV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peración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B. Imp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mpt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Venta bebidas alcohólic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2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IVA e IAB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Fletes y embalaje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1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VA       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492280"/>
            <a:ext cx="71625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567/97 – 191/95 -  3136/97 – 16/92 – 4268/84 – 2564/81 – 4333/91 – 2007/96 – 1051/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DEB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ébito Fiscal: Suma del IVA recargado en las ventas y servicios en un período tributar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tribuyentes tendrán derecho a rebajar el débito fiscal contra el crédito fiscal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ase imponible * 19% = Débito Fisc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n la última etapa de circulación, el consumidor final soporta la totalidad del débito fisc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.</cp:lastModifiedBy>
  <dcterms:modified xsi:type="dcterms:W3CDTF">2007-04-25T14:29:37Z</dcterms:modified>
  <cp:revision>393</cp:revision>
  <dc:subject/>
  <dc:title>UNIVERSIDAD CATOLICA DE CHILE DIPLOMADO EN GESTION TRIBUTARIA </dc:title>
</cp:coreProperties>
</file>