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30C0-BDC1-4E65-BE99-775C8C881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ABBD-619B-44E7-92D6-5865CB42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8B1F-B43D-4F0E-843E-1D6EDC4CD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D1FA-99CB-4AAD-B201-B808C11BA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2EF9-2A52-41C7-B605-5C0B932D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DB06-9AF5-42B0-B749-FEA2848E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5A39-8AB9-4FA1-86CD-016C02DF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2A95-DF79-4A11-8ECE-1890B0D2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B4FB-9D64-4833-BCFD-02FCFCA0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E8FE-8660-478C-B59B-4692E327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4931-D388-49DA-9402-BB80BFFF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0334-5DFD-42D6-AD63-CEB5B6E9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B7A1-0F2B-4A83-9651-BDF8FDEC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2F50-4B60-4070-B0C4-7CB3FF83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B07C-EA2A-4160-8A65-F01ECDD5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D58F-1897-46BF-9699-2B07081D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B5E0-2EBB-42F8-B458-8E61FF57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EE6B-B4DC-4202-9FF7-E2FC975E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1B44-640B-487E-A26E-A9045290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698B-EDFB-4223-B1E1-277A07D3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30E9-65E4-403A-B1D8-0C907EA3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1E8B-2762-44BD-8920-52A47865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8D88-9DE3-4414-86D8-AE99EF3E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F749-379E-4370-8928-2E296C7C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29C1-2E9A-42F5-B854-1D12BC4C8DCD}" type="slidenum">
              <a:rPr b="0" lang="es-ES_trad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12AE-06E4-41C9-BD18-80E4354C53A5}" type="slidenum">
              <a:rPr b="0" lang="es-ES_trad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aeaea"/>
                </a:solidFill>
                <a:latin typeface="Century Gothic"/>
              </a:rPr>
              <a:t>Impuesto a las Ventas y Servicios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Determinación del Débito Fiscal mensual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752480"/>
            <a:ext cx="2209680" cy="1676520"/>
          </a:xfrm>
          <a:prstGeom prst="flowChartDocumen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BOLET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Total :1.19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2286000"/>
            <a:ext cx="2743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eaeaea"/>
                </a:solidFill>
                <a:latin typeface="Century Gothic"/>
              </a:rPr>
              <a:t>Art. 88 Cód. Tributari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eaeaea"/>
                </a:solidFill>
                <a:latin typeface="Century Gothic"/>
              </a:rPr>
              <a:t>Art. 55 LIV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1752480"/>
            <a:ext cx="2210040" cy="1676520"/>
          </a:xfrm>
          <a:prstGeom prst="flowChartDocumen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FACTUR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Neto: 1.00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IVA:   19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Total: 1.19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3581280"/>
            <a:ext cx="0" cy="1143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4800600"/>
            <a:ext cx="106668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29600" y="3276720"/>
            <a:ext cx="0" cy="14475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7238880" y="4800600"/>
            <a:ext cx="9144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414972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LIBRO DE VENTAS   mes    año</a:t>
            </a:r>
            <a:r>
              <a:rPr b="0" lang="es-MX" sz="1800" spc="-1" strike="noStrike">
                <a:solidFill>
                  <a:srgbClr val="eaeaea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4600" y="464832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eaea"/>
                </a:solidFill>
                <a:latin typeface="Century Gothic"/>
              </a:rPr>
              <a:t>Día Bol del N° al N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05520" y="51814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eaea"/>
                </a:solidFill>
                <a:latin typeface="Century Gothic"/>
              </a:rPr>
              <a:t>Neto Iva Tota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14600" y="518148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eaea"/>
                </a:solidFill>
                <a:latin typeface="Century Gothic"/>
              </a:rPr>
              <a:t>Fact. N° Fecha Cliente Ru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65300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eaea"/>
                </a:solidFill>
                <a:latin typeface="Century Gothic"/>
              </a:rPr>
              <a:t>Neto Iva Tota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580536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eaea"/>
                </a:solidFill>
                <a:latin typeface="Century Gothic"/>
              </a:rPr>
              <a:t>Totales mes: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56000" y="4005360"/>
            <a:ext cx="4343400" cy="2514600"/>
          </a:xfrm>
          <a:prstGeom prst="flowChartDocumen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00000" y="407664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s-MX" sz="1600" spc="-1" strike="noStrike">
                <a:solidFill>
                  <a:srgbClr val="eaeaea"/>
                </a:solidFill>
                <a:latin typeface="Century Gothic"/>
              </a:rPr>
              <a:t>Dividir por 1.19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93080" y="3860640"/>
            <a:ext cx="1676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eaeaea"/>
                </a:solidFill>
                <a:latin typeface="Century Gothic"/>
              </a:rPr>
              <a:t>Sumar IV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eaeaea"/>
                </a:solidFill>
                <a:latin typeface="Century Gothic"/>
              </a:rPr>
              <a:t>recargad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04000" y="60930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Century Gothic"/>
              </a:rPr>
              <a:t>Art. 59 de la LIV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99640" y="260280"/>
            <a:ext cx="770436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Ajustes al Débito Fisc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Agregados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: Según notas de débito emitidas en un período tributario, de hechos gravados devengados en el mismo período tributario o anteriores: (Art. 36 del Reglam.)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81120" indent="-25668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Diferencias de preci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81120" indent="-25668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Intereses, reajustes, diferencias de cambio y gastos de financiamient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81120" indent="-25668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Intereses moratorio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81120" indent="-25668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Diferencias de facturación del mismo períod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99640" y="242064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7480" indent="-87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aeaea"/>
                </a:solidFill>
                <a:uFillTx/>
                <a:latin typeface="Verdana"/>
              </a:rPr>
              <a:t> </a:t>
            </a:r>
            <a:r>
              <a:rPr b="0" lang="es-ES" sz="3200" spc="-1" strike="noStrike" u="sng">
                <a:solidFill>
                  <a:srgbClr val="eaeaea"/>
                </a:solidFill>
                <a:uFillTx/>
                <a:latin typeface="Century Gothic"/>
              </a:rPr>
              <a:t>Deducciones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: Según notas de crédito emitidas en un período, por hecho gravados devengados en el mismo período tributario o anteriores (Art. 21 de la LIVS y 36 del Reglam.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8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2340000" y="76500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 u="sng">
                <a:solidFill>
                  <a:srgbClr val="eaeaea"/>
                </a:solidFill>
                <a:uFillTx/>
                <a:latin typeface="Century Gothic"/>
              </a:rPr>
              <a:t>Ajustes al Débito Fiscal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4000" y="1341000"/>
            <a:ext cx="784836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Bonificaciones y descuentos posteriores a la     facturación, por operaciones afectas del mismo período o anterior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Restituciones por devoluciones de depósitos en garantía por envases, siempre que hayan conformado base imponible afect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Diferencias facturación excesiva, siempre que se subsanen en el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Century Gothic"/>
                <a:ea typeface="Times New Roman"/>
              </a:rPr>
              <a:t>mismo período tributario</a:t>
            </a: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2340000" y="33336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Deducciones Sin Plaz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171360" indent="-17136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Por restituciones a los compradores de devoluciones de bienes muebles o resciliación de servicio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171360" indent="-17136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Plazo: Tres meses, contados desde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66000" indent="-2509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Venta de bienes muebles: Fecha devengamiento de IVA (emisión por entrega real o simbólica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66000" indent="-2509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Prestación de servicios: Fecha devengamiento IVA (emisión por percepción remuneración o disposición de la misma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2124000" y="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Deducciones Con Plaz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4920" y="981000"/>
            <a:ext cx="8497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Restitución de venta o promesa venta de bienes inmuebles nula por resolución, resciliación o sentencia judicia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Plazo de tres meses, contados desde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Resolución o resciliación: Fecha escritura de resolución o resciliación de promesa o de venta de inmuebl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Sentencia judicial: Fecha desde que sentencia se entienda ejecutoriad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2306160" y="0"/>
            <a:ext cx="47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Deducciones con Plaz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8207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Situaciones especiale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Documentación de operaciones dejadas sin efecto, como consecuencia de devoluciones de mercaderías o resciliaciones de servicio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Con boletas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: Reverso de la boleta: Fecha, nombre, dirección, cédula de identidad y firma comprador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Con vales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: Emisión de nota de crédit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8210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Situaciones especial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Anulaciones de operaciones documentadas que no configurarían hecho gravado de ventas o servicio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- Facturación sin que haya existido entrega real o simbólica de mercadería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- Facturación de remuneración percibida sin que se haya prestado el servici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Jurisprudencia Administrativa del S.I.I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24382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Oficios Recomendado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1483/83 – 48/96 – 7304/78 – 1720/97 – 105/9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cc"/>
                </a:solidFill>
                <a:latin typeface="Century Gothic"/>
              </a:rPr>
              <a:t>CREDITO FISCA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988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OBJETIVOS DEL CREDITO FISC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2514600"/>
            <a:ext cx="762120" cy="990720"/>
          </a:xfrm>
          <a:prstGeom prst="downArrowCallout">
            <a:avLst>
              <a:gd name="adj1" fmla="val 25002"/>
              <a:gd name="adj2" fmla="val 25000"/>
              <a:gd name="adj3" fmla="val 21666"/>
              <a:gd name="adj4" fmla="val 66667"/>
            </a:avLst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209680" y="3429000"/>
            <a:ext cx="1981440" cy="990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3429000"/>
            <a:ext cx="1828800" cy="1066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4572000"/>
            <a:ext cx="4176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Permite determina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el valor agrega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de cada etap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11640" y="4572000"/>
            <a:ext cx="4932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Permite determina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la incidencia del IV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en el consumidor fin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5640" y="198864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Es la cuantificación de los hechos gravad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Permite determinar la cuantía del débito fisc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Fundamento legal: Artículos 15, 16 y 17 de la Ley LIVS y 26 a 34 del Reglament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Déb. Fiscal = B. Imp. * Tasa (19%)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2340000" y="692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aeaea"/>
                </a:solidFill>
                <a:latin typeface="Century Gothic"/>
              </a:rPr>
              <a:t>Base Imponibl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384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cc"/>
                </a:solidFill>
                <a:latin typeface="Century Gothic"/>
              </a:rPr>
              <a:t>CREDITO FISCA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819520"/>
            <a:ext cx="2057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Century Gothic"/>
              </a:rPr>
              <a:t>Naturalez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Century Gothic"/>
              </a:rPr>
              <a:t>Jurídica d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Century Gothic"/>
              </a:rPr>
              <a:t>C. Fisc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95640" y="1989000"/>
            <a:ext cx="457200" cy="4114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66880" y="19051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43280" y="836640"/>
            <a:ext cx="597672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Constituye un crédito en contra Fisco, a favor contribuyen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El titular no puede accionar contra el Fisco, no obstante puede excepcionarse del pago del débito por la vía de rebaj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Es un crédito con limitaciones, que tienen como finalidad cumplir objetivo económico – jurídico del IV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69520" y="304920"/>
            <a:ext cx="79945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Century Gothic"/>
              </a:rPr>
              <a:t>CREDITO FISCA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16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Derecho condicionado al cumplimiento de requisitos formales y sustantivo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Es un derecho </a:t>
            </a:r>
            <a:r>
              <a:rPr b="1" lang="es-MX" sz="2800" spc="-1" strike="noStrike">
                <a:solidFill>
                  <a:srgbClr val="eaeaea"/>
                </a:solidFill>
                <a:latin typeface="Century Gothic"/>
              </a:rPr>
              <a:t>patrimonial y personalísim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Art. 39 del Reglamento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: Impuestos que a los contribuyentes del mismo impuesto se les ha recargado en sus adquisiciones o servicios recibidos y que pueden deducir del débito fiscal del m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838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Contribuyentes que pueden invocar el crédito fiscal (Art. 23 LIVS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Contribuyentes del IVA (inclusive exportadore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Que hayan </a:t>
            </a:r>
            <a:r>
              <a:rPr b="1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soportado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 IVA en sus adquisiciones o importaciones de bienes o en la utilización de servicio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55280" y="549000"/>
            <a:ext cx="7993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Conceptos que dan derecho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(Art. 23 N° 1 al 5 de la Ley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Nuestra legislación determina las adquisiciones y utilizaciones de servicios que otorgan el derecho a crédit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Se deben distinguir requisitos </a:t>
            </a:r>
            <a:r>
              <a:rPr b="1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formales y sustantivo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cc"/>
                </a:solidFill>
                <a:uFillTx/>
                <a:latin typeface="Century Gothic"/>
              </a:rPr>
              <a:t>Requisitos Formales</a:t>
            </a:r>
            <a:r>
              <a:rPr b="1" lang="es-MX" sz="2800" spc="-1" strike="noStrike">
                <a:solidFill>
                  <a:srgbClr val="ffffcc"/>
                </a:solidFill>
                <a:latin typeface="Century Gothic"/>
              </a:rPr>
              <a:t>: (Art. 24 y 25 LIVS)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1600200"/>
            <a:ext cx="304920" cy="3276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1295280"/>
            <a:ext cx="533520" cy="4648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04200" y="1125360"/>
            <a:ext cx="685800" cy="64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1600200"/>
            <a:ext cx="22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1. Respaldo documental.:</a:t>
            </a:r>
            <a:r>
              <a:rPr b="0" lang="es-MX" sz="2400" spc="-1" strike="noStrike">
                <a:solidFill>
                  <a:srgbClr val="eaeaea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3581280"/>
            <a:ext cx="55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2. Registro en Libro de Compras.: (Art. 59 LIV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51577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3. Oportunidad del derecho:</a:t>
            </a: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05320" y="1143000"/>
            <a:ext cx="533160" cy="2133720"/>
          </a:xfrm>
          <a:custGeom>
            <a:avLst/>
            <a:gdLst>
              <a:gd name="textAreaLeft" fmla="*/ 340560 w 533160"/>
              <a:gd name="textAreaRight" fmla="*/ 533520 w 53316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62520" y="1295280"/>
            <a:ext cx="43545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Facturas y Notas de Débi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Century Gothic"/>
              </a:rPr>
              <a:t>-Comp. Liq. Grav. Aduan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Century Gothic"/>
              </a:rPr>
              <a:t>Fact. Compras cambio de sujeto (IVA pagado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56000" y="4437000"/>
            <a:ext cx="304920" cy="1981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88000" y="4653000"/>
            <a:ext cx="4105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Período tributario emisión factur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Century Gothic"/>
              </a:rPr>
              <a:t>(o PT sigte. o subsgte. caso recepción o registro con atraso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26920" y="259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 u="sng">
                <a:solidFill>
                  <a:srgbClr val="eaeaea"/>
                </a:solidFill>
                <a:uFillTx/>
                <a:latin typeface="Century Gothic"/>
              </a:rPr>
              <a:t>Requisitos Formales</a:t>
            </a:r>
            <a:r>
              <a:rPr b="1" lang="es-MX" sz="3600" spc="-1" strike="noStrike">
                <a:solidFill>
                  <a:srgbClr val="eaeaea"/>
                </a:solidFill>
                <a:latin typeface="Century Gothic"/>
              </a:rPr>
              <a:t>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413000"/>
            <a:ext cx="88200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Que los documentos de respaldo cumplan requisitos, (Art. 23 N. 5 y 54 de la LIVS y 69 y 71 bis del Reglamento)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- Formato preestablecido (Res. 1.667/1985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- Timbraj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95280" y="549360"/>
            <a:ext cx="8137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- Identificación completa del emis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- Identificación del rece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Descripción de la operación o guía de despacho 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- Fecha de emisió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- Que IVA recargado figure separadamente (Art. 24 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y 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69 de la LIV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Requisitos Formales</a:t>
            </a: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Century Gothic"/>
              </a:rPr>
              <a:t>(Situaciones especiales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2065320"/>
            <a:ext cx="72392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Caso extravío de documentos: La pérdida no tiene efecto retroactivo, siempre que se acredit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* Recepción y contabilización oportun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* Comunicación de extravío al SII, dentro del plazo legal, conforme al Art. 97 No. 16 del C.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* Efectividad de operacion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Requisitos Formales</a:t>
            </a: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Century Gothic"/>
              </a:rPr>
              <a:t>(Situaciones especiale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2. 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Tratamiento tributario IVA extemporáneo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Gasto tributario o costo del activ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Solicitar devolución conforme Art. 126 del C.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Solicitar compensación Art. 127 del C.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8215200" cy="15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REQUISITOS SUSTANTIV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1" lang="es-ES" sz="2800" spc="-1" strike="noStrike">
                <a:solidFill>
                  <a:srgbClr val="eaeaea"/>
                </a:solidFill>
                <a:latin typeface="Century Gothic"/>
              </a:rPr>
              <a:t>1.  </a:t>
            </a:r>
            <a:r>
              <a:rPr b="1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Dan derecho</a:t>
            </a:r>
            <a:r>
              <a:rPr b="1" lang="es-ES" sz="2800" spc="-1" strike="noStrike">
                <a:solidFill>
                  <a:srgbClr val="eaeaea"/>
                </a:solidFill>
                <a:latin typeface="Century Gothic"/>
              </a:rPr>
              <a:t>: El IVA soportado por :</a:t>
            </a:r>
            <a:r>
              <a:rPr b="1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1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1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1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844640"/>
            <a:ext cx="471636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Century Gothic"/>
              </a:rPr>
              <a:t>Adquisición de bienes muebles o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Century Gothic"/>
              </a:rPr>
              <a:t>Utilización de servicios destinad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Century Gothic"/>
              </a:rPr>
              <a:t>al activo realizab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Century Gothic"/>
              </a:rPr>
              <a:t>Adquisición de bienes muebles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Century Gothic"/>
              </a:rPr>
              <a:t>Inmuebles o utilización de servici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Century Gothic"/>
              </a:rPr>
              <a:t>Destinados al activo fij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Century Gothic"/>
              </a:rPr>
              <a:t>Adquisición de bienes o utilizació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Century Gothic"/>
              </a:rPr>
              <a:t>de servicios que constituyan gast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Century Gothic"/>
              </a:rPr>
              <a:t>de tipo general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1981080"/>
            <a:ext cx="914400" cy="4419720"/>
          </a:xfrm>
          <a:custGeom>
            <a:avLst/>
            <a:gdLst>
              <a:gd name="textAreaLeft" fmla="*/ 0 w 914400"/>
              <a:gd name="textAreaRight" fmla="*/ 330120 w 91440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2060640"/>
            <a:ext cx="685800" cy="4495680"/>
          </a:xfrm>
          <a:custGeom>
            <a:avLst/>
            <a:gdLst>
              <a:gd name="textAreaLeft" fmla="*/ 0 w 685800"/>
              <a:gd name="textAreaRight" fmla="*/ 247680 w 68580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92720" y="1654200"/>
            <a:ext cx="76212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43640" y="1413000"/>
            <a:ext cx="45720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80360" y="1654200"/>
            <a:ext cx="76176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V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50920" y="2349000"/>
            <a:ext cx="860400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En las ventas: Precio de venta de los bienes corporales muebles: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Gothic"/>
              </a:rPr>
              <a:t>En los servicios: Valor de las prestacione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: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260280"/>
            <a:ext cx="755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Century Gothic"/>
              </a:rPr>
              <a:t>Base Imponible en los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aeaea"/>
                </a:solidFill>
                <a:latin typeface="Century Gothic"/>
              </a:rPr>
              <a:t> </a:t>
            </a:r>
            <a:r>
              <a:rPr b="1" lang="es-ES" sz="3600" spc="-1" strike="noStrike">
                <a:solidFill>
                  <a:srgbClr val="eaeaea"/>
                </a:solidFill>
                <a:latin typeface="Century Gothic"/>
              </a:rPr>
              <a:t>Hechos gravados básicos y especial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94920" y="691920"/>
            <a:ext cx="8534520" cy="56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Consideraciones a tener presente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•</a:t>
            </a:r>
            <a:r>
              <a:rPr b="0" lang="es-MX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Relación directa, debe entenderse como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Century Gothic"/>
                <a:ea typeface="Times New Roman"/>
              </a:rPr>
              <a:t>indispensable y necesario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 para la actividad del contribuyente. La relación no está referida necesariamente a la inmediata generación de débito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•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Giro o actividad: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Century Gothic"/>
                <a:ea typeface="Times New Roman"/>
              </a:rPr>
              <a:t>Objeto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 económico a que se dedica el contribuyent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•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No hay relación directa, cuando las adquisiciones o servicios se destinan para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Century Gothic"/>
                <a:ea typeface="Times New Roman"/>
              </a:rPr>
              <a:t>uso particular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  <a:ea typeface="Times New Roman"/>
              </a:rPr>
              <a:t>, (Art. 41 inc 2° del Regl.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28240" y="609120"/>
            <a:ext cx="8591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Century Gothic"/>
              </a:rPr>
              <a:t>2. </a:t>
            </a:r>
            <a:r>
              <a:rPr b="1" lang="es-MX" sz="2800" spc="-1" strike="noStrike" u="sng">
                <a:solidFill>
                  <a:srgbClr val="eaeaea"/>
                </a:solidFill>
                <a:uFillTx/>
                <a:latin typeface="Century Gothic"/>
              </a:rPr>
              <a:t>Relación con operacione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eaeaea"/>
                </a:solidFill>
                <a:uFillTx/>
                <a:latin typeface="Century Gothic"/>
              </a:rPr>
              <a:t>gravadas: (Art. 23 N° 2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No hay crédito sin débit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Bienes y servicios deben estar afectos a la generación de operaciones gravada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Operaciones afectas se define al momento en que el contribuyente soporta el impuesto, sin importar si por causa ajena o sobreviniente, las adquisiciones o servicios no lleguen a generar débito, ejem.: mercaderías siniestradas; venta no afecta de activo fijo; etc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52240" y="764640"/>
            <a:ext cx="8591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3. Crédito Fiscal proporcional </a:t>
            </a: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(Art. 23 N° 3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Bienes y servicios afectos a la generación tanto de operaciones gravadas y no gravada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El crédito fiscal se calcula en forma proporcional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8040" y="469440"/>
            <a:ext cx="777384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Century Gothic"/>
              </a:rPr>
              <a:t>4. </a:t>
            </a:r>
            <a:r>
              <a:rPr b="1" lang="es-MX" sz="3200" spc="-1" strike="noStrike" u="sng">
                <a:solidFill>
                  <a:srgbClr val="ffffcc"/>
                </a:solidFill>
                <a:uFillTx/>
                <a:latin typeface="Century Gothic"/>
              </a:rPr>
              <a:t>Que las adquisiciones o utilizaciones de servicios no digan relación con</a:t>
            </a:r>
            <a:r>
              <a:rPr b="1" lang="es-MX" sz="3200" spc="-1" strike="noStrike">
                <a:solidFill>
                  <a:srgbClr val="ffffcc"/>
                </a:solidFill>
                <a:latin typeface="Century Gothic"/>
              </a:rPr>
              <a:t>: (Art. 23 N° 4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8040" y="1829880"/>
            <a:ext cx="7773840" cy="41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Adquisición de automóviles, station wagons y similares, como asimismo los gastos relacionados con los mismos. </a:t>
            </a:r>
            <a:r>
              <a:rPr b="0" i="1" lang="es-MX" sz="2800" spc="-1" strike="noStrike">
                <a:solidFill>
                  <a:srgbClr val="eaeaea"/>
                </a:solidFill>
                <a:latin typeface="Century Gothic"/>
              </a:rPr>
              <a:t>Salvo calificación de D. Nacional SII, según Ley 19.738 de 19.06.01 (Art. 23 N. 4 de la LIV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La calificación de automóvil, station wagons, jeeps y similares no la hace el SII, la hace la Comisión Automotriz 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7238880" y="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aeaea"/>
                </a:solidFill>
                <a:latin typeface="Times New Roman"/>
              </a:rPr>
              <a:t>Crédito Fisc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Century Gothic"/>
              </a:rPr>
              <a:t>5. </a:t>
            </a:r>
            <a:r>
              <a:rPr b="1" lang="es-MX" sz="3200" spc="-1" strike="noStrike" u="sng">
                <a:solidFill>
                  <a:srgbClr val="ffffcc"/>
                </a:solidFill>
                <a:uFillTx/>
                <a:latin typeface="Century Gothic"/>
              </a:rPr>
              <a:t>Que el crédito fiscal sea auténtico y cumpla normas legales y reglamentarias (Art. 23 N° 5), por tant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-360" y="2598480"/>
            <a:ext cx="3049560" cy="19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Century Gothic"/>
              </a:rPr>
              <a:t>No se tien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Century Gothic"/>
              </a:rPr>
              <a:t>derech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7238880" y="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aeaea"/>
                </a:solidFill>
                <a:latin typeface="Times New Roman"/>
              </a:rPr>
              <a:t>Crédito Fisc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2057400"/>
            <a:ext cx="533520" cy="2819520"/>
          </a:xfrm>
          <a:custGeom>
            <a:avLst/>
            <a:gdLst>
              <a:gd name="textAreaLeft" fmla="*/ 340920 w 533520"/>
              <a:gd name="textAreaRight" fmla="*/ 533880 w 5335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33720" y="2057400"/>
            <a:ext cx="304560" cy="3429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56000" y="1916280"/>
            <a:ext cx="56880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5.1 Facturas No Fidedignas o Fals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5.2 IVA recargado indebidamen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5.3 Facturas que no cumplen requisitos forma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755280" y="1699920"/>
            <a:ext cx="8388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Determinan improcedencia del crédito fisc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Facturas no Fidedignas: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 Contienen irregularidades materiales por lo que no se ajustarían a la verdad: Ej.: Correcciones: alteración correlativo, etc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942840" y="64440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Century Gothic"/>
              </a:rPr>
              <a:t>5.1 </a:t>
            </a:r>
            <a:r>
              <a:rPr b="1" lang="es-MX" sz="3600" spc="-1" strike="noStrike" u="sng">
                <a:solidFill>
                  <a:srgbClr val="eaeaea"/>
                </a:solidFill>
                <a:uFillTx/>
                <a:latin typeface="Century Gothic"/>
              </a:rPr>
              <a:t>Facturas No Fidedignas o Falsa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539640" y="476280"/>
            <a:ext cx="8064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Century Gothic"/>
              </a:rPr>
              <a:t>Facturas falsas: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 Faltan a la verdad o realidad que pretende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1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1" lang="es-ES" sz="3200" spc="-1" strike="noStrike">
                <a:solidFill>
                  <a:srgbClr val="eaeaea"/>
                </a:solidFill>
                <a:latin typeface="Century Gothic"/>
              </a:rPr>
              <a:t>- 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Falsedad material: Alteran el sentido de la factur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Century Gothic"/>
              </a:rPr>
              <a:t>-Falsedad ideológica: Contienen actos o cosas falsas o mentirosas. Nunca debieran dar derecho a C.F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5.2 </a:t>
            </a: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facturas otorgadas por personas no contribuyentes del impuest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¿Opera para facturas emitidas por personas no contribuyente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¿Opera para facturas emitidas por operaciones no gravadas y /o exenta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¿Qué ocurre con el IVA rechazado al comprador y enterado por el emisor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5.3 </a:t>
            </a: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Facturas que no cumplen requisitos legales o reglamentarios</a:t>
            </a: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Requisitos de las facturas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De forma: Se desprenden por el mero exame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De fondo: No es posible verificarlos por medio del simple examen. Apuntan a la autenticidad de la operac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4000" y="0"/>
            <a:ext cx="81356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eaeaea"/>
                </a:solidFill>
                <a:uFillTx/>
                <a:latin typeface="Century Gothic"/>
              </a:rPr>
              <a:t>Negación del crédito fiscal, procedimientos y medios de prueba para reestablecer su derecho (Art. 23 N° 5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324000" y="306864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Ar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Century Gothic"/>
              </a:rPr>
              <a:t>23No.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1981080"/>
            <a:ext cx="380880" cy="3353040"/>
          </a:xfrm>
          <a:custGeom>
            <a:avLst/>
            <a:gdLst>
              <a:gd name="textAreaLeft" fmla="*/ 243360 w 380880"/>
              <a:gd name="textAreaRight" fmla="*/ 381240 w 38088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3280" y="2205000"/>
            <a:ext cx="381240" cy="4038480"/>
          </a:xfrm>
          <a:custGeom>
            <a:avLst/>
            <a:gdLst>
              <a:gd name="textAreaLeft" fmla="*/ 243720 w 381240"/>
              <a:gd name="textAreaRight" fmla="*/ 381600 w 38124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63640" y="2205000"/>
            <a:ext cx="71294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Century Gothic"/>
              </a:rPr>
              <a:t>Inc. 1°: Establece presunción de negación C.F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entury Gothic"/>
              </a:rPr>
              <a:t>Inc. 2°: Medidas de prevención de rechaz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entury Gothic"/>
              </a:rPr>
              <a:t>Inc. 3°: Medios de prueba ante objeción SI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entury Gothic"/>
              </a:rPr>
              <a:t>Inc. 4°: Si se acredita recargo y pago de IVA por vendedor no se aplica Inc. 2° y 3° y no se pierde Créd. Fisc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entury Gothic"/>
              </a:rPr>
              <a:t>Inc. 5° Lo dispuesto en inc. 2° y 3° no se aplica en caso participación y conoc. de falsedad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50920" y="260280"/>
            <a:ext cx="82818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Se </a:t>
            </a:r>
            <a:r>
              <a:rPr b="0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incluyen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-Intereses y gastos de financiamiento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-Reajustes y diferencias de cambio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-Int. Moratorios exigibles o percibidos anticipadamente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-Valor envases y garantías por devoluciones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-Impuestos: excepto LIVS e Imp. específico combustib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Se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Century Gothic"/>
              </a:rPr>
              <a:t>deducen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Bonificación o descuento coetáneo a la facturació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Century Gothic"/>
              </a:rPr>
              <a:t>Acciones preventivas para resguardar el derecho a crédito fisc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Pago con cheque nominativo al emisor como titular de la cuenta giradora. (Cheque original o fotoc. autorizada por el banco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Anotación en el dorso del cheque RUT del emisor y N. de la factur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cc"/>
                </a:solidFill>
                <a:latin typeface="Century Gothic"/>
              </a:rPr>
              <a:t>Procedimientos y medios de prueba para reestablecer derecho a crédito fiscal en caso de objeción por el SII</a:t>
            </a: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1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a. Pago con cheque nominativo al emisor con cuenta corriente del comprador o beneficiario del servicio. (Cheque original o fotoc. autorizada por el banco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b. Anotación en el dorso del cheque RUT del emisor y N. de la factur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c. Que la cuenta corriente bancaria se encuentra registrada en la contabilidad, (si procede) y que la operación se registró oportunamente</a:t>
            </a:r>
            <a:r>
              <a:rPr b="0" lang="es-MX" sz="2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d. Cumplimiento de requisitos de form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e. Que la operación fue real y efectiva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(Transporte de las mercaderías; ingreso a bodega; anotación en controles de inventario y otros instrumentos de prueba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El procedimiento anterior </a:t>
            </a:r>
            <a:r>
              <a:rPr b="0" lang="es-ES" sz="2800" spc="-1" strike="noStrike" u="sng">
                <a:solidFill>
                  <a:srgbClr val="eaeaea"/>
                </a:solidFill>
                <a:uFillTx/>
                <a:latin typeface="Century Gothic"/>
              </a:rPr>
              <a:t>no</a:t>
            </a: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 se aplicará cuando el contribuyente ha tomado conocimiento de las irregularidades o ha participado en los actos conducentes a la falsedad ideológica o material de las factura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7773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En caso de facturas sin requisitos legales: facturas no fidedignas o falsas, no será necesario acreditar requisitos de forma y fondo descritas para hacer uso del crédito fiscal, si se acredita que el impuesto ha sido recargado y “pagado efectivamente” en arcas fiscales por el vendedor. (Ley 19.738 D.O. (19.06.01)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Century Gothic"/>
              </a:rPr>
              <a:t>Determinación del Crédito Fiscal Mensual: (Art. 24)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(+) IVA recargado en factura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(+) IVA según comprob. Importacion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(+) IVA según notas de débito recibidas por aumentos del impuesto facturad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68360" y="620640"/>
            <a:ext cx="79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ec8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(-) IVA según notas de créditos recibida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ec8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Por bonificaciones, descuentos y devolucion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ec8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De mercaderías o resciliaciones de servicio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(Que emisores hayan rebajado de sus débit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Fiscales, conforme a Art. 21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609480"/>
            <a:ext cx="8353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Century Gothic"/>
              </a:rPr>
              <a:t>Jurisprudencia Administrativa del S.I.I.</a:t>
            </a:r>
            <a:br>
              <a:rPr sz="3600"/>
            </a:br>
            <a:r>
              <a:rPr b="1" lang="es-MX" sz="3600" spc="-1" strike="noStrike">
                <a:solidFill>
                  <a:srgbClr val="ffffcc"/>
                </a:solidFill>
                <a:latin typeface="Century Gothic"/>
              </a:rPr>
              <a:t>Oficios Recomendado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Century Gothic"/>
              </a:rPr>
              <a:t>3391/ 88 – 1471/96 – 74/88 – 5730/80 – 1447/79 – 1755/77 – 4175/87 – 1969/90 – 439/77 – 1739/97 – 4825/95 – 5476/77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50560" y="1125000"/>
            <a:ext cx="86756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Intereses por operaciones de crédito de dinero. Exentos conforme a N° 10, letra E, Artículo 12 de la LIV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Monto de la variación de U.F. Por operaciones a plazo que ya pagaron el impuesto (saldos de precio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entury Gothic"/>
              </a:rPr>
              <a:t>Depósitos para garantizar devoluciones de envases de bebidas analcohólicas, jugos, cervezas, aguas minerales, y cilindros o balones de gas licuado de  petróleo (Art. 28 Regl. y Res. Ex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189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Conceptos que se excepcion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317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Los fletes y embalajes que se cobren coetáneamente con la venta o prestación del servicio, aumentan la base imponible de tales operaciones. Si se cobran separadamente, por si solos constituyen hecho gravado básico de servicio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1332000" y="260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Century Gothic"/>
              </a:rPr>
              <a:t>Conceptos relevant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50920" y="620640"/>
            <a:ext cx="8569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Ejemplo: Venta de productos afectos a impuestos adicionales al IVA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Operación: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B. Imp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Impt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- Venta bebidas alcohólicas: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2.000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      IVA e IAB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- Fletes y embalajes: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1.000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IVA       “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094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Century Gothic"/>
              </a:rPr>
              <a:t>Jurisprudencia Administrativa del S.I.I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2492280"/>
            <a:ext cx="71625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Oficios Recomendado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Century Gothic"/>
              </a:rPr>
              <a:t>567/97 – 191/95 -  3136/97 – 16/92 – 4268/84 – 2564/81 – 4333/91 – 2007/96 – 1051/9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7792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Century Gothic"/>
              </a:rPr>
              <a:t>DEBITO FISC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41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Débito Fiscal: Suma del IVA recargado en las ventas y servicios en un período tributari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Contribuyentes tendrán derecho a rebajar el débito fiscal contra el crédito fiscal del mismo períod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Base imponible * 19% = Débito Fisca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Century Gothic"/>
              </a:rPr>
              <a:t>En la última etapa de circulación, el consumidor final soporta la totalidad del débito fisca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6:06:21Z</dcterms:created>
  <dc:creator>Claro y Cia.</dc:creator>
  <dc:description/>
  <dc:language>en-US</dc:language>
  <cp:lastModifiedBy>.</cp:lastModifiedBy>
  <dcterms:modified xsi:type="dcterms:W3CDTF">2007-04-25T14:29:37Z</dcterms:modified>
  <cp:revision>393</cp:revision>
  <dc:subject/>
  <dc:title>UNIVERSIDAD CATOLICA DE CHILE DIPLOMADO EN GESTION TRIBUTARIA </dc:title>
</cp:coreProperties>
</file>