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1CA-4099-4A3E-8442-DF5F8F64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B5E-513C-4E87-97BD-CB0BB733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3FE-EDBB-461A-8178-94DA2628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199-7590-4A91-8051-DA7D3894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03CB-1B09-400E-A091-E3A4B637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D084-F20C-42E2-8286-308E8924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381-D954-4711-9C75-153AD348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03AD-569A-4C9C-A272-8CC32FA1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79D-2DD8-454A-B28F-A83758B4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D2EF-6139-4DD0-A199-809FE7D0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423D-AFC0-45FC-A665-B2A1FA34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809-F751-44D6-AE89-ED2A11AF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F583-4F29-4570-B410-79D6D8C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EDF-D119-4EBC-9633-7151660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3E3-F656-4509-9067-9A78A9F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FD6A-2580-4ECF-AF6C-C3072D8F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5849-5AA2-42A0-A7E2-74F6E806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C68-5A44-41A4-800A-E3CD617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F60-322D-4D75-AB6C-1FCB50F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EE4-7A9B-4C2D-BEAB-3854DEEE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1DD-69ED-4922-87C2-71B8E10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F67-1233-4137-8454-CAF125D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0EE-C4B8-45D8-AA27-808E2E8C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61D-A5AE-4136-97BA-83931CE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841-C7A8-4255-9E48-D8AD3758F2C9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98E3-3B2B-423D-835D-8B4B4F369CE4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Century Gothic"/>
              </a:rPr>
              <a:t>Impuesto a las Ventas y Servicios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terminación del Débito Fiscal mensu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BOLE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 :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88 Cód. Tribut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55 LIV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FACTU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Neto: 1.00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IVA:   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: 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149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LIBRO DE VENTAS   mes    año</a:t>
            </a:r>
            <a:r>
              <a:rPr b="0" lang="es-MX" sz="18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Día Bol del N° al N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Fact. N° Fecha Cliente Ru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653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8053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Totales me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40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Dividir por 1.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Sumar I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recarg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Art. 59 de la LIV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gregado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pre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, reajustes, diferencias de cambio y gastos de financiami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moratori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facturación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765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Si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or restituciones a los compradores de devoluciones de bienes muebles o rescili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: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Venta de bienes muebles: Fecha devengamiento de IVA (emisión por entrega real o simbólic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Sentencia judicial: Fecha desde que sentencia se entienda ejecutoriad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30616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ocumentación de operaciones dejadas sin efecto, como consecuencia de devoluciones de mercaderías o resciliaciones de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bolet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Reverso de la boleta: Fecha, nombre, dirección, cédula de identidad y firma comprad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val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Emisión de nota de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ulaciones de operaciones documentadas que no configurarían hecho gravado de ventas o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sin que haya existido entrega real o simbólica de mercaderí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de remuneración percibida sin que se haya prestado el servi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1483/83 – 48/96 – 7304/78 – 1720/97 – 105/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BJETIVOS DEL CRE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valor agreg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 cada eta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72000"/>
            <a:ext cx="49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incidencia del 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n el consumidor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s la cuantificación de los hechos grav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ermite determinar la cuantía de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éb. Fiscal = B. Imp. * Tasa (19%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Century Gothic"/>
              </a:rPr>
              <a:t>Base Imponi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Naturale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Jurídica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C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836640"/>
            <a:ext cx="597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stituye un crédito en contra Fisco, a favor contribuy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titular no puede accionar contra el Fisco, no obstante puede excepcionarse del pago del débito por la vía de reba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crédito con limitaciones, que tienen como finalidad cumplir objetivo económico – jurídico del 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9520" y="304920"/>
            <a:ext cx="7994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derecho </a:t>
            </a: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patrimonial y personalísim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rt. 39 del Reglam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Contribuyentes que pueden invocar el crédito fiscal (Art. 23 LIV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Contribuyentes del IVA (inclusive exportado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Que hayan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soportad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dan derech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(Art. 23 N° 1 al 5 de la Le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deben distinguir requisitos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cc"/>
                </a:solidFill>
                <a:uFillTx/>
                <a:latin typeface="Century Gothic"/>
              </a:rPr>
              <a:t>Requisitos Formales</a:t>
            </a: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: (Art. 24 y 25 LIVS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4200" y="1125360"/>
            <a:ext cx="685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1. Respaldo documental.:</a:t>
            </a: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581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. Registro en Libro de Compras.: (Art. 59 LIV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157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3. Oportunidad del derecho: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4354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Facturas y Notas de Déb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-Comp. Liq. Grav. Adua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Fact. Compras cambio de sujeto (IVA pag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653000"/>
            <a:ext cx="410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Período tributario emisión fa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(o PT sigte. o subsgte. caso recepción o registro con atras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413000"/>
            <a:ext cx="8820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Que los documentos de respaldo cumplan requisitos, (Art. 23 N. 5 y 54 de la LIVS y 69 y 71 bis del Reglamento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Formato preestablecido (Res. 1.667/198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Timbra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54936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completa del emis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del rece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escripción de la operación o guía de despacho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Fecha de emi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Que IVA recargado figure separadamente (Art. 24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y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69 de la LIV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Recepción y contabilización oportu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Efectividad de opera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Tratamiento tributario IVA extemporáne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Gasto tributario o costo del act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devolución conforme Art. 126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compensación Art. 127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REQUISITOS SUSTANT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1. 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Dan derecho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: El IVA soportado por :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Utilización de servicios destin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al activo real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Inmuebles o utilización de servic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stinados al activo fij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o utiliz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servicios que constituyan 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tipo general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165420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60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as ventas: Precio de venta de los bienes corporales muebles: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os servicios: Valor de las prestacion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Base Imponible en l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Hechos gravados básicos y especia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sideraciones a tener present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2. </a:t>
            </a: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Relación con operacion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gravadas: (Art. 23 N° 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o hay crédito sin déb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Bienes y servicios deben estar afectos a la generación de operaciones grav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3. Crédito Fiscal proporcional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(Art. 23 N°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Bienes y servicios afectos a la generación tanto de operaciones gravadas y no grava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l crédito fiscal se calcula en forma proporcio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040" y="46944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4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las adquisiciones o utilizaciones de servicios no digan relación con</a:t>
            </a: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: (Art. 23 N° 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040" y="1829880"/>
            <a:ext cx="777384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eaeaea"/>
                </a:solidFill>
                <a:latin typeface="Century Gothic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5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el crédito fiscal sea auténtico y cumpla normas legales y reglamentarias (Art. 23 N° 5), por tan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2598480"/>
            <a:ext cx="30495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No se tie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916280"/>
            <a:ext cx="5688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1 Facturas No Fidedignas o Fal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2 IVA recargado indebi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3 Facturas que no cumplen requisitos for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Determinan improcedencia del cré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Facturas no Fidedign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Contienen irregularidades materiales por lo que no se ajustarían a la verdad: Ej.: Correcciones: alteración correlativo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42840" y="6444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5.1 </a:t>
            </a: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Facturas No Fidedignas o Fals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Facturas falsas: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 Faltan a la verdad o realidad que preten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Falsedad material: Alteran el sentido de la factu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Falsedad ideológica: Contienen actos o cosas falsas o mentirosas. Nunca debieran dar derecho a C.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2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otorgadas por personas no contribuyentes del impues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personas no contribuyent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operaciones no gravadas y /o exenta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ocurre con el IVA rechazado al comprador y enterado por el emis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3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que no cumplen requisitos legales o reglamentario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de las factur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rma: Se desprenden por el mero exam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Negación del crédito fiscal, procedimientos y medios de prueba para reestablecer su derecho (Art. 23 N° 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r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3No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0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Inc. 1°: Establece presunción de negación C.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2°: Medidas de prevención de rechaz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3°: Medios de prueba ante objeción S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260280"/>
            <a:ext cx="828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incluyen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ereses y gastos de financiami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Reajustes y diferencias de cambi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. Moratorios exigibles o percibidos anticipadamente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Valor envases y garantías por devolucion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mpuestos: excepto LIVS e Imp. específico combusti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deducen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onificación o descuento coetáneo a la factu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Acciones preventivas para resguardar el derecho a créd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Procedimientos y medios de prueba para reestablecer derecho a crédito fiscal en caso de objeción por el SII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. Pago con cheque nominativo al emisor con cuenta corriente del comprador o beneficiario del servicio. (Cheque original o fotoc. autorizada por el banco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. Anotación en el dorso del cheque RUT del emisor y N. de la fac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. Que la cuenta corriente bancaria se encuentra registrada en la contabilidad, (si procede) y que la operación se registró oportunamente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. Cumplimiento de requisitos de for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. Que la operación fue real y efectiv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(Transporte de las mercaderías; ingreso a bodega; anotación en controles de inventario y otros instrumentos de prueb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l procedimiento anterior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n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Determinación del Crédito Fiscal Mensual: (Art. 24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recargado en factur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comprob. Import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notas de débito recibidas por aumentos del impuesto factura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62064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-) IVA según notas de créditos recibi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or bonificaciones, descuentos y devolu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e mercaderías o resciliaciones de servic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Que emisores hayan rebajado de sus dé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iscales, conforme a Art. 2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Jurisprudencia Administrativa del S.I.I.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Oficios Recomendad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3391/ 88 – 1471/96 – 74/88 – 5730/80 – 1447/79 – 1755/77 – 4175/87 – 1969/90 – 439/77 – 1739/97 – 4825/95 – 5476/7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67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por operaciones de crédito de dinero. Exentos conforme a N° 10, letra E, Artículo 12 de la LIV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Monto de la variación de U.F. Por operaciones a plazo que ya pagaron el impuesto (saldos de preci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se excepcion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Conceptos releva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jemplo: Venta de productos afectos a impuestos adicionales al IV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peración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B. Imp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mp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Venta bebidas alcohólic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2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IVA e I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Fletes y embalaje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1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VA      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92280"/>
            <a:ext cx="7162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567/97 – 191/95 -  3136/97 – 16/92 – 4268/84 – 2564/81 – 4333/91 – 2007/96 – 1051/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DEB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ébito Fiscal: Suma del IVA recargado en las ventas y servicios en un período tributar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tribuyentes tendrán derecho a rebajar el débito fiscal contra el crédito fiscal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ase imponible * 19% = Débito Fis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n la última etapa de circulación, el consumidor final soporta la totalidad del débito fisc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.</cp:lastModifiedBy>
  <dcterms:modified xsi:type="dcterms:W3CDTF">2007-04-25T14:29:37Z</dcterms:modified>
  <cp:revision>393</cp:revision>
  <dc:subject/>
  <dc:title>UNIVERSIDAD CATOLICA DE CHILE DIPLOMADO EN GESTION TRIBUTARIA </dc:title>
</cp:coreProperties>
</file>