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031-01E9-4BBC-9DE3-9C3D9907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38B-418B-46ED-8F27-70A36E60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534-AC73-4F56-9D7F-DC3E76E2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B89-4AF1-40CF-B16A-23339C75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522-CD43-4F3D-A215-D0E69ED8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541-524F-44AC-9B33-EE5FFDB7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8B5-D1D0-43ED-AF2C-A04934C2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B13-4128-409D-BACC-A649BC11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93D-0CF6-44CB-82C8-D3ABE258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24D-D8F3-4B26-8BA7-D63C1464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B12-CF46-4414-B2FC-1D3D5FAC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13D-6EC1-4555-94F4-38F5CA69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B19C-40A7-4489-80B2-9DFA096EE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26920" y="189000"/>
          <a:ext cx="684072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9000"/>
                    <a:ext cx="684072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4:05:16Z</dcterms:created>
  <dc:creator>.</dc:creator>
  <dc:description/>
  <dc:language>en-US</dc:language>
  <cp:lastModifiedBy>.</cp:lastModifiedBy>
  <dcterms:modified xsi:type="dcterms:W3CDTF">2007-04-04T14:15:17Z</dcterms:modified>
  <cp:revision>2</cp:revision>
  <dc:subject/>
  <dc:title>Diapositiva 1</dc:title>
</cp:coreProperties>
</file>