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4CA-2780-4D29-81E8-FB670E73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430-D883-4FC0-882C-71975CC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7D9-DC8F-46F6-B6AD-3580A2AD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622-947C-4B34-AE64-DE58DA62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A64-48C3-42CF-9ECD-CF5F9EE3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79F-C61F-4C34-9EAA-20AD203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0E9-5B8F-42C2-A8C8-2727BD13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7E0-DD9A-4A11-AAC7-92D149CD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218-ABB3-43EC-AB54-BD40AF05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3AD-A022-4A07-98CC-C4EFF2A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DF3-3DA6-4329-B833-E9A35A5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7DD-A55C-41FF-BCC9-C5EF6E0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CA0-4891-4598-918F-67881105B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26920" y="189000"/>
          <a:ext cx="68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000"/>
                    <a:ext cx="68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05:16Z</dcterms:created>
  <dc:creator>.</dc:creator>
  <dc:description/>
  <dc:language>en-US</dc:language>
  <cp:lastModifiedBy>.</cp:lastModifiedBy>
  <dcterms:modified xsi:type="dcterms:W3CDTF">2007-04-04T14:15:17Z</dcterms:modified>
  <cp:revision>2</cp:revision>
  <dc:subject/>
  <dc:title>Diapositiva 1</dc:title>
</cp:coreProperties>
</file>