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0C84-E059-4AFC-8026-E2009B66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7A6-F02B-422F-AE88-D3414F8D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01D7-9E11-4911-93BE-C91CA370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319E-0E50-4408-B328-0425EE9E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E7F-16EA-4886-8B83-47A5D3AB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C4AC-5D86-4D2D-B6CC-B59267AD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9150-B4E6-46F9-BAF3-ED0E10F1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EB0C-3C15-4F7F-B2C9-C1264A1A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88A0-7F36-4E48-8127-436D6916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4D0F-F92F-4A6A-BFE9-424CC8AD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0C8E-612C-4D68-9016-5452B59A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75D2-D1B8-4978-9223-215B03C6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2128-E71D-44E7-B821-EE0A6D370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26920" y="189000"/>
          <a:ext cx="6840720" cy="640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9000"/>
                    <a:ext cx="684072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4:05:16Z</dcterms:created>
  <dc:creator>.</dc:creator>
  <dc:description/>
  <dc:language>en-US</dc:language>
  <cp:lastModifiedBy>.</cp:lastModifiedBy>
  <dcterms:modified xsi:type="dcterms:W3CDTF">2007-04-04T14:15:17Z</dcterms:modified>
  <cp:revision>2</cp:revision>
  <dc:subject/>
  <dc:title>Diapositiva 1</dc:title>
</cp:coreProperties>
</file>