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DED-27EB-4E87-8045-C229E0DE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BB2-90BB-493F-B32D-2001F9C5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4C4-CE28-474C-B53F-980DA4DF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D69-CAF9-43A9-943B-8B6662D2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3DA-D2A4-4EE6-85F6-3919FC37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F8C-0275-4A21-A4B0-B5B5EDE8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0BF-84A1-4568-A789-199DE65C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BA5-A3CA-4533-8EB4-0DF84DFE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C17-D2F9-438F-8C4E-0E71B90D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0F4-BC2C-4ECB-B416-C87A45F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70C-88CC-4AD6-A192-D3B3E81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FAA-E9EC-4EEC-BB69-88AAA3F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7DC-73E2-4E23-B8FD-E689F6ED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26920" y="189000"/>
          <a:ext cx="68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000"/>
                    <a:ext cx="68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4:05:16Z</dcterms:created>
  <dc:creator>.</dc:creator>
  <dc:description/>
  <dc:language>en-US</dc:language>
  <cp:lastModifiedBy>.</cp:lastModifiedBy>
  <dcterms:modified xsi:type="dcterms:W3CDTF">2007-04-04T14:15:17Z</dcterms:modified>
  <cp:revision>2</cp:revision>
  <dc:subject/>
  <dc:title>Diapositiva 1</dc:title>
</cp:coreProperties>
</file>