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408D-A083-4A60-84FD-310D530B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43BA-FCA0-46B2-8FF3-245290D9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38B3-A5DD-4B48-A7CB-C6406CAE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786E-EBA5-402E-A18B-5FE04A22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6543-BE74-42B7-A0CC-4C98D52A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B0F1-A909-45FA-9AD5-A3B49BB7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0DF1-9CAF-4B17-9BCA-C485780C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8DF8-E049-4999-8051-10E895E3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7918-3C97-473B-8395-CA2EC253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C27B-B471-4436-9A85-597FCFD7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8366-0E26-44C2-B988-1431390F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D816-DD86-4AF1-91C0-A60B86CC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C27A-EBFC-4631-B487-5DFE8EE8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0F64-781D-4BBA-97D4-98FDFCFB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A03B-F06E-4120-9410-6EB55B2A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EFE3-1964-4CDD-A6E9-BAAF8C03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4789-21AF-4ECE-9DFE-55439C9D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6A4B-A763-4964-A1C4-CEBDD151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34C-D62D-4B5B-9782-4CCCF6D5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229-22AF-4186-A44E-122DFBBF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A67-FDBF-4989-95CA-26C1629F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7BA7-1C56-46BF-8404-97674AA5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788-964B-4D33-BF14-F6843D84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A61-A3F8-4E10-A63E-F0660178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9786-638E-451F-A9C9-3B479E452395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BD8B-337E-4C6D-BB57-14FF4F4D4A9C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4280" y="574200"/>
            <a:ext cx="6781680" cy="16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330066"/>
                </a:solidFill>
                <a:latin typeface="Century Gothic"/>
              </a:rPr>
              <a:t>DEVENGAMIENTO DEL IV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A.- Ventas en Consignació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Sit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Difer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2781360"/>
            <a:ext cx="304560" cy="2438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6668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ta misma que realiza el consignatar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7242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Remuneración que cobra el consignatari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Situación de las ventas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efectuadas por el consignatari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ta se encuentra afecta a IVA siempre que recaiga sobre bienes del giro (activo realizable) del mandante (“vendedor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ujeto de IVA por el monto total: ES EL MAND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Situación de la remuneración del consignatari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i consignatario o comisionista es contribuyentes con rentas clasificadas en Nos. 3 ó 4 art. 20 Ley Renta: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ase imponible: comisión o remuner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No se aplica al trabajador dependiente, profesionales, ni otros que presten servicios sin emplear ca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B.- Anticipos a cuenta del 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precio de vent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Modalidad venta en que se obtienen anticipos del valor de las especies ven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e entrega y factura en el fut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l precio vigente época ent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nticipos no se encuentran afectos a 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63120" y="38376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0066"/>
                </a:solidFill>
                <a:latin typeface="Century Gothic"/>
              </a:rPr>
              <a:t>relativos a Inmuebles 2.- Normas especiales – Contratos</a:t>
            </a:r>
            <a:r>
              <a:rPr b="1" lang="es-MX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205740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VA se devenga al momento de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Century Gothic"/>
              </a:rPr>
              <a:t>emitirse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 la respectiva FAC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generales de construcción por suma alzada o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de instalación o confección de especialidades a suma alzada o por ad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ventas o promesas de ventas de Inmue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rriendo de inmuebles con opción de comp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63120" y="31392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Oportunidad de emisión factura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l momento de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Century Gothic"/>
              </a:rPr>
              <a:t>PERCIBIR 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el precio del contrato o parte de é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generales de construcción por suma alzada o por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de confección o instalación de especi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promesas de ventas de inmue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rriendos de inmuebles con opción de comp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Oportunidad de emisión facturas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n las ventas de inmueb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606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Percibir todo o parte del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entrega real o simb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suscripción Escritura Pública 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43640" y="234936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2209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2205000"/>
            <a:ext cx="1871640" cy="2552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ocurra prim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Oportunidad de emisión facturas en otras transferencias de inmuebl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6291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Apor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Trans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Reti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Ventas de univers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2057400"/>
            <a:ext cx="216000" cy="1741320"/>
          </a:xfrm>
          <a:custGeom>
            <a:avLst/>
            <a:gdLst>
              <a:gd name="textAreaLeft" fmla="*/ 0 w 216000"/>
              <a:gd name="textAreaRight" fmla="*/ 78120 w 21600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24210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Que comprendan inmue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4800600"/>
            <a:ext cx="5257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echa entrega real o simbó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echa suscripción Escritura Pública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16000" cy="1904760"/>
          </a:xfrm>
          <a:custGeom>
            <a:avLst/>
            <a:gdLst>
              <a:gd name="textAreaLeft" fmla="*/ 0 w 216000"/>
              <a:gd name="textAreaRight" fmla="*/ 78120 w 2160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50"/>
                </a:lnTo>
                <a:cubicBezTo>
                  <a:pt x="10800" y="10350"/>
                  <a:pt x="16200" y="11250"/>
                  <a:pt x="21600" y="11250"/>
                </a:cubicBezTo>
                <a:cubicBezTo>
                  <a:pt x="16200" y="11250"/>
                  <a:pt x="10800" y="12150"/>
                  <a:pt x="10800" y="130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4648320"/>
            <a:ext cx="1447920" cy="157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3.- Norma General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evengamiento en servici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71640" y="2588760"/>
            <a:ext cx="599112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. Fecha emisión factura o boleta,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.- Fecha remuneración se percibe o pone a disposición del prestador de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08720" y="2708280"/>
            <a:ext cx="1656000" cy="119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 ocurra 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32720" y="2276640"/>
            <a:ext cx="215640" cy="1741320"/>
          </a:xfrm>
          <a:custGeom>
            <a:avLst/>
            <a:gdLst>
              <a:gd name="textAreaLeft" fmla="*/ 0 w 215640"/>
              <a:gd name="textAreaRight" fmla="*/ 77760 w 21564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ituación anticipos percibidos antes de la prestación del servici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II: basta que se perciba aunque el servicio no se hubiera prestado (factura por el monto percib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TRIBUNALES SUPERIORES JUSTI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sencial que se verifique la pres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boleta debe emitirse cuando se haya realizado el servicio y sea pa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98120" y="27144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evengamiento</a:t>
            </a: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0920" y="1956960"/>
            <a:ext cx="795492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Momento en que concurren todos los elementos del HECHO GRAV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ISCO adquiere desde ese mo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Título o derecho sobre el monto del trib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independiente de su exig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5300640"/>
            <a:ext cx="7619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SE DEVENGA EL IMPUESTO CUANDO OCUR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EL HECHO QUE DA NACIMIENTO A LA OBLIG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4.- Prestación de servicios periódic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540720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érmino período fijado para su p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echa emisión factura o bo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ercepción o puesta a dis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00720" y="2492280"/>
            <a:ext cx="304920" cy="167652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2276640"/>
            <a:ext cx="1584360" cy="157212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5229360"/>
            <a:ext cx="8064360" cy="140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s periódicos: aquellos que se presta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orma permanente, regular o continua, el cobr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Pago se efectúa en forma periódica, determin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uministros y servicios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omiciliarios periódic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Devengamiento al término de cada período fijado para el pago del precio, independiente de su pago o fact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ergía eléc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servicios telef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gua po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lcantaril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5.- Importacion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000" y="2174760"/>
            <a:ext cx="8064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ículo 9 letra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e devenga impuesto al consum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legalmente la importació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 tramitarse totalmente la impor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r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373720"/>
            <a:ext cx="7921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uando mercancías quedan a disposición del interesado para su libre circulación en el paí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6.- Retiros de mercadería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70200"/>
            <a:ext cx="7772400" cy="41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VA se devenga al momento del ret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respectivo; oportunidad en que deben ser contabili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retiros para uso personal socio, dueño, empleado o fam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faltantes de inven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bienes corporales muebles destinados a rifas y sorteos con fines    promo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tregas de bienes gratuitamente con mismos f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7.- IVA por intereses en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compraventa a Plaz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9 letra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ntereses o reajustes por saldo impago de ventas a plazo devengan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- al hacerse exig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- al percib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36576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3581280"/>
            <a:ext cx="1444680" cy="157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525780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54100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on exigibles al vencimiento de la respectiva cuota, letra u otro documento que lo contenga, en todo o p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iferencias de cambi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Originadas en ventas a plazo de bi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corporales muebles: se incluyen en el concepto de reaju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orman parte de la base imponible cuando proc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ajustes equivalentes a la variación de la UF no se encuentran afectos a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6080" y="691920"/>
            <a:ext cx="678168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330066"/>
                </a:solidFill>
                <a:latin typeface="Century Gothic"/>
              </a:rPr>
              <a:t>SUJETO DEL IMPUESTO</a:t>
            </a: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1.- Regla general sobre el sujeto pasiv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0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41560" y="30891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4648320"/>
            <a:ext cx="626436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PRESTADOR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276720"/>
            <a:ext cx="44956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VENDE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d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) Al realizar “ventas” de bienes de su pro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producción o adquiridos de ter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b) Al realizar cualquiera de las operaciones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que la ley equipara a ve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stador de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a) al realizar hecho gravado básico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b) al realizar hecho gravado especial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858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dquirientes de bienes corporales muebles o servicios cuando el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Century Gothic"/>
              </a:rPr>
              <a:t>SII CAMBIA EL 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Los adquirientes de bienes corp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muebles cuando lo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entury Gothic"/>
              </a:rPr>
              <a:t>vendedores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 no tienen domicilio ni residencia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8120" y="27144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Normas de devengamient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general: venta b.c. Mue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bienes corporales inmue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general: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 : servicios periód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impor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reti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intereses saldo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eneficiarios del Servicio cuando persona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que realiza la prestación reside en el  extranj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misionistas, consignatarios, martilleros y toda persona que compra o venda habitualmente bienes corporales muebles por cuenta de terceros vendedores – sujetos del impuesto por la comisión o remun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2.- Aplicación de RG a casos especia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8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22 Regl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) Importacion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68000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17880" y="339408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5320" y="2916360"/>
            <a:ext cx="3045960" cy="947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mpor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ea habitual o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19640" y="1700280"/>
            <a:ext cx="2629080" cy="3405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Persona que intr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duce legalment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mercader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extranj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para su uso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en el paí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) Ventas realizadas por personas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sin residencia en Chile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50036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2971800"/>
            <a:ext cx="243828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ujeto Pas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OMPRAD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ADQUI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2438280"/>
            <a:ext cx="457200" cy="3654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95040 h 3654720"/>
              <a:gd name="textAreaBottom" fmla="*/ 3559680 h 365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32360" y="2205000"/>
            <a:ext cx="304812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i el vende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 tiene resid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En Chile (aun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nserve el domici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c) Adjudicacion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3908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19810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De bienes corporales muebles del giro en liquidaciones de soc. o 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2971800"/>
            <a:ext cx="220968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OM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3733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59280" y="3933720"/>
            <a:ext cx="345780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S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o comuneros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SOLID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RESPONS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tributo por la cu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que les corresp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) Aport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3908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1 letra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2819520"/>
            <a:ext cx="2808360" cy="240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DED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581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1320" y="3124080"/>
            <a:ext cx="144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ujeto del Trib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) Servicios prestador por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personas no residentes en Chil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346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1 letra 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2819520"/>
            <a:ext cx="2210040" cy="298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BENEFIC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2000" y="2205000"/>
            <a:ext cx="2217600" cy="32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Prestador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reside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ex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f) Contratos grales. Construcción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y Conf. e instal. especialidad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37926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rt. 11 Letra f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2971800"/>
            <a:ext cx="2743200" cy="278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B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63120" y="38376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g) Transferencias recíprocas de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domini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792080"/>
            <a:ext cx="327492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rt.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2743200"/>
            <a:ext cx="2666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m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3657600"/>
            <a:ext cx="266688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Otras conve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 transferencia mut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2438280"/>
            <a:ext cx="457200" cy="243864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2819520"/>
            <a:ext cx="25905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DA P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S SUJETO PASIVO DE LAS ESPECIES QUE TRANSF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5181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5791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266720" y="5410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19920" y="5257800"/>
            <a:ext cx="7617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49528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manza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5943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e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h) Operaciones realizadas por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comisionistas y otro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54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rt. 22  Reglam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23880" y="2895480"/>
            <a:ext cx="2210040" cy="109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mis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signa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artill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3848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2971800"/>
            <a:ext cx="2057400" cy="70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misión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mu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4727880"/>
            <a:ext cx="221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4572000"/>
            <a:ext cx="2057400" cy="70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nto total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4800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1.- Norma general: Venta de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ienes Corporales Muebl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9 letra a)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Fecha emisión boleta o factura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Fecha de entrega real o simbólica de las especies cuando por naturaleza del acto que da origen a la transferencia no se emita boleta o fac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3.- Cambios de Sujeto Pasivo del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Impuest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Ley faculta al SII para cambiar al sujeto pasivo (art.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3657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3196080"/>
            <a:ext cx="3352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rasladando la obli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comprador o benefici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ambio del Sujeto Pasivo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Facultas del SII es Discrecional (juicio exclusi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Imposición a determinados vendedores la carga de retener y pagar el IVA que sus propios adquirentes deban recargar por las ventas o servicios que presten a terc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l notificarse resolución: Obligación Tributaria: entre el Estado y el compr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Norma general: Venta de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ienes Corporales Muebl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80960" y="2247480"/>
            <a:ext cx="726624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Devengamiento queda supeditado a dos hech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- emisión de boleta o fa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- entrega real o sim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4952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1640" y="5229360"/>
            <a:ext cx="739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Obviamente: para que se devengue el tributo, deben concurrir todos los elementos del HECHO GRA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98120" y="19836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</a:rPr>
              <a:t>Emisión de Documento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en que deben emitirse las BOL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 el momento de la entrega real o simbólica de las e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echa en que deben emitirse las FAC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mismo momento de entrega real o simbólica de las especies; o A MAS TAR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hasta el 5° día posterior al término del mes en que se realizaron las ventas, indicándose la fecha en que se efectúo venta; habiendo emitido GUIA DE DESPA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ntreg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Entrega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- vendedor permite al comprador la aprehensión material de la espe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ntrega Sim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vendedor entrega las llaves del l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se transfiere el bien a una persona que ya lo tiene por cualquier título no traslaticio de domi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se ponen especies a disposición del interes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ituaciones especia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e incluyen dentro de las normas generales sobre devengamiento de IVA en venta de bienes corporales mue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.- Entregas en consig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b.- Anticipos a cuenta de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-38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A.- Ventas en Consignació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6 Reglamento: no se devenga el IVA mientras el consignatario no venda las mercaderías afectas al trib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plicable a ventas realizadas a travé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signa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martill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toda persona que realice compras o ventas por cuenta de ter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3:50:56Z</dcterms:created>
  <dc:creator>Claro y Cia.</dc:creator>
  <dc:description/>
  <dc:language>en-US</dc:language>
  <cp:lastModifiedBy>.</cp:lastModifiedBy>
  <dcterms:modified xsi:type="dcterms:W3CDTF">2007-04-12T15:40:18Z</dcterms:modified>
  <cp:revision>283</cp:revision>
  <dc:subject/>
  <dc:title>DEVENGAMIENTO DEL IVA</dc:title>
</cp:coreProperties>
</file>