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4D5E-7E20-4708-87D7-2A9C12D3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7068-0C70-460F-804D-7BA77EE7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575A-B8AD-43CC-8105-37C55389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7336-70AD-4F29-B07A-E5A5335B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7ED2-A891-4D4E-8029-31DE74EA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9C46-2673-4DD5-B54E-B5CBE2B6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5ABD-5ADF-4618-945A-3695720E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CE5D-95AC-4D10-9CBE-6979A671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5DC0-70DE-47A3-962F-576045DB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831F-14DB-4DD7-8FF0-65596F9E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D783-0E19-4D81-AA38-242F7E2E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44DA-0B9F-415B-80C6-CDF37F8C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E834-E8B1-4CD2-9863-73F9BAB1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0CDC-AE45-4486-B802-1DB48C96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E636-12E2-4F8C-994D-E86C7689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26A7-57A7-446C-B4D9-ED52F2BF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2691-55DD-450F-B7E4-D1868883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6356-A7D5-4DA4-B12C-BF341E5D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A73E-69C0-425E-91C0-1207276B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714A-F5C6-46D2-95AE-A2D6FB80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CE96-73F2-4B60-ADF7-91F4D431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1E5C-663B-4055-8FCC-2167A80B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D299-7DA0-4AAB-A610-F8E541D8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BCDE-AA21-4EB1-AF2D-3793BE88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F7D8-2DF0-4505-9376-14CAE6C902EB}" type="slidenum"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A5A1-28C2-486C-AB5C-3BC1E9F1F58D}" type="slidenum"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HECHOS GRAVADOS</a:t>
            </a:r>
            <a:br>
              <a:rPr sz="3600"/>
            </a:b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ESPECIAL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Transformación de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ransformación de soci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La transformación de sociedades consiste sólo en el cambio de especie o tipo social efectuado por reforma o estatutos, subsistiendo la misma persona jurídica, es decir, 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EL MISMO CONTRIBUYENTE CON DISTINTA ORGANIZACIÓN LE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47920" y="4876920"/>
            <a:ext cx="609588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 consecuencia,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n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se produce hecho gra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Fusión y Absorción de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6592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us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Por Creación: fusión de dos o más sociedades distintas se forma una nueva sociedad, aportando las primitivas sociedades todo su activo y pasivo a la nue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Fusión por incorporación (absorción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cuando se aporta a una sociedad existente todo el activo y pasivo de otra, la que la sucede en todos sus derechos y obligacion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03280" y="5734080"/>
            <a:ext cx="64008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hay hecho gravado socios aportan derechos pers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División de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ivis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na sociedad se separa en dos o más soci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Las nuevas personas jurídicas resultantes de la división cubren en conjunto el capital y objeto de la sociedad dividi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0920" y="4653000"/>
            <a:ext cx="849780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existe transferencia de bienes corporales muebles ya que actividades y patrimonio de nuevas sociedades, son  en conjunto, idénticas a las de la sociedad que se divid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portes del partícipe a una cuenta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n participació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trega de bienes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corporales muebles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por un “vendedor” que sea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partícipe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en un contrato de asociación o cuentas en participación, al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gestor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, no constituye hecho grav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9640" y="4419720"/>
            <a:ext cx="813600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fundamente criterio en que intención de las partes no es la de transferir el dominio, ni tampoco ser considerada como un contrato que por su naturaleza sirva para transferir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3.- Adjudicaciones en liquidacion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de sociedades 8 (c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judicación de bienes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corporales 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ichos muebles sean propios del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gir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de la respectiva sociedad o comun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judicación debe ser originada por liquidación de sociedad o comun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4581360"/>
            <a:ext cx="79930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se aplica a liquidaciones de comunidad hereditaria  y comunidad que queda a la disolución de la sociedad conyug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djudicación de bienes corporal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judicación de bienes corporales in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Liquidación de sociedades que sean empresas constructoras, comunidades, cooperativas de vivi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es necesario que sea del giro de la constructora, comunidad o cooperati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4.- Retiros efectuados por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mpresario, socios, director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tiros efectuados por empresario, socios, directores o emple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ienes corporales muebles del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gi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Objeto: uso o consumo personal de tales personas o sus famil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92360" y="5257800"/>
            <a:ext cx="63356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da  derecho a crédito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Faltantes de inventario – Se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sideran retir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699920"/>
            <a:ext cx="73962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esunción legal de que los faltantes de inventario constituyen reti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s necesario justificar salida de faltantes mediante documentación fehac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notaciones cronológicas en sistema de inventario permanente, contabilidad fidedig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enuncias por robos o accid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nformes liquidadoras de segu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Mermas reconocidas por ley u organismo E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6.- Bienes entregados a rifas o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sorte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(art. 8 letra 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tiro de bienes corporales 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ean o no del gir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estinados a rifas y sorte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Fines promocionales o de propaga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Realizado por vendedores (no prestadores de 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es necesaria la habitu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6021360"/>
            <a:ext cx="79200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da  derecho a crédito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7.- Bienes distribuido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gratuitament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. 8 letra 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trega o distribución gratuita de bi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realizados con fines de promoción o propaga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alidad de vende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pueden o no ser del giro del vende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cumplen requisitos distribuciones efectuadas con fin simplemente bené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5877000"/>
            <a:ext cx="684072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da  derecho a crédito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Hechos gravados especiales en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as venta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Operaciones, transacciones o prestaciones que la ley expresamente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EQUIPARA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a ventas. – Establecidas artículo 8 de la L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unque no tengan todos los elementos del hecho gravado básico de ventas (p.e. puede faltar calidad de “vendedor”, habitualidad, etc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7.- Contrato de Instalación o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fección de Especiali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iene por objeto la incorporación de elementos que adhieren permanentemente al inmueble y son necesarios para que cumpla cabalmente la función específica para lo cual se construy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equiparan a venta cuando son a “suma alzada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jempl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scensores, climas artificiales, puertas y ventanas, sanitarios, electricidad, escaleras mecánica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i no concurren todos los elementos del hecho gravado especial, puede ser un hecho gravado básico (servicio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8.- Contratos Generales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strucció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cepto del contrato de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ontrato que tiene por finalidad la confección de una obra material inmueble nueva que comprenda al menos dos especialidades, sea que se efectúe por si mismo o por intermedio de terce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jemp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rbanización de sitios, construcción de vivienda, instalación sistema de señalización de tránsito; red alcantarillado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Venta/Servici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tratos de instalación o confección de especialidades y Contratos generales de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uma alzada: IVA, hecho gravado especial equiparado a Venta, artículo 8 letra 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dministración: IVA, hecho gravado básic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 servi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9.- Venta de establecimiento de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mercio y otras universali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stablecimiento de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niversalidad de hecho con existencia distinta a la de los      elementos que la componen, corporales e incorporales, donde el comerciante ejerce su ofi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niversalidad de He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todo conjunto de bienes corporales e incorporales unidos opr su afectación a un fin común y que posee individualidad propia e independiente de los elementos que la componen (p.e. Fábricas, establecimientos industriales, bibliotecas, museos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9.- Venta de establecimiento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mercio y otras universali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quisitos del hecho gravado espe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Es el valor de los bienes corporales muebles PROPIOS DEL GIRO del establecimiento o universalidad que se ven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alidad de “vendedor” de los bi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e exceptúan bienes del activo inmoviliz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xcep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se aplica a la cesión del derecho de herencia (art.8 letra 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9.- Si establecimiento o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universalidad incluyen inmuebl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. 8 letra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de establecimientos de comercio y otras universalidades que comprenden inmuebles del giro de una empresa construct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ben pertenecer el activo realizable, ser “vendedo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0.- Promesa de venta de bien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rporales 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omesa de v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ienes corporales in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 propiedad de una empresa construct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l gi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struidos total o parcialmente por 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1.- Contratos de arriendo con opción de compra de b. corp. 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trato de arriendo con opción de comp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elebrados por empresas constructor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specto de inmuebles total o parcialmente construidos por el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 asimilan a las promesas de venta para la aplicación del tribut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2.- Venta de Bienes del Activo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Fijo (art. 8 letra m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de bienes corporales muebles o in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lasificados en activo fi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antes de los 48 meses contados desde su adquisición (muebles) ó 12 meses (inmuebles); o antes de su depreciación total (norma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Que el contribuyente haya tenido derecho al CREDITO FISCAL por IVA sopor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establecimiento de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ista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. - Import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2. - Aportes a soci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3. - Adjudic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4. - Retiros efectuados por vendedor o du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5. - Retiros destinados a rifas y sorte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6. - Entregas o distribuciones gratui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7. - Contratos instalación o confección de especi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HECHOS GRAVADOS</a:t>
            </a:r>
            <a:br>
              <a:rPr sz="3600"/>
            </a:b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ESPECIAL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93976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ista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ículo 8 letra g, h, i, 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.- “arrendamiento” de ciertos bienes corpo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2.- “arrendamiento” de marcas, patentes y otras prestaciones simil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3.- estacionamientos de vehícu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4.- primas de seguros de las cooperativas de segu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.- Arrendamiento de bien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muebles e 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rendamiento, subarrendamiento, usufructo o cualquier otra forma de cesión temporal del uso y goce 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.- bienes corporales 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b.- inmuebles amobl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.- inmuebles con instalaciones o maquinarias que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ermitan el ejercicio de una actividad c. o 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.- todo tipo de establecimiento de comerci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9040" y="1901880"/>
            <a:ext cx="776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rendamiento, subarrendamiento, otras formas de cesión temporal de uso o go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amobl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mobiliario y menaje en cantidad y naturaleza suficiente para ser habi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685800" y="414360"/>
            <a:ext cx="77724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rrendamiento de inmuebles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moblados</a:t>
            </a: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55640" y="5084640"/>
            <a:ext cx="77040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IVA  se aplica sólo a renta que exceda del 11% o del  avalúo fiscal al año o en la proporción que corresponda (sólo aplicable a arriend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no agrícolas que tengan instalaciones o maquinarias que permitan desarrollar actividad comercial o indus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agrícolas, en la parte que tengan actividades industriales anexas o complementarias desarrolladas dentro del pre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rrendamiento de inmuebles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 instalaciones</a:t>
            </a: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5640" y="487692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VA sólo renta que exceda del 11% del avalúo fiscal o de la cantidad proporcional que corresponda (arrie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rendamiento, subarrendamiento, cualquier forma de cesión temporal del uso y go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Bienes incorporales que tiene su origen en “propiedad intelectual” y “propiedad industria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2.- Arrendamiento de marcas, </a:t>
            </a:r>
            <a:br>
              <a:rPr sz="3600"/>
            </a:b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patentes y prestaciones similares</a:t>
            </a: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11280" y="836640"/>
            <a:ext cx="76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No se grava la constitución del derecho, ni la enajen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xención: 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tículo 59 Ley de la Ren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s calificados como exportación 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 servic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3.- Estacionamiento de vehículos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n playas de estacionamient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stacionamiento de vehículo en playas de estacionamiento u otros lugares destinado a dicho f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terrenos sin construcción, o construcciones lige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Edificios especialmente destinados a tal efe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1280" y="4724280"/>
            <a:ext cx="820872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aplica a todos los valores que los usuarios paguen por estacionar vehículo en recinto, cualquiera sea el período o modalidad de pa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4.- Primas de seguros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operativas de segur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imas de cooperativas de servicios de segu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ntes de modificación de 1980, no constituía hecho gravado por cuanto no era actividad clasificado en Nos. 3 y 4 art. 20 Ley Renta, sino que se clasificaban en el número 5 del mencionado precep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xisten ciertas exenciones aplic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ista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8. - Contratos generales de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9. - Venta de establecimiento de comercio y de otras univers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0. - Promesa de venta de bienes corporales inmuebles de propiedad de una empresa constructora de su gir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1.- Contratos de arriendo con opción de comp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2. - Venta bienes activo fijo antes 48 ó 12 me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.- Importacion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Import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ntroducción legal de mercaderías extranjeras para su uso o consumo en el paí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se distingue si hay habitu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mportación realizada por cualquier persona, sea o no vendedor o prestador de servi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11280" y="836640"/>
            <a:ext cx="770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mpuesto se devenga al consumarse legalmente la import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lgunas excepcion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m. Temporal /Almacenes Particul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Zona Fran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pósito Aduan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2.- Aportes a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porte o transferencia de dominio o de una cuota de dominio con ocasión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constitución, ampliación, modifi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SOCIE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enes corporales muebles o inmuebles de propiedad de empresas constructoras, o en derechos reales constituidos sobre dichos bi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portante debe tener calidad de “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  <a:ea typeface="Times New Roman"/>
              </a:rPr>
              <a:t>vendedor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Aportes </a:t>
            </a:r>
            <a:r>
              <a:rPr b="1" lang="es-MX" sz="3600" spc="-1" strike="noStrike" u="sng">
                <a:solidFill>
                  <a:srgbClr val="ccecff"/>
                </a:solidFill>
                <a:uFillTx/>
                <a:latin typeface="Century Gothic"/>
              </a:rPr>
              <a:t>no</a:t>
            </a: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 gravados con IV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portes de bienes del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aportante debe ser “vendedor” de esos bi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(Salvo artículo 8 letra 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portes de derechos pers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aso transformación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mpresa individual en socieda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mpresario individual aporta todo su activo y pasivo a una persona juríd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i el aporte comprende bienes corporales muebles del giro del empresario individual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4572000"/>
            <a:ext cx="50292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configura el hecho gravado espe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6:24Z</dcterms:created>
  <dc:creator>CEYZAGUIRRE</dc:creator>
  <dc:description/>
  <dc:language>en-US</dc:language>
  <cp:lastModifiedBy>Bj</cp:lastModifiedBy>
  <dcterms:modified xsi:type="dcterms:W3CDTF">2007-03-05T16:25:40Z</dcterms:modified>
  <cp:revision>637</cp:revision>
  <dc:subject/>
  <dc:title>II. LEY DEL IMPUESTO AL VALOR AGREGADO (IVA)  Aspectos teóricos del Impuesto al  Valor Agregado Estructura General de la Ley</dc:title>
</cp:coreProperties>
</file>