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C95A-E460-422D-A1FC-AA06F6237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A0F5-0081-4A68-9017-CB0E221F7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90A6-3978-40B1-B6E4-8ABF8BC02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3094-E972-4CC2-83EC-C1F95493F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F881B-F501-4CDC-885D-D3E9B64E3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5ACC1-D21A-49F1-AC42-96942762B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EA690-4E97-406D-A1B4-319CEF0A6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3A3B1-EBF2-435A-8EEB-1F0E79112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781D9-7FEB-4456-BB1B-9E79C9313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BDD52-A37B-4ED1-97D2-3D5D09217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4AA8A-AF9F-4D69-AC03-1B87BC7A3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5C8F-DCE3-4E5B-821E-FF37B9E12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D043A-1561-4361-BD1E-3B7FE05BE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1F260-1A46-421F-897B-0248FF8FC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0D4C7-5C5F-49C2-9C1A-553191260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65D05-680B-4B40-A4F3-464D78E77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027A4-9347-4B86-BDA0-96A39ABE1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3BBF-EA2D-49A6-85F7-B796DC606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3017-9B6C-4196-899B-A40E8A8E7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CEDB-0952-44E3-9DFF-61093E71B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6074-5726-4D38-A38E-EC242685D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2295-1D8A-449B-A000-B622E5A2A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7E82-4A87-4D3B-9693-756D2ECE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0A44-A61A-4AEB-9CEB-B2B3753D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D9F56-3FBC-4024-8A00-7CFD44E3CC1F}" type="slidenum">
              <a:rPr b="0" lang="es-ES_trad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218D7-8385-4690-A578-96A4D364B4FA}" type="slidenum">
              <a:rPr b="0" lang="es-ES_trad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ccecff"/>
                </a:solidFill>
                <a:latin typeface="Century Gothic"/>
              </a:rPr>
              <a:t>HECHOS GRAVADOS</a:t>
            </a:r>
            <a:br>
              <a:rPr sz="3600"/>
            </a:br>
            <a:r>
              <a:rPr b="1" lang="es-MX" sz="3600" spc="-1" strike="noStrike">
                <a:solidFill>
                  <a:srgbClr val="ccecff"/>
                </a:solidFill>
                <a:latin typeface="Century Gothic"/>
              </a:rPr>
              <a:t>ESPECIALE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520" y="35053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VENT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Transformación de sociedad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Transformación de socie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La transformación de sociedades consiste sólo en el cambio de especie o tipo social efectuado por reforma o estatutos, subsistiendo la misma persona jurídica, es decir, 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EL MISMO CONTRIBUYENTE CON DISTINTA ORGANIZACIÓN LEG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447920" y="4876920"/>
            <a:ext cx="609588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En consecuencia,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Century Gothic"/>
              </a:rPr>
              <a:t>no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 se produce hecho grav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Fusión y Absorción de Sociedad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4360" y="1052640"/>
            <a:ext cx="7765920" cy="33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Fus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- Por Creación: fusión de dos o más sociedades distintas se forma una nueva sociedad, aportando las primitivas sociedades todo su activo y pasivo a la nuev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- Fusión por incorporación (absorción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- cuando se aporta a una sociedad existente todo el activo y pasivo de otra, la que la sucede en todos sus derechos y obligacion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403280" y="5734080"/>
            <a:ext cx="64008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No hay hecho gravado socios aportan derechos person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División de Sociedad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Divis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Una sociedad se separa en dos o más socie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Las nuevas personas jurídicas resultantes de la división cubren en conjunto el capital y objeto de la sociedad dividid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50920" y="4653000"/>
            <a:ext cx="8497800" cy="180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No existe transferencia de bienes corporales muebles ya que actividades y patrimonio de nuevas sociedades, son  en conjunto, idénticas a las de la sociedad que se divide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Aportes del partícipe a una cuenta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en participació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Entrega de bienes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Century Gothic"/>
              </a:rPr>
              <a:t>corporales muebles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 por un “vendedor” que sea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Century Gothic"/>
              </a:rPr>
              <a:t>partícipe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 en un contrato de asociación o cuentas en participación, al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Century Gothic"/>
              </a:rPr>
              <a:t>gestor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, no constituye hecho grav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39640" y="4419720"/>
            <a:ext cx="8136000" cy="180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Se fundamente criterio en que intención de las partes no es la de transferir el dominio, ni tampoco ser considerada como un contrato que por su naturaleza sirva para transferir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3.- Adjudicaciones en liquidaciones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de sociedades 8 (c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7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djudicación de bienes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Century Gothic"/>
              </a:rPr>
              <a:t>corporales mue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Dichos muebles sean propios del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Century Gothic"/>
              </a:rPr>
              <a:t>giro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 de la respectiva sociedad o comun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djudicación debe ser originada por liquidación de sociedad o comun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11280" y="4581360"/>
            <a:ext cx="7993080" cy="1373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No se aplica a liquidaciones de comunidad hereditaria  y comunidad que queda a la disolución de la sociedad conyug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Adjudicación de bienes corporales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inmuebl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djudicación de bienes corporales inmue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Liquidación de sociedades que sean empresas constructoras, comunidades, cooperativas de vivien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No es necesario que sea del giro de la constructora, comunidad o cooperativ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4.- Retiros efectuados por 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empresario, socios, director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Retiros efectuados por empresario, socios, directores o emple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Bienes corporales muebles del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Century Gothic"/>
              </a:rPr>
              <a:t>gi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Objeto: uso o consumo personal de tales personas o sus famil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692360" y="5257800"/>
            <a:ext cx="633564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No da  derecho a crédito fis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Faltantes de inventario – Se 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consideran retiro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58560" y="1699920"/>
            <a:ext cx="7396200" cy="41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Presunción legal de que los faltantes de inventario constituyen reti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Es necesario justificar salida de faltantes mediante documentación fehaci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anotaciones cronológicas en sistema de inventario permanente, contabilidad fidedig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Denuncias por robos o acciden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Informes liquidadoras de segu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Mermas reconocidas por ley u organismo E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6.- Bienes entregados a rifas o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sorteo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(art. 8 letra 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Retiro de bienes corporales mue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Sean o no del giro de la empre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Destinados a rifas y sorte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Fines promocionales o de propagan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Realizado por vendedores (no prestadores de 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No es necesaria la habitual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00000" y="6021360"/>
            <a:ext cx="79200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No da  derecho a crédito fis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7.- Bienes distribuidos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gratuitamente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rt. 8 letra 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Entrega o distribución gratuita de bie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realizados con fines de promoción o propagan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calidad de vende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pueden o no ser del giro del vende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No cumplen requisitos distribuciones efectuadas con fin simplemente benéf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26920" y="5877000"/>
            <a:ext cx="684072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No da  derecho a crédito fis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Hechos gravados especiales en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las venta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Operaciones, transacciones o prestaciones que la ley expresamente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Century Gothic"/>
              </a:rPr>
              <a:t>EQUIPARA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 a ventas. – Establecidas artículo 8 de la Le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unque no tengan todos los elementos del hecho gravado básico de ventas (p.e. puede faltar calidad de “vendedor”, habitualidad, etc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7.- Contrato de Instalación o 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Confección de Especialidad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Tiene por objeto la incorporación de elementos que adhieren permanentemente al inmueble y son necesarios para que cumpla cabalmente la función específica para lo cual se construy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Se equiparan a venta cuando son a “suma alzada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Ejemplo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scensores, climas artificiales, puertas y ventanas, sanitarios, electricidad, escaleras mecánicas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Si no concurren todos los elementos del hecho gravado especial, puede ser un hecho gravado básico (servicio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8.- Contratos Generales de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Construcció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Concepto del contrato de constr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Contrato que tiene por finalidad la confección de una obra material inmueble nueva que comprenda al menos dos especialidades, sea que se efectúe por si mismo o por intermedio de tercer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Ejempl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urbanización de sitios, construcción de vivienda, instalación sistema de señalización de tránsito; red alcantarillado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Venta/Servicio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Contratos de instalación o confección de especialidades y Contratos generales de constr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Suma alzada: IVA, hecho gravado especial equiparado a Venta, artículo 8 letra 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Administración: IVA, hecho gravado básico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de servi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9.- Venta de establecimiento de 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comercio y otras universalidad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Establecimiento de Comerc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Universalidad de hecho con existencia distinta a la de los      elementos que la componen, corporales e incorporales, donde el comerciante ejerce su ofic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Universalidad de Hec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- todo conjunto de bienes corporales e incorporales unidos opr su afectación a un fin común y que posee individualidad propia e independiente de los elementos que la componen (p.e. Fábricas, establecimientos industriales, bibliotecas, museos,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9.- Venta de establecimiento de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comercio y otras universalidad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Requisitos del hecho gravado espec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Es el valor de los bienes corporales muebles PROPIOS DEL GIRO del establecimiento o universalidad que se ven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Calidad de “vendedor” de los bie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Se exceptúan bienes del activo inmoviliz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Excep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No se aplica a la cesión del derecho de herencia (art.8 letra f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9.- Si establecimiento o 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universalidad incluyen inmueble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rt. 8 letra 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Venta de establecimientos de comercio y otras universalidades que comprenden inmuebles del giro de una empresa constructo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deben pertenecer el activo realizable, ser “vendedor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10.- Promesa de venta de bienes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corporales inmuebl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Promesa de ven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bienes corporales inmue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de propiedad de una empresa constructo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del gi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construidos total o parcialmente por el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11.- Contratos de arriendo con opción de compra de b. corp. inmuebl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15640" y="234936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Contrato de arriendo con opción de comp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celebrados por empresas constructora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respecto de inmuebles total o parcialmente construidos por ell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se asimilan a las promesas de venta para la aplicación del tributo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12.- Venta de Bienes del Activo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Fijo (art. 8 letra m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Venta de bienes corporales muebles o inmue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Clasificados en activo fij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Venta antes de los 48 meses contados desde su adquisición (muebles) ó 12 meses (inmuebles); o antes de su depreciación total (normal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Que el contribuyente haya tenido derecho al CREDITO FISCAL por IVA soport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Venta establecimiento de comerc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Listado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1. - Importa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2. - Aportes a socie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3. - Adjudica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4. - Retiros efectuados por vendedor o dueñ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5. - Retiros destinados a rifas y sorte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6. - Entregas o distribuciones gratui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7. - Contratos instalación o confección de especiali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6212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ccecff"/>
                </a:solidFill>
                <a:latin typeface="Century Gothic"/>
              </a:rPr>
              <a:t>HECHOS GRAVADOS</a:t>
            </a:r>
            <a:br>
              <a:rPr sz="3600"/>
            </a:br>
            <a:r>
              <a:rPr b="1" lang="es-MX" sz="3600" spc="-1" strike="noStrike">
                <a:solidFill>
                  <a:srgbClr val="ccecff"/>
                </a:solidFill>
                <a:latin typeface="Century Gothic"/>
              </a:rPr>
              <a:t>ESPECIALE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93976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SERVIC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Listado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rtículo 8 letra g, h, i, 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1.- “arrendamiento” de ciertos bienes corpor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2.- “arrendamiento” de marcas, patentes y otras prestaciones simila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3.- estacionamientos de vehícul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4.- primas de seguros de las cooperativas de segu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1.- Arrendamiento de bienes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muebles e inmuebl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rrendamiento, subarrendamiento, usufructo o cualquier otra forma de cesión temporal del uso y goce d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a.- bienes corporales mue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b.- inmuebles amobl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c.- inmuebles con instalaciones o maquinarias que 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permitan el ejercicio de una actividad c. o 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d.- todo tipo de establecimiento de comerci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689040" y="1901880"/>
            <a:ext cx="776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rrendamiento, subarrendamiento, otras formas de cesión temporal de uso o go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Inmuebles amobl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mobiliario y menaje en cantidad y naturaleza suficiente para ser habit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title"/>
          </p:nvPr>
        </p:nvSpPr>
        <p:spPr>
          <a:xfrm>
            <a:off x="685800" y="414360"/>
            <a:ext cx="77724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Arrendamiento de inmuebles 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amoblados</a:t>
            </a:r>
            <a:r>
              <a:rPr b="0" lang="es-MX" sz="3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55640" y="5084640"/>
            <a:ext cx="770400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IVA  se aplica sólo a renta que exceda del 11% o del  avalúo fiscal al año o en la proporción que corresponda (sólo aplicable a arriend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0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Inmuebles no agrícolas que tengan instalaciones o maquinarias que permitan desarrollar actividad comercial o indust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Inmuebles agrícolas, en la parte que tengan actividades industriales anexas o complementarias desarrolladas dentro del pred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Arrendamiento de inmuebles 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con instalaciones</a:t>
            </a:r>
            <a:r>
              <a:rPr b="0" lang="es-MX" sz="3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55640" y="4876920"/>
            <a:ext cx="777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IVA sólo renta que exceda del 11% del avalúo fiscal o de la cantidad proporcional que corresponda (arriend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Arrendamiento, subarrendamiento, cualquier forma de cesión temporal del uso y goc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Bienes incorporales que tiene su origen en “propiedad intelectual” y “propiedad industrial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ccecff"/>
                </a:solidFill>
                <a:latin typeface="Century Gothic"/>
              </a:rPr>
              <a:t>2.- Arrendamiento de marcas, </a:t>
            </a:r>
            <a:br>
              <a:rPr sz="3600"/>
            </a:br>
            <a:r>
              <a:rPr b="1" lang="es-MX" sz="3600" spc="-1" strike="noStrike">
                <a:solidFill>
                  <a:srgbClr val="ccecff"/>
                </a:solidFill>
                <a:latin typeface="Century Gothic"/>
              </a:rPr>
              <a:t>patentes y prestaciones similares</a:t>
            </a:r>
            <a:r>
              <a:rPr b="0" lang="es-MX" sz="3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611280" y="836640"/>
            <a:ext cx="7632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No se grava la constitución del derecho, ni la enajenaci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Exención: 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Artículo 59 Ley de la Ren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Servicios calificados como exportación 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de servic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3.- Estacionamiento de vehículos 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en playas de estacionamiento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7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Estacionamiento de vehículo en playas de estacionamiento u otros lugares destinado a dicho f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terrenos sin construcción, o construcciones lige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Edificios especialmente destinados a tal efec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11280" y="4724280"/>
            <a:ext cx="8208720" cy="1373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Se aplica a todos los valores que los usuarios paguen por estacionar vehículo en recinto, cualquiera sea el período o modalidad de pag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4.- Primas de seguros de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cooperativas de seguro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Primas de cooperativas de servicios de segu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ntes de modificación de 1980, no constituía hecho gravado por cuanto no era actividad clasificado en Nos. 3 y 4 art. 20 Ley Renta, sino que se clasificaban en el número 5 del mencionado precep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Existen ciertas exenciones aplic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Listado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8. - Contratos generales de constr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9. - Venta de establecimiento de comercio y de otras universi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10. - Promesa de venta de bienes corporales inmuebles de propiedad de una empresa constructora de su gir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11.- Contratos de arriendo con opción de comp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12. - Venta bienes activo fijo antes 48 ó 12 me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1.- Importacion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71280" y="1413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Importac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introducción legal de mercaderías extranjeras para su uso o consumo en el paí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No se distingue si hay habitual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Importación realizada por cualquier persona, sea o no vendedor o prestador de servi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611280" y="836640"/>
            <a:ext cx="7705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Impuesto se devenga al consumarse legalmente la import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lgunas excepcione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dm. Temporal /Almacenes Particula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Zona Fran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Depósito Aduane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2.- Aportes a sociedad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71640" y="134100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porte o transferencia de dominio o de una cuota de dominio con ocasión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- constitución, ampliación, modific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SOCIE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Bienes corporales muebles o inmuebles de propiedad de empresas constructoras, o en derechos reales constituidos sobre dichos bie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Aportante debe tener calidad de “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Century Gothic"/>
                <a:ea typeface="Times New Roman"/>
              </a:rPr>
              <a:t>vendedor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ccecff"/>
                </a:solidFill>
                <a:latin typeface="Century Gothic"/>
              </a:rPr>
              <a:t>Aportes </a:t>
            </a:r>
            <a:r>
              <a:rPr b="1" lang="es-MX" sz="3600" spc="-1" strike="noStrike" u="sng">
                <a:solidFill>
                  <a:srgbClr val="ccecff"/>
                </a:solidFill>
                <a:uFillTx/>
                <a:latin typeface="Century Gothic"/>
              </a:rPr>
              <a:t>no</a:t>
            </a:r>
            <a:r>
              <a:rPr b="1" lang="es-MX" sz="3600" spc="-1" strike="noStrike">
                <a:solidFill>
                  <a:srgbClr val="ccecff"/>
                </a:solidFill>
                <a:latin typeface="Century Gothic"/>
              </a:rPr>
              <a:t> gravados con IVA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Aportes de bienes del 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- aportante debe ser “vendedor” de esos bie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(Salvo artículo 8 letra 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Aportes de derechos person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Caso transformación de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empresa individual en sociedad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Empresario individual aporta todo su activo y pasivo a una persona juríd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Si el aporte comprende bienes corporales muebles del giro del empresario individual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209680" y="4572000"/>
            <a:ext cx="50292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Se configura el hecho gravado espe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6:16:24Z</dcterms:created>
  <dc:creator>CEYZAGUIRRE</dc:creator>
  <dc:description/>
  <dc:language>en-US</dc:language>
  <cp:lastModifiedBy>Bj</cp:lastModifiedBy>
  <dcterms:modified xsi:type="dcterms:W3CDTF">2007-03-05T16:25:40Z</dcterms:modified>
  <cp:revision>637</cp:revision>
  <dc:subject/>
  <dc:title>II. LEY DEL IMPUESTO AL VALOR AGREGADO (IVA)  Aspectos teóricos del Impuesto al  Valor Agregado Estructura General de la Ley</dc:title>
</cp:coreProperties>
</file>