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17E9-301F-48B4-9E43-B14AFC070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B18F-2128-4660-A008-997DEB62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F69A-A680-4107-BB39-C22EBFDB9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B0DF-7A8C-492E-A0D7-362BB5B98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D461-7989-4C4B-AD72-63510BCED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D32A-088B-4502-A7F0-92FAD0B1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59F6-91F3-48B9-B4EC-0C0EDCE5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80F6-AE65-49E4-A31E-1A834844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7D50-C23B-4D10-973C-2319FB87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0805-B862-4B0B-AFF5-03CE9C9F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5C97-4760-4335-A359-9DA1CC4A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3A34-A0E6-4E46-A150-82E070B8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962E-4432-49DF-85C6-68FDF974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72B7-036D-4300-8D5B-ACD7E1B4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55E1-4020-411D-88C7-3FFF6908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0500-2F2C-4403-A6FE-EC1B4B426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1400-067F-4A51-8823-59FC44314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7F32-57B7-4A62-8C14-F5ECD7CA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FB69-FB85-41FC-BBAF-9DD08CA5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30DC-A65C-4CE2-8AFB-C81D45EC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70AE-1ED7-4877-8DEF-5A97FE05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EB3E-07E7-4A55-8B8B-A6588B18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FC47-EAF3-45F4-A1F6-A0D6FB96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16A4-285C-46C5-922E-C2FDA120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744A-B581-42C7-A68E-3E6F96396D0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0D70-4C6F-42B4-AC04-E3A6AB05903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IMPUESTO AL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VALOR AGREGADO (IVA)</a:t>
            </a:r>
            <a:br>
              <a:rPr sz="3600"/>
            </a:b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1" lang="es-MX" sz="2400" spc="-1" strike="noStrike">
                <a:solidFill>
                  <a:srgbClr val="ffff00"/>
                </a:solidFill>
                <a:latin typeface="Century Gothic"/>
              </a:rPr>
              <a:t>Profesor: Rodrigo Rojas Palma</a:t>
            </a:r>
            <a:br>
              <a:rPr sz="2400"/>
            </a:br>
            <a:br>
              <a:rPr sz="2400"/>
            </a:br>
            <a:r>
              <a:rPr b="0" lang="es-MX" sz="2400" spc="-1" strike="noStrike">
                <a:solidFill>
                  <a:srgbClr val="ffff00"/>
                </a:solidFill>
                <a:latin typeface="Century Gothic"/>
              </a:rPr>
              <a:t>Ayudantes: </a:t>
            </a:r>
            <a:br>
              <a:rPr sz="2400"/>
            </a:br>
            <a:r>
              <a:rPr b="0" lang="es-MX" sz="2400" spc="-1" strike="noStrike">
                <a:solidFill>
                  <a:srgbClr val="ffff00"/>
                </a:solidFill>
                <a:latin typeface="Century Gothic"/>
              </a:rPr>
              <a:t>Jorge Carraha </a:t>
            </a:r>
            <a:br>
              <a:rPr sz="2400"/>
            </a:br>
            <a:r>
              <a:rPr b="0" lang="es-MX" sz="2400" spc="-1" strike="noStrike">
                <a:solidFill>
                  <a:srgbClr val="ffff00"/>
                </a:solidFill>
                <a:latin typeface="Century Gothic"/>
              </a:rPr>
              <a:t>Rodrigo Zarhi</a:t>
            </a:r>
            <a:br>
              <a:rPr sz="2400"/>
            </a:br>
            <a:br>
              <a:rPr sz="2400"/>
            </a:br>
            <a:r>
              <a:rPr b="0" lang="es-MX" sz="2400" spc="-1" strike="noStrike">
                <a:solidFill>
                  <a:srgbClr val="ffff00"/>
                </a:solidFill>
                <a:latin typeface="Century Gothic"/>
              </a:rPr>
              <a:t>2007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Century Gothic"/>
              </a:rPr>
              <a:t>HECHO GRAVADO BÁSIC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62320" y="3581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Century Gothic"/>
              </a:rPr>
              <a:t>VEN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REQUISITOS HECHO GRAVADO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BASICO VENT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2.- Sobre bienes corporales muebles, 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nmuebles de empresas constructo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1.- Convención Traslaticia de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dominio o de una cuota domini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Convención, acto o contrato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independiente del nombre que le den las partes que sirva pa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Transferir el domi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Transferir una cuota de domi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•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Dominio: derecho real que permite usar, gozar y disponer de una cosa arbitrariamente “propiedad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•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Propiedad, separada del goce de la cosa se llama “nuda propiedad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s-MX" sz="3200" spc="-1" strike="noStrike">
                <a:solidFill>
                  <a:srgbClr val="ffff00"/>
                </a:solidFill>
                <a:latin typeface="Century Gothic"/>
              </a:rPr>
              <a:t>2.- Debe recaer sobre bienes corporale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Century Gothic"/>
              </a:rPr>
              <a:t>muebles, bienes corporales inmuebles de una empresa constructora, o derechos rea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33526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94428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lasificación de los Bien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Bie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81080" y="1828800"/>
            <a:ext cx="457200" cy="2971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95640" y="1989000"/>
            <a:ext cx="220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Corpo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(ser re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86200" y="1828800"/>
            <a:ext cx="228600" cy="1752480"/>
          </a:xfrm>
          <a:custGeom>
            <a:avLst/>
            <a:gdLst>
              <a:gd name="textAreaLeft" fmla="*/ 0 w 228600"/>
              <a:gd name="textAreaRight" fmla="*/ 82440 w 228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91120" y="2057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95640" y="3352680"/>
            <a:ext cx="14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In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80000" y="16286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Por Naturalez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80000" y="220500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Por Anticip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08720" y="278136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Century Gothic"/>
              </a:rPr>
              <a:t>- </a:t>
            </a: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prod. de</a:t>
            </a:r>
            <a:r>
              <a:rPr b="0" lang="es-MX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inmue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8360" y="4581360"/>
            <a:ext cx="23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Incorpo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(derech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24360" y="314172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Por Naturalez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3276720"/>
            <a:ext cx="76320" cy="106668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24360" y="37162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Por Adh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24360" y="42926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Por Destin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4280" y="457200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59280" y="4797360"/>
            <a:ext cx="15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5486400"/>
            <a:ext cx="15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Pers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lasificación de los derechos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(cont.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3500280"/>
            <a:ext cx="18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Derech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8120" y="1600200"/>
            <a:ext cx="457200" cy="41911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988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Century Gothic"/>
              </a:rPr>
              <a:t>RE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1828800"/>
            <a:ext cx="228600" cy="2743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38680" y="17524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Domin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21337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H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38680" y="25146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Usufruc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28954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U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38680" y="3276720"/>
            <a:ext cx="181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Habit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3657600"/>
            <a:ext cx="15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Servidumb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38680" y="39625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Pren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8680" y="4343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Hipote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90920" y="320040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657600" y="2819520"/>
            <a:ext cx="15620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Century Gothic"/>
              </a:rPr>
              <a:t>Se grava s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Century Gothic"/>
              </a:rPr>
              <a:t>trans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64000" y="4653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Century Gothic"/>
              </a:rPr>
              <a:t>PERS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86400" y="5029200"/>
            <a:ext cx="196524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Recaen sobre determinad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Personas (arriend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1020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A.- Transferencias afect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 bienes corporales 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rechos reales sobre bienes corpor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De bienes corporales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De propiedad de una empresa constructo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construidos totalmente por ella o en pa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por un tercero para el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Derechos reales sobre bienes corporales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Situación de empresa constructora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que encarga la obr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La primera venta constituye hecho grav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- a.- por cuenta propia, realizando ella misma todas las especial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- b.- por cuenta propia, celebrando con terceros uno o más contratos de administración para la ejecución de la ob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- c.- por cuenta propia, celebrando con terceros todas o algunas especial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Situación de empresa constructora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que encarga la obr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La posterior venta NO constituye hecho grav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Por cuenta propia celebrando un contrato general de construcción por suma alzada con otra empresa construct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Adquiriendo obras construidas y terminadas por otra empresa construct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Situación de empresa constructor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Inmuebles adquiridos terminados, a los cuales la empresa constructora efectúa obras adicionales, complementarias, ampliaciones, terminaciones o remodelaciones – Hecho gravado sólo las obras complementari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826920" y="7650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Clasificación Impuesto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1.- Impuestos Direc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2.- Impuestos Indirec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3.- Convención a título Oneros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vención que transfiere el domi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be ser a título oneroso (no nec. Diner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Art. 1440 define contratos gratuitos y onero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  <a:ea typeface="Times New Roman"/>
              </a:rPr>
              <a:t>Gratuitos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: sólo tienen por objeto la utilidad de una de las partes, sufriendo la otra todo el gravame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  <a:ea typeface="Times New Roman"/>
              </a:rPr>
              <a:t>Onerosos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: utilidad de ambas partes, gravándose uno beneficio del otr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-30600"/>
            <a:ext cx="7772400" cy="15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4.- Bienes deben estar ubicados en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el Territorio Naciona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Ubicados en territorio 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ndependiente lugar en que se celebre conven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spec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ituación bienes ubicados transitoriam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fuera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bienes cuya inscripción, matrícula o patente haya sido otorgada en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bienes que se encuentren embarc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país procede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5.- Realizada por un “vendedor”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Vendedor – definición leg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rtículo 2 No. 3 L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Definición – artículo 2 No.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Habitualidad – calificada por el S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ART. 4.- Reglamento: SII considerará la naturaleza, cantidad y frecue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Presunciones de habitualidad - gi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“</a:t>
            </a: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Habitualidad” – elemento subjetiv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353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Corresponde al contribuyente probar que no existe habitualidad y/o que no adquirió con “ánimo” de reven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e presume habitualidad respecto 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todas las transferencias y retiros efectuados por un vendedor dentro de su gi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Ventas respecto de las cuales no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se tiene calidad de vendedo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Particulares que ocasionalmente vendan sus bienes nuevos o us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Empresas que vendan bienes corporales muebles que integran su activo inmovilizado o fijo (ojo art. 8 letra 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11280" y="1052640"/>
            <a:ext cx="777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Ventas materiales sobrantes adquiridos con ánimo de ser consumidos o utilizados durante rodaje administrativo (p.e. pap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alificación habitualidad venta de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Vendedor: Empresa construct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Empresa organizada para construir 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vender, aunque no sea exclusivo, o sea esporádico, o aprovech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ocasionalmente para construir y ven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Adjudicaciones – se presume habitua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¿Quién es vendedor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28195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1828800"/>
            <a:ext cx="457200" cy="2438280"/>
          </a:xfrm>
          <a:custGeom>
            <a:avLst/>
            <a:gdLst>
              <a:gd name="textAreaLeft" fmla="*/ 0 w 457200"/>
              <a:gd name="textAreaRight" fmla="*/ 164880 w 4572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32840" y="2206800"/>
            <a:ext cx="4548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A.- persona dedicada en for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HABITUAL a venta de bie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Corporales muebles o in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B.- productor, fabricante o empre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constructora que vende materias prim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o insumos no utiliz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5640" y="4800600"/>
            <a:ext cx="229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Habitu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4572000"/>
            <a:ext cx="152640" cy="1066680"/>
          </a:xfrm>
          <a:custGeom>
            <a:avLst/>
            <a:gdLst>
              <a:gd name="textAreaLeft" fmla="*/ 97560 w 152640"/>
              <a:gd name="textAreaRight" fmla="*/ 15300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52680" y="4724280"/>
            <a:ext cx="5029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Bienes corporales del GIRO –activo realiz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Calificada por el SII - Presuncion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NO son vendedor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Particulares que venden ocasionalm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Empresas que vendan activo fijo (8 letra 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Empresas que vendan material oficina sobra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Habitualidad Empresas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nstructor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Toda empresa organizada para constru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y vender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Aunque giro construcción no sea exclus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Aunque giro construcción sea esporádico o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de menor importa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Cuando existe organización empresa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distinta usada ocasionalmente para construir y vender uno o varios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1.- Los Impuestos Directos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Gravan la riqueza al momento de s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gener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produc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obten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No se califica de habitual en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empresas constructora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Ventas de inmuebles que las empresas constructoras hayan construido para su uso, esto 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Necesarios para producir la renta, 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Que hayan estado sujeto al tratamiento contable y tributario de ACTIVO FIJ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85800" y="1523880"/>
            <a:ext cx="76212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685800"/>
            <a:ext cx="533160" cy="5181480"/>
          </a:xfrm>
          <a:custGeom>
            <a:avLst/>
            <a:gdLst>
              <a:gd name="textAreaLeft" fmla="*/ 0 w 533160"/>
              <a:gd name="textAreaRight" fmla="*/ 192600 w 53316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47640" y="907920"/>
            <a:ext cx="23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Persona natu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47640" y="167652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Comunida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47640" y="134136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Persona juríd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19280" y="2133720"/>
            <a:ext cx="23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Sociedades de hech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86200" y="1219320"/>
            <a:ext cx="46465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Se dedique en  forma habitual a la venta de bienes corporales muebles, sean de su propia producción o de tercer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76360" y="342900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Empresa Construct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3124080"/>
            <a:ext cx="76320" cy="1524240"/>
          </a:xfrm>
          <a:custGeom>
            <a:avLst/>
            <a:gdLst>
              <a:gd name="textAreaLeft" fmla="*/ 22320 w 76320"/>
              <a:gd name="textAreaRight" fmla="*/ 76320 w 76320"/>
              <a:gd name="textAreaTop" fmla="*/ 63360 h 1524240"/>
              <a:gd name="textAreaBottom" fmla="*/ 146088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57600" y="914400"/>
            <a:ext cx="152280" cy="1676520"/>
          </a:xfrm>
          <a:custGeom>
            <a:avLst/>
            <a:gdLst>
              <a:gd name="textAreaLeft" fmla="*/ 0 w 152280"/>
              <a:gd name="textAreaRight" fmla="*/ 106920 w 152280"/>
              <a:gd name="textAreaTop" fmla="*/ 69840 h 1676520"/>
              <a:gd name="textAreaBottom" fmla="*/ 16066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87640" y="306864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Persona natu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87640" y="35053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Persona juríd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380988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Comunida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59280" y="4114800"/>
            <a:ext cx="219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Sociedades de hech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81480" y="3048120"/>
            <a:ext cx="228600" cy="1600200"/>
          </a:xfrm>
          <a:custGeom>
            <a:avLst/>
            <a:gdLst>
              <a:gd name="textAreaLeft" fmla="*/ 66960 w 228600"/>
              <a:gd name="textAreaRight" fmla="*/ 228960 w 228600"/>
              <a:gd name="textAreaTop" fmla="*/ 66600 h 1600200"/>
              <a:gd name="textAreaBottom" fmla="*/ 15336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3124080"/>
            <a:ext cx="251460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Se dedique en  forma habitual a la venta de bienes corporales inmuebles construidos total o parcialmente por ell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76520" y="4724280"/>
            <a:ext cx="181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Productor Fabric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9880" y="4648320"/>
            <a:ext cx="76320" cy="1295280"/>
          </a:xfrm>
          <a:custGeom>
            <a:avLst/>
            <a:gdLst>
              <a:gd name="textAreaLeft" fmla="*/ 0 w 76320"/>
              <a:gd name="textAreaRight" fmla="*/ 53640 w 7632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92360" y="57340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Empresa Construct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4876920"/>
            <a:ext cx="380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Venda materias primas e insumos que por cualquiera causa no utilice en sus procesos Productiv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246852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HECHO GRAVADO BÁSIC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3200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SERVIC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Definición de Servici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t. 2 No 2 Le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“La acción o prestación que una persona realiza para otra y por la cual percibe un interés, prima, comisión o cualquiera otra forma de remuneración, siempre que provenga del ejercicio de las actividades comprendidas en los Números 3 y 4 del Artículo 20 de la Ley de la Ren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Requisitos del Servicio como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hecho gravado básic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.- 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A.- Realización de una prestación a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favor de otra person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55280" y="2060640"/>
            <a:ext cx="74674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Puede ser realizada por persona natural o juríd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Prestació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acto o hecho que un contratante realiza o promete  a otro, 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Century Gothic"/>
              </a:rPr>
              <a:t>sin importar que sea HABITUAL u OCAS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B.- Que el prestador del servicio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perciba una remuneració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55280" y="2133360"/>
            <a:ext cx="71629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Percepción de “interés, prima o comisión, o cualquiera otra forma de remuneració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Con la percepción nace la obligación tribut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Percibir”: recibir una cosa y entregarse de el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.- Proveniente actividades del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 artículo 20 No. 3 y 4 Ley Rent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Actividades del 20 No.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Industria, comercio, minería, explotación de las riquezas del mar, y demás actividades extractiv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Cías. Aéreas, de seguros, bancos, asociaciones de ahorro y préstamos, sociedades administradoras fondos mutuos, sociedades de inversión o capitalización, empresas financieras y otras de actividad análog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C.- Proveniente actividades del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 artículo 20 No. 3 y 4 Ley Rent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Actividades del 20 No. 3 (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Empresas constructo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Empresas periodísticas, publicitarias, de radiodifusión y televi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Empresas de procesamiento automático de da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Empresas de telecomunic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(continuació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Actividades del 20 No.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Corredores que sean personas jurídi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Corredores que sean personas naturales, cuyas rentas no provengan exclusivamente de su trabajo o actuación pers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Comisionistas con oficina estableci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Martilleros, agentes de aduana, embarcadores y otros que intervienen com. Marítim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86832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2.- Impuestos Indirect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Grava la riqueza cuando se consu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Contribuyente de Derecho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atisface la obligación tributa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</a:t>
            </a:r>
            <a:r>
              <a:rPr b="1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Contribuyente de Hecho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oporta carga del tribu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(continuació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Actividades del 20 No.4 (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Agentes de seguros que no sean personas natural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Clínicas, hospitales, laboratorios y otros establecimientos análogos particular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Empresas de diversión y esparci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Interpretaciones del SI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Actividades del art. 20 No. 3 incluye rentas del “comercio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Se hace referencia al artículo 3 del Código de Comercio (def. de acto de comercio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Contrato de suministro – hoy super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Gestor de Negoc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D.- El servicio debe prestarse o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utilizarse en Chi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Territorialidad – art. 5 L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Servicio Prestado en Ch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cuando la actividad que genera el servicio es desarrollada en el territorio 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(continuació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Territorialidad – art. 5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ervicio Utilizado en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- cuando la actividad que genera el servicio es desarrollada fuera pero el beneficio es en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HECHOS GRAVADOS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ESPECIAL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35053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VEN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Hechos gravados especiales en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las vent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Operaciones, transacciones o prestaciones que la ley expresamente EQUIPARA a ventas. – Establecidas artículo 8 de la Le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unque no tengan todos los elementos del hecho gravado básico de ventas (p.e. puede faltar calidad de “vendedor”, habitualidad, etc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Listad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Import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Aportes a socie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Adjudic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Retiros efectuados por vendedor o dueñ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Retiros destinados a rifas y sorte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Entregas o distribuciones gratui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Contratos instalación o confección de especial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Listad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tratos generales de constr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Venta de establecimiento de comercio y de otras univers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Promesa de venta de bienes corporales muebles de propiedad de una empresa constructora de su giro, contratos de arriendo con opción de comp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venta bienes activo fijo antes 48 ó 12 me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1.- Importacion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mporta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introducción legal de mercaderías extranjeras para su uso o consumo en el paí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No se distingue si hay habitua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Importación realizada por cualquier persona, sea o no vendedor o prestador de servic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Impuesto se devenga al consumarse legalmente la importación (terminad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2.- Aportes a sociedad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porte o transferencia de dominio o de una cuota de dominio con ocasión 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onstitución, ampliación, modific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OCIE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Bienes corporales muebles o inmuebles de propiedad de empresas constructoras, o en derechos reales constituidos sobre dichos bie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Aportante debe tener calidad de “vendedor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Impuesto a las Ventas y Servicios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es un impuesto Indirect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Mayor recaudación fis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De traslación o recar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Beneficio fis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Declaración y pago mens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3.- Adjudicaciones en liquidaciones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de sociedades (8,c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777240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djudicación de bienes corporales mue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Dichos muebles sean propios del giro de la respectiva sociedad o comun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djudicación debe ser originada por liquidación de sociedad o comun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Adjudicación de bienes corporales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djudicación de bienes corporales inmue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Liquidación de sociedades que sean empresas constructoras, comunidades, cooperativas de vivien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No es necesario que sea del giro de la constructora, comunidad o cooperativ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4.- Retiros efectuados por 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empresario, socios, director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Retiros efectuados por empresario, socios, directores o emple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Bienes corporales muebles del gi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Objeto: uso o consumo personal de tales personas o sus famil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Retiro de Bienes Corporales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Retiro de inmue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del giro de una empresa construct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construido total o parcialmente por el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Si forma parte de activo fijo (mas de 12 meses) el retiro no se afecta con 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772400" cy="113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Faltantes de inventario – Se 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nsideran retiro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Presunción legal de que los faltantes de inventario constituyen retir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Es necesario justificar salida de faltantes mediante documentación fehacien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5.- Bienes entregados a rifas o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distribuidos gratuitament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(art. 8 letra 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tiro de bienes corporales 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Sean o no del giro de la empre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Destinados a rifas y sorte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Fines promocionales o de propaga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Realizado por vendedores (no prestadores de S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No es necesaria la habitua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5.1 Bienes distribuidos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gratuitament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(art. 8 letra 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ntrega o distribución gratuita de bie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realizados con fines de promoción o propaga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alidad de vende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pueden o no ser del giro del vende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No cumplen requisitos distribuciones efectuadas con fin simplemente benéf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39640" y="620640"/>
            <a:ext cx="8136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notaciones cronológicas en sistema de inventario permanente, contabilidad fidedig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Denuncias por robos o acciden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Informes liquidadoras de segur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Mermas reconocidas por ley u organismo E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6.- Contrato de Instalación o 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nfección de Especialidad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Tiene por objeto la incorporación de elementos que adhieren permanentemente al inmueble y son necesarios para que cumpla cabalmente la función específica para lo cual se construy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e equiparan a venta cuando son a “suma alzada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7.- Contratos Generales de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nstrucción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cepto del contrato de constr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ontrato que tiene por finalidad la confección de una obra material inmueble nueva que comprenda al menos dos especialidades, sea que se efectúe por si mismo o por intermedio de tercer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Century Gothic"/>
              </a:rPr>
              <a:t>(continuació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IVA llega a poder del Fisco fraccionada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en diferentes etapas de circulación produ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(productor – mayorista – minorista 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consumid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Los que intervienen en proceso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producción, distribución y venta recuper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Monto total impuesto recaudado 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diferentes etapas – SOPORTADO P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CONSUMIDOR FI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Tip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- suma alz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• </a:t>
            </a:r>
            <a:r>
              <a:rPr b="0" lang="es-MX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El que construye suministra materias o materias princip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administ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• </a:t>
            </a:r>
            <a:r>
              <a:rPr b="0" lang="es-MX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el que encarga la construcción suministra la materia o las materias primas princip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ituación Histór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Hasta el 01.10.87 sólo se gravaban los contratos por administración (servici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7.- Contratos Generales de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nstrucción (cont.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8.- Venta de establecimiento de 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mercio y otras universalidad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Establecimiento de Comerci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Universalidad de hecho con existencia distinta a la de los elementos que la componen, corporales e incorporales, donde el comerciante ejerce su ofic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539640" y="620640"/>
            <a:ext cx="80647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Universalidad de Hech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todo conjunto de bienes corporales e incorporales unidos por su afectación a un fin común y que posee individualidad propia e independiente de los elementos que la componen (p.e. Fábricas, establecimientos industriales, bibliotecas, museos, etc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8.- Venta de establecimiento de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mercio y otras universalidad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quisitos del hecho gravado espe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Es el valor de los bienes corporales muebles PROPIOS DEL GIRO del establecimiento o universalidad que se ven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alidad de “vendedor” de los bie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Se exceptúan bienes del activo inmoviliz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Excep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esión del derecho de herencia (art.8 letra 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8.1 Si establecimiento o 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universalidad incluyen inmueb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t. 8 letra 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Venta de establecimientos de comercio y otras universalidades que comprenden inmuebles del giro de una empresa construct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ben pertenecer el activo realizable, ser “vendedor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9.- Promesa de venta de bienes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rporales 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romesa de ven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bienes corporales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 propiedad de una empresa construct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l gi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struidos total o parcialmente por el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10.- Contratos de arriendo con opción 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de compra de b.c. 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trato de arriendo con opción de comp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elebrados por empresas constructor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specto de inmuebles total 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arcialmente construidos por ell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e asimilan a las promesas de venta para la aplicación del tributo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12.- Venta de Bienes del Activo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Fijo (art. 8 letra m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Venta de bienes corporales muebles o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lasificados en activo fij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Venta antes de los 48 meses contados desde su adquisición (muebles) ó 12 meses (inmue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Que el contribuyente haya tenido derecho al CREDITO FISCAL por IVA sopor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HECHOS GRAVADOS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ESPECIAL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2960280"/>
            <a:ext cx="777240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SERVIC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1.- Arrendamiento de bienes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muebles e inmuebl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4360" y="240336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Arrendamiento, subarrendamiento, usufructo o cualquier otra forma de cesión temporal del uso y goce d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(continuació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uantía del impuesto no se increment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or aplicación del impues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IVA no repercute en mayor costo 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producción, distribución 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comerci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No influye en fijación de precios de ven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79280" y="620640"/>
            <a:ext cx="8498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.- bienes corporales mue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b.- inmuebles amobl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c.- inmuebles con instalaciones o maquinarias que permitan el ejercicio de una actividad comercial o indust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d.- todo tipo de establecimiento de comercio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685800" y="1641600"/>
            <a:ext cx="777240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rrendamiento bienes corporales muebles que forman parte del activo fij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rrendamiento entre particula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Lea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Sobre bienes cuya venta está exenta de 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1.- Arrendamiento de bienes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rporales muebles (cont.)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rendamiento, subarrendamiento, otras formas de cesión temporal de uso o go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nmuebles amobl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- mobiliario y menaje en cantidad y naturaleza suficiente para ser habi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1.- Arrendamiento de inmuebles 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amoblados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26920" y="5157720"/>
            <a:ext cx="756144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IVA  se aplica sólo a renta que exceda del 11% o del  avalúo fiscal al año o en la proporción que corresponda (sólo aplicable a arriend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685800" y="1641600"/>
            <a:ext cx="7772400" cy="29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nmuebles no agrícolas que tengan instalaciones o maquinarias que permitan desarrollar actividad comercial o indust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nmuebles agrícolas, en la parte que tengan actividades industriales anexas o complementarias desarrolladas dentro del pred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1.- Arrendamiento de inmuebles 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n instalaciones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971640" y="5805360"/>
            <a:ext cx="74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IVA sólo renta que exceda del 11% del avaluo fiscal o de la cantidad proporcional que corresponda (arriend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rendamiento, subarrendamiento, cualquier forma de cesión temporal del uso y go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Bienes incorporales que tiene su origen en “propiedad intelectual” y “propiedad industrial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se grava la constitución del derecho, ni la enajen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2.- Arrendamiento de marcas, 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patentes y prestaciones similares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3.- Estacionamiento de vehículos 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en playas de estacionamient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777240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Estacionamiento de vehículo en playas de estacionamiento u otros lugares destinado a dicho f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terrenos sin construcción, o construcciones lige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Edificios especialmente destinados a tal efec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4.- Primas de seguros de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operativas de seguro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rimas de cooperativas de servicios de segu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ntes de modificación de 1980, no constituía hecho gravado por cuanto no era actividad clasificado en Nos. 3 y 4 art. 20 Ley Renta, sino que se clasificaban en el número 5 del mencionado precep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xisten ciertas exenciones aplica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“</a:t>
            </a: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Base Imponible” –precio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pagado por consumidor final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Concepto “valor agregado” no es en rig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el hecho grav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e establece un impuesto a Ventas 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istema dotado de mecanismo que imp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efecto “cascada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Mecanismo demuestra que en realidad 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persigue un porcentaje del “valor final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Estructura General de la Ley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(Decreto Ley 825 de 1974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Título I – Normas Gene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- Materia y Destino del Impuesto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Definiciones, Contribuyentes, Ot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Título 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Impuesto al Valor agre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Título 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Impuestos Especiales a las Ventas 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Título 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Administración del Impue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5:01:31Z</dcterms:created>
  <dc:creator>JCARRAHA</dc:creator>
  <dc:description/>
  <dc:language>en-US</dc:language>
  <cp:lastModifiedBy>.</cp:lastModifiedBy>
  <dcterms:modified xsi:type="dcterms:W3CDTF">2007-04-10T13:52:31Z</dcterms:modified>
  <cp:revision>28</cp:revision>
  <dc:subject/>
  <dc:title>Presentación de PowerPoint</dc:title>
</cp:coreProperties>
</file>