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510-8788-4AB6-8E15-FD6590A3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67F-2EEB-41C0-A483-92E9BC67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7EF-A48E-4C3C-A64E-37F42C76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20B-69C8-486B-9CEA-E4683807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28F0-AB18-4E58-98D7-F2584744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55A0-48AD-4BBD-BADD-9C8719E4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35CE-DF74-4A7C-899D-2942128D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05DC-F80E-46C8-99F0-64D8B29E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7AB0-A4D6-40FD-B06D-A1C17C9B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03B4-3945-42BC-8256-B9BD3DF5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A354-2C1C-4E67-BB57-2690BA30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B90-9661-416A-829D-87564067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C4F3-F9CB-4644-9233-8B84F2C4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B5B7-F318-4C44-A48D-FC54F5A5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45A2-2171-4579-B850-A1BE66E8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A301-2948-40B7-9119-18C1F54F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4C06-150E-44DC-BAAC-CACCD839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1D0-F879-475D-98C5-CE5703DF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C09-5E4A-4ECF-A718-A2022A6E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0BF-7B78-462F-BA6E-40103CCE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D2A-8A7E-41A4-8346-CF0006DC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B09-39CA-44C5-83E2-8238C59C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E71-44CD-4DA1-BED3-BC56A36E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795-80A4-439C-AC19-D97EB428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1339-2752-4AA8-A039-FF02BF13D54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A2C4-8BDA-43FA-B325-4B0C9CEB4FD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IMPUESTO AL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VALOR AGREGADO (IVA)</a:t>
            </a: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Century Gothic"/>
              </a:rPr>
              <a:t>Profesor: Rodrigo Rojas Palma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Ayudantes: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Jorge Carraha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Rodrigo Zarhi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200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Century Gothic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BASICO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ominio o de una cuota domi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vención, acto o contrat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dependiente del nombre que le den las partes que sirva p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ransferir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ransferir una cuot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ominio: derecho real que permite usar, gozar y disponer de una cosa arbitrariamente “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piedad, separada del goce de la cosa se llama “nuda 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2.- Debe recaer sobre bienes corporal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muebles, bienes corporales inmuebles de una empresa constructora, o derechos re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944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lasificación de los Bie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198900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ser re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18288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3352680"/>
            <a:ext cx="14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16286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Naturale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2205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Anticip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2781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rod. de</a:t>
            </a: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inmue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8360" y="4581360"/>
            <a:ext cx="23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derech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31417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Naturale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276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37162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Adh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42926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or Desti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5720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4797360"/>
            <a:ext cx="15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5486400"/>
            <a:ext cx="15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50028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entury Gothic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Do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2133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2514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Usufr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895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U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327672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abi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657600"/>
            <a:ext cx="15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Servidum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9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re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4343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Hipote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2819520"/>
            <a:ext cx="1562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Century Gothic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Century Gothic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4653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entury Gothic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5029200"/>
            <a:ext cx="19652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Recaen sobre determin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020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.- Transferencias afec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De propiedad de una empresa constructo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a.- por cuenta propia, realizando ella misma todas l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or cuenta propia celebrando un contrato general de construcción por suma alzada con otr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dquiriendo obras construidas y terminadas por otr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ituación de empresa constructo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muebles adquiridos terminados, a los cuales la empresa constructora efectúa obras adicionales, complementarias, ampliaciones, terminaciones o remodelaciones – Hecho gravado sólo las obras complementar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Clasificación Impuesto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1.- Impuestos Dir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2.- Impuestos Indir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3.- Convención a título Oneros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Gratuito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 sólo tienen por objeto la utilidad de una de las partes, sufriendo la otra todo el gravame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Oneroso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 utilidad de ambas partes, gravándose uno beneficio del ot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-3060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Bienes deben estar ubicados en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l Territorio Nacion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dependiente lugar en que se celebre conven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tuación bienes ubicados transitori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fuera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bienes cuya inscripción, matrícula o patente haya sido otorgada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bienes que se encuentren embarc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aís proced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- Realizada por un “vendedor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dor – definición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tículo 2 No. 3 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finición – artículo 2 No.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Habitualidad – calificada por el S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RT. 4.- Reglamento: SII considerará la naturaleza, cantidad y frecu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Presunciones de habitualidad -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“</a:t>
            </a: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abitualidad” – elemento subjeti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rresponde al contribuyente probar que no existe habitualidad y/o que no adquirió con “ánimo” de rev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presume habitualidad respect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odas las transferencias y retiros efectuados por un vendedor dentro de su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Ventas respecto de las cuales n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se tiene calidad de vended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articulares que ocasionalmente vendan sus bienes nuevos o us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mpresas que vendan bienes corporales muebles que integran su activo inmovilizado o fijo (ojo art. 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11280" y="1052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 materiales sobrantes adquiridos con ánimo de ser consumidos o utilizados durante rodaje administrativo (p.e. pap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djudicaciones – se presume habitua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¿Quién es vendedo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2840" y="2206800"/>
            <a:ext cx="4548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800600"/>
            <a:ext cx="22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57200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Bienes corporales del GIRO –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NO son vendedo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articulares que venden ocasion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s que vendan activo fijo (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mpresas que vendan material oficina sobr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tor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oda empresa organizada para constr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y vender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unque giro construcción no sea exclus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unque giro construcción sea esporádico 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 menor impor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uando existe organización empresa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istinta usada ocasionalmente para construir y vender uno o vario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1.- Los Impuestos Directo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Gravan la riqueza al momento de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gene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p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obt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No se califica de habitual en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mpresas constructora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 de inmuebles que las empresas constructoras hayan construido para su uso, esto 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Necesarios para producir la renta,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Que hayan estado sujeto al tratamiento contable y tributario de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523880"/>
            <a:ext cx="7621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90792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16765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Com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1341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213372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ociedades de hec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1219320"/>
            <a:ext cx="4646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e dedique en  forma habitual a la venta de bienes corporales muebles, sean de su propia producción o de tercer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342900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Empresa Construct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30686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na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35053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erson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8098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Com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59280" y="4114800"/>
            <a:ext cx="21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Sociedades de hec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124080"/>
            <a:ext cx="25146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724280"/>
            <a:ext cx="181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Productor Fabric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92360" y="57340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Empresa Construct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87692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Venda materias primas e insumos que por cualquiera causa no utilice en sus procesos Produ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24685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 GRAVADO BÁSIC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finición de Servic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2 No 2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echo gravado bás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A.- Realización de una prestación a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favor de otra person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uede ser realizada por persona natural o jurí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restació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cto o hecho que un contratante realiza o promete  a otro,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Century Gothic"/>
              </a:rPr>
              <a:t>sin importar que sea HABITUAL u OCA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B.- Que el prestador del servicio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perciba una remuneració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7162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ercepción de “interés, prima o comisión, o cualquiera otra forma de remuneració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 la percepción nace la obligación tribut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Percibir”: recibir una cosa y entregarse de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 artículo 20 No. 3 y 4 Ley Re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Industria, comercio, minería, explotación de las riquezas del mar, y demás actividades extrac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ías. Aéreas, de seguros, bancos, asociaciones de ahorro y préstamos, sociedades administradoras fondos mutuos, sociedades de inversión o capitalización, empresas financieras y otras de actividad análo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C.- Proveniente actividades del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 artículo 20 No. 3 y 4 Ley Rent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periodísticas, publicitarias, de radiodifusión y telev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procesamiento automático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telecomuni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rredores que sean personas juríd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rredores que sean personas naturales, cuyas rentas no provengan exclusivamente de su trabajo o actuación 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misionistas con oficina establec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Martilleros, agentes de aduana, embarcadores y otros que intervienen com. Maríti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8683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2.- Impuestos Indirect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Grava la riqueza cuando se cons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tribuyente de Derecho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atisface la obligación tribu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</a:t>
            </a:r>
            <a:r>
              <a:rPr b="1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tribuyente de Hecho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oporta carga del trib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gentes de seguros que no sean personas natura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línicas, hospitales, laboratorios y otros establecimientos análogos particula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mpresas de diversión y espar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terpretaciones del S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ntrato de suministro – hoy supe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Gestor de Nego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utilizarse en Chi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Territorialidad – art. 5 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 Prestado en C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cuando la actividad que genera el servicio es desarrollada en el territorio 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Hechos gravados especiales en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las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peraciones, transacciones o prestaciones que la ley expresamente EQUIPARA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Listad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Import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portes a socie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Adjudi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Retiros efectuados por vendedor o du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Retiros destinados a rifas y sor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Entregas o distribuciones gratui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- Contratos instalación o confección de especial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Listad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s generales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Venta de establecimiento de comercio y de otras univers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romesa de venta de bienes corporales muebles de propiedad de una empresa constructora de su giro, contratos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venta bienes activo fijo antes 48 ó 12 me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Importacio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troducción legal de mercaderías extranjeras para su uso o consumo en el paí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distingue si hay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ortación realizada por cualquier persona, sea o no vendedor o prestador de 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uesto se devenga al consumarse legalmente la importación (termin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2.- Aportes a socie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porte o transferencia de dominio o de una cuota de dominio con ocasión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stitución, ampliación, mo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OCIE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ante debe tener calidad de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Impuesto a las Ventas y Servici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 un impuesto Indirec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Mayor recaudación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 traslación o recar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enefici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claración y pago men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3.- Adjudicaciones en liquidacio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 sociedades (8,c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 bienes corporales 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ichos muebles sean propios del giro de la respectiva sociedad o comun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be ser originada por liquidación de sociedad o comun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djudicación de bienes corporal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djudicación de bienes corporales in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Liquidación de sociedades que sean empresas constructoras, comunidades, cooperativas de vivi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No es necesario que sea del giro de la constructora, comunidad o cooperati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Retiros efectuados por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mpresario, socios, direct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Retiros efectuados por empresario, socios, directores o emple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ienes corporales muebles del g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Objeto: uso o consumo personal de tales personas o sus famil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Retiro de Bienes Corporal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Retiro de in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l giro de una empresa construc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onstruido total o parcialmente por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i forma parte de activo fijo (mas de 12 meses) el retiro no se afecta con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Faltantes de inventario – Se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ideran reti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Presunción legal de que los faltantes de inventario constituyen reti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Es necesario justificar salida de faltantes mediante documentación fehacie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- Bienes entregados a rifas 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istribuidos 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an o no del giro de l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stinados a rifas y sor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Fines promocionales o de propag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 por vendedores (no prestadores de 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es necesaria la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5.1 Bienes distribuido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s con fines de promoción o propag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vend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ueden o no ser del giro del vend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cumplen requisitos distribuciones efectuadas con fin simplemente benéf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9640" y="62064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notaciones cronológicas en sistema de inventario permanente, contabilidad fidedig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nuncias por robos o accid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Informes liquidadoras de segu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Mermas reconocidas por ley u organismo E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6.- Contrato de Instalación o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fección de Especi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7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ció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en diferentes etapas de circulación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suma al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l que construye suministra materias o materi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l que encarga la construcción suministra la materia o las materias prim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tuación Histó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Hasta el 01.10.87 sólo se gravaban los contratos por administración (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7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strucción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- Venta de establecimiento de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Establecimiento de Comerc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iversalidad de hecho con existencia distinta a la de los elementos que la componen, corporales e incorporales, donde el comerciante ejerce su of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9640" y="620640"/>
            <a:ext cx="8064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Universalidad de H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todo conjunto de bienes corporales e incorporales unidos por su afectación a un fin común y que posee individualidad propia e independiente de los elementos que la componen (p.e. Fábricas, establecimientos industriales, bibliotecas, museos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- Venta de establecimiento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s el valor de los bienes corporales muebles PROPIOS DEL GIRO del establecimiento o universalidad que se ven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“vendedor” de los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 exceptúan bienes del activo inmovil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esión del derecho de herencia (art.8 letra 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8.1 Si establecimiento o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universalidad incluyen inmue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9.- Promesa de venta de bie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rporales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0.- Contratos de arriendo con opción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de compra de b.c.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o de inmuebles total 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arcialmente construidos por el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2.- Venta de Bienes del Activ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Fijo (art. 8 letra 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antes de los 48 meses contados desde su adquisición (muebles) ó 12 meses (inmue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960280"/>
            <a:ext cx="77724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1.- Arrendamiento de bienes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muebles e inmueb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360" y="2403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Arrendamiento, subarrendamiento, usufructo o cualquier otra forma de cesión temporal del uso y goce 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uantía del impuesto no se incremen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or aplicación del im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VA no repercute en mayor costo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ducción, distribución 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merci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No influye en fijación de precios de v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9280" y="620640"/>
            <a:ext cx="849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.- bienes corporales mue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.- inmuebles amobl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c.- inmuebles con instalaciones o maquinarias que permitan el ejercicio de una actividad comercial 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d.- todo tipo de establecimiento de comercio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 bienes corporales muebles que forman parte del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 entre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Le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obre bienes cuya venta está exenta de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bien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rporales muebles (cont.)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mobiliario y menaje en cantidad y naturaleza suficiente para ser habi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amoblado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157720"/>
            <a:ext cx="75614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 se aplica sólo a renta que exceda del 11% o del  avalúo fiscal al año o en la proporción que corresponda (sólo aplicable a arrie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9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1.- 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n instalacione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71640" y="580536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entury Gothic"/>
              </a:rPr>
              <a:t>IVA sólo renta que exceda del 11% del avaluo fiscal o de la cantidad proporcional que corresponda (arriend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cualquier forma de cesión temporal del uso y go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incorporales que tiene su origen en “propiedad intelectual” y “propiedad industri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se grava la constitución del derecho, ni la enajen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2.- Arrendamiento de marcas, 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patentes y prestaciones similares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3.- Estacionamiento de vehículos 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Century Gothic"/>
              </a:rPr>
              <a:t>en playas de estacionamient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stacionamiento de vehículo en playas de estacionamiento u otros lugares destinado a dicho f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terrenos sin construcción, o construcciones lige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Edificios especialmente destinados a tal ef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4.- Primas de seguros de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cooperativas de segu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ntes de modificación de 1980, no constituía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“</a:t>
            </a: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Base Imponible” –precio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pagado por consumidor final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establece un impuesto a Ventas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Century Gothic"/>
              </a:rPr>
              <a:t>(Decreto Ley 825 de 1974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Materia y Destino del Impuest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Definiciones, Contribuyentes, O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Impuesto al Valor agre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Impuestos Especiales a las Ventas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Administración d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01:31Z</dcterms:created>
  <dc:creator>JCARRAHA</dc:creator>
  <dc:description/>
  <dc:language>en-US</dc:language>
  <cp:lastModifiedBy>.</cp:lastModifiedBy>
  <dcterms:modified xsi:type="dcterms:W3CDTF">2007-04-10T13:52:31Z</dcterms:modified>
  <cp:revision>28</cp:revision>
  <dc:subject/>
  <dc:title>Presentación de PowerPoint</dc:title>
</cp:coreProperties>
</file>