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1DBB-4D2D-4737-9427-CFC5ED25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F3C-8343-4804-87FD-4625CCD1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FCC6-CF93-43D1-8069-29B6A8A4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9CB3-A4F4-4DDC-A19C-B459E3D1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DE6D-D49B-41C2-8800-118F63F0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0D2E-B27E-457D-A3A1-1488289B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69B4-E8E2-419D-9FE7-93AD5914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65FF-8B7E-42B0-A426-30F0B8C8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8E8F-675A-4358-9CC3-C2186145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B966-CE4B-411A-A29C-AAF5FEBE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292E-00A8-4584-B67A-7F2E3E07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D344-E09B-45AE-9E28-D0904643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A557-728F-43A8-BDDB-4309A86D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2E0A-A496-40BD-99EA-732440A8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4E82-2DCC-469F-90A5-7A43CD86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72B2-20B5-4CE9-BBA9-EE8CADBC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F4EF-0925-483D-AB2E-22C1B867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C6E-C24E-4D10-A9E0-657970CB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B606-D6CE-4DF9-B3B8-A524D1C2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92F3-C8CA-4E75-BBFC-D3FE6DD8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6AB7-035A-4667-8595-6695927E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9002-927C-430F-9DD6-EA431578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54BD-5DF0-4E9F-9B80-67D8CF7F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4AFE-1086-46AB-97AF-9C8086AB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DDF4-6DB6-442E-BEFE-1B5D3772447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7928-A995-46FC-965D-18502947A64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533520"/>
            <a:ext cx="77724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LEY SOBRE IMPUESTO A LAS VENTAS 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Y SERVICIOS </a:t>
            </a:r>
            <a:br>
              <a:rPr sz="2800"/>
            </a:b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Decreto Ley No.825, de 1974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iferentes métodos de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0481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92360" y="2492280"/>
          <a:ext cx="2590560" cy="264168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26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Efectiv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roduc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insum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p – I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148360" y="2421000"/>
          <a:ext cx="2590560" cy="322740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375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obre </a:t>
                      </a:r>
                      <a:r>
                        <a:rPr b="0" lang="es-MX" sz="1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imes New Roman"/>
                        </a:rPr>
                        <a:t>base financi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compra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____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alor Agre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[v – c= VA]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• 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Ventaj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fácil manej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- autocontrol (oposi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ntre part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ASE CONTRA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asa del impuesto se aplica a diferenc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tre ventas y compras del perío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Vent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tal Compra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10.00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Base imponible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2.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 aplica tas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19% a BI): 2.000 * 19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mpuesto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lternativas del Método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strac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33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CONTRA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impuesto a pagar se determina p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ferencia entre impuesto recargado en l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ventas (DEBITO FISCAL) y 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oportado en las adquisiciones (CREDI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ISCAL) del mismo perío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B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2.2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ENOS CREDITO FISCAL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(1.9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= IMPUESTO A PAGAR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$    38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ísticas del DEBIT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liquida mensu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ncluye las ventas y operaciones d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07800" y="55368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tapas Múltiples – efecto cascad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9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1.6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41,61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68,5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68,52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00,5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00,53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238,6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 Venta en una sol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0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sola etapa,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caudado en 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N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IVA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PT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DF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Tahoma"/>
              </a:rPr>
              <a:t>C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0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1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19   -   0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1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30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0.9 – 1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2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42.8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2.8 – 20.9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 1.9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30 + 19%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= 154.7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22.8)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=  1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    130 + 19%   = 154.7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(24.7 – 0 )      =  24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en una única etapa, recaud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tapas múltip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VA llega a poder del Fisco fraccionad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diferentes etapas de circulación del produc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productor – mayorista – minorista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sumido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Los que intervienen en proces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y venta recupe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onto total impuesto recaudado 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ferentes etapas – SOPORTADO P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inuación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uantía del impuesto no se incremen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aplicación del impues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VA no repercute en mayor costo 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ducción, distribución 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mercializ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influye en fijación de precios de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 Definitiva” –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recio pagado x consumidor final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cepto “valor agregado” no es en rig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hecho grav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stema dotado de mecanismo que imp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o “cascada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ecanismo demuestra que en realidad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ersigue un porcentaje del “valor final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tofiscalización –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evasión intermed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emisión boleta final: total eva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75840" y="31716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structura General de la Ley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Decreto Ley 825 de 1974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1276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ítulo I – Normas Gen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ateria y Destino del Impuesto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finiciones, Contribuyentes, O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mpuesto al Valor agreg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Impuestos Especiales a las Ventas 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ítulo 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Administración del Impues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(*) Decreto Supremo No.55 Reglamento, de 198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VA Y OBLIGACION 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bligación Tributaria: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vínculo jurídico en virtud del cual una persona (deudor), se encuentra en la necesidad de dar una suma de dinero a otra (acreedor) al verificarse un supuesto de hecho descrito en la ley; pudiendo el acreedor exigir el cumplimiento aún coercitiv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lementos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9080" y="212076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ctivo – Acreedor – Fis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 Pasivo – Deudor – Contribuy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 la Obligación: la prestación - Tributo: 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Mediata –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Inmediata – verificación del hecho grav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ujetos de la Obligación Tributari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n el IV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Activo – Fis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ujeto Pasivo – Contribuy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ded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Prestador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Objeto de la Obligación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ibutaria: es el hecho gravad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Hecho Gravado Espe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Ven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similados a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HECHO GRAVADO BÁSIC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581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ASIC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(ELEMENTOS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06360" y="2120760"/>
            <a:ext cx="74692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finición concepto Ventas (art. 2 No. 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toda convención que sirva para transferir a títu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oneroso el dominio de ciertos bie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inmuebles de propiedad de Empresa  Constructo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erritorialidad (art 4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Ubicados en territori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lidad de Vendedor (art. 2 No. 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Habitual; o venta de materias primas o insumos del mismo proceso productiv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 Convención Traslatici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 o de una cuota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56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, acto o contrat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dependiente del nombre que le den las partes que sirva p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el domin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Transferir una cuota de dominio,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Derechos reales constituidos sobre el bien respec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75840" y="553680"/>
            <a:ext cx="7124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jemplos de convencio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slaticias de 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31640" y="2276640"/>
            <a:ext cx="7118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trato de comprave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u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utuo de especies corporales mue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fección de obra material mue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ta de cosa fu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2240" y="1793880"/>
            <a:ext cx="70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52480" y="2514600"/>
          <a:ext cx="838440" cy="91440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743200" y="297180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943600" y="2514600"/>
          <a:ext cx="838080" cy="91440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 flipH="1" flipV="1">
            <a:off x="2666880" y="3048120"/>
            <a:ext cx="32004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1143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mpraven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 una c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581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ga en Din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4941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uerdo en cosa y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Impuestos pueden clasificarse en dos grup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Impuestos 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Impuestos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11280" y="404640"/>
            <a:ext cx="7162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utuo de bien corporal mueb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 préstamo de consu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3048120"/>
            <a:ext cx="76212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25146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 cosas fungib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38680" y="3352680"/>
            <a:ext cx="76212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666520" y="37339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4343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stituye otras del mismo género y c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5181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 un contrato 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3200400"/>
            <a:ext cx="28958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16000" y="620640"/>
            <a:ext cx="6324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fección de obra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ue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25909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fectúa obra material mue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352680"/>
            <a:ext cx="762120" cy="609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35053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895120" y="3581280"/>
            <a:ext cx="221004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4038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ga un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517356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4876920"/>
            <a:ext cx="586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ta:     Material proporciona artí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rvicio: Material proporciona el que en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3357720"/>
            <a:ext cx="76176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1600" y="990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ación en pa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2057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Entrega una cosa </a:t>
            </a: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distinta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 a la que de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2895480"/>
            <a:ext cx="1371600" cy="838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u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2895480"/>
            <a:ext cx="1676160" cy="8384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ree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327672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Transferencia de una cuo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omin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ambién se define como v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par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ransferencia de cuota de bien poseído en comun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GRAVADO 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2. Debe recaer sobre bienes corporale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muebles, bienes corporales inmuebles de una empresa constructora, o derechos real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Bienes corporales mueb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•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ellos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348000" y="285264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352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3429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ransferenci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07800" y="39816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Bien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182880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1981080"/>
            <a:ext cx="220968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ser re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995640" y="1989000"/>
            <a:ext cx="69840" cy="1671840"/>
          </a:xfrm>
          <a:custGeom>
            <a:avLst/>
            <a:gdLst>
              <a:gd name="textAreaLeft" fmla="*/ 0 w 69840"/>
              <a:gd name="textAreaRight" fmla="*/ 25200 w 69840"/>
              <a:gd name="textAreaTop" fmla="*/ 43560 h 1671840"/>
              <a:gd name="textAreaBottom" fmla="*/ 1628280 h 167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9112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3352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19890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35640" y="22766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nticip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4572000"/>
            <a:ext cx="1828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orpo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(derech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3276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Naturale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284640"/>
            <a:ext cx="71280" cy="1015920"/>
          </a:xfrm>
          <a:custGeom>
            <a:avLst/>
            <a:gdLst>
              <a:gd name="textAreaLeft" fmla="*/ 45720 w 71280"/>
              <a:gd name="textAreaRight" fmla="*/ 71640 w 71280"/>
              <a:gd name="textAreaTop" fmla="*/ 26280 h 1015920"/>
              <a:gd name="textAreaBottom" fmla="*/ 989640 h 101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3657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Ad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4038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or Destin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581360"/>
            <a:ext cx="71280" cy="1305000"/>
          </a:xfrm>
          <a:custGeom>
            <a:avLst/>
            <a:gdLst>
              <a:gd name="textAreaLeft" fmla="*/ 45720 w 71280"/>
              <a:gd name="textAreaRight" fmla="*/ 71640 w 71280"/>
              <a:gd name="textAreaTop" fmla="*/ 33840 h 1305000"/>
              <a:gd name="textAreaBottom" fmla="*/ 1271160 h 13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769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76920" y="548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75840" y="39816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lasificación de los derech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0020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E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1752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Domi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2133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er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2514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ufruc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U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3276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abi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38680" y="3657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Servid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38680" y="3962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re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8680" y="43434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Hipote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90920" y="320040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281952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Se grava 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ffffff"/>
                </a:solidFill>
                <a:latin typeface="Times New Roman"/>
              </a:rPr>
              <a:t>trans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08360" y="4941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515772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en sobre d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s (arri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07800" y="475920"/>
            <a:ext cx="71262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Transferencias afec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44240" y="2120760"/>
            <a:ext cx="712620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bienes corporales 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rechos reales sobre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De propiedad de una empresa constructor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struidos totalmente por ella o en par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un tercero para 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rechos reales sobre bienes corporale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rimera venta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.- por cuenta propia, realizando ella mis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s l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b.- por cuenta propia, celebrando con terceros uno o más contratos de administración para la ejecución de la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.- por cuenta propia, celebrando con terceros todas o algunas especial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1.- Los Impuestos Directo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(p.e. Impuesto a la Renta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on aquellos que gravan la riqueza al momento de s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ge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prod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obte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iran la identidad del contribuyent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ravando de acuerdo a la capacidad contribu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on de difícil o imposible tras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ción de empresa constructor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que encarga la obr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posterior venta NO constituye hecho gra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or cuenta propia celebrando un contrato general de construcción por suma alzada con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dquiriendo obras construidas y terminadas por otra empres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muebles 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3.- Convención a título Oneros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vención que transfiere el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be ser a título oneroso (no nec. Diner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rt. 1440 define contratos gratuitos y onero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Gratuit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sólo tienen por objeto la utilidad de una de las partes, sufriendo la otra todo el gravame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Oneroso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: utilidad de ambas partes, gravándose uno en beneficio del ot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4.- Bienes deben estar ubicados en el Territorio Nacion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44240" y="2052360"/>
            <a:ext cx="71262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Ubicados en territorio nacional Independiente del lugar en que se celebre convención respec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ituación bienes ubicados transitoria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uera de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cuya inscripción, matrícula o patente ha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ido otorgada en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bienes que se encuentren embarcados en el país de proced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lustración - territorialida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057400"/>
            <a:ext cx="4114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ienes corporales mue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 inmuebles deben es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bicados en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48360" y="1844640"/>
            <a:ext cx="304560" cy="1981080"/>
          </a:xfrm>
          <a:custGeom>
            <a:avLst/>
            <a:gdLst>
              <a:gd name="textAreaLeft" fmla="*/ 0 w 304560"/>
              <a:gd name="textAreaRight" fmla="*/ 10980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2209680"/>
            <a:ext cx="220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 momento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elebrarse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ven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426708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Independiente del lugar en que se cele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la conv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Excepción: IVA sobre biene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ituados en el extranjero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2895480"/>
            <a:ext cx="1752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Bie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Situ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n 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imes New Roman"/>
              </a:rPr>
              <a:t>Extranj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43280" y="2565360"/>
            <a:ext cx="433440" cy="3014640"/>
          </a:xfrm>
          <a:custGeom>
            <a:avLst/>
            <a:gdLst>
              <a:gd name="textAreaLeft" fmla="*/ 276840 w 433440"/>
              <a:gd name="textAreaRight" fmla="*/ 433800 w 433440"/>
              <a:gd name="textAreaTop" fmla="*/ 78480 h 3014640"/>
              <a:gd name="textAreaBottom" fmla="*/ 2936160 h 30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2209680"/>
            <a:ext cx="4456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uya inscripción, matrícula o patente haya sido otorgada en 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Bienes embarcados en país de origen a la fecha convención. Adquirente no vendedor o prestador de servicios de las especies import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HECHO GRAVADO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ICO VENT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.- Convención Traslaticia de Domin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2.- Sobre bienes corporales muebles, o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empresas construct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3.- A título Onero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4.- Ubicados en Territorio 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Realizada por un “vendedo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5.- Realizada por un “vendedor”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ición – artículo 2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abitualidad – calificada por el S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RT. 4.- Reglamento: SII considerará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aturaleza, cantidad y frecuencia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ánimo de revent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sunciones de habitualidad - gi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” – elemento subjetiv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rresponde al contribuyente probar 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 existe habitualidad y/o que no adquiri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“ánimo” de reve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e presume habitualidad respecto 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odas las transferencias y reti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fectuados por un vendedor dentro de 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i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07800" y="317160"/>
            <a:ext cx="71262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2.- Impuestos Indirect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Grava la riqueza cuando se cons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Afecta ingresos, fondos, recursos cuando se emplean en la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dquisición de bienes o 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ácil Traslación: permitida u ordenada por la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Derecho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y llama a satisfacer la obligación tributa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ntribuyente de Hech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porta en su patrimonio la carga del tribu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Ventas respecto de las cuales </a:t>
            </a:r>
            <a:r>
              <a:rPr b="1" lang="es-MX" sz="3200" spc="-1" strike="noStrike" u="sng">
                <a:solidFill>
                  <a:srgbClr val="eaeaea"/>
                </a:solidFill>
                <a:uFillTx/>
                <a:latin typeface="Tahoma"/>
              </a:rPr>
              <a:t>n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se tiene calidad de vendedo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ocasionalmente vend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us bienes nuevos o us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mpresas que vendan bienes corpor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uebles que integran su ac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movilizado o fijo (salvo, art. 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Ventas materiales sobrantes adquir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n ánimo de ser consumidos o utiliz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urante rodaje administrativo (p.e. pap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lificación habitualidad venta de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muebl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dor: Empresa construct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mpresa organizada para construir 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nder, aunque no sea exclusivo, o sea esporádico, o aprovech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casionalmente para construir y v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¿Quién es vendedor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2819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ende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182880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4360" y="2209680"/>
            <a:ext cx="382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.- persona dedicada en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HABITUAL a venta de bie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rporales muebles o inmue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.- productor, fabricante o 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onstructora que vende materias pri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 insumos no utiliz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800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Habitu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203640" y="4581360"/>
            <a:ext cx="71280" cy="1067040"/>
          </a:xfrm>
          <a:custGeom>
            <a:avLst/>
            <a:gdLst>
              <a:gd name="textAreaLeft" fmla="*/ 45720 w 71280"/>
              <a:gd name="textAreaRight" fmla="*/ 71640 w 71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4724280"/>
            <a:ext cx="5029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ienes corporales del GIRO – activo realiz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alificada por el SII - Presun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NO son vendedo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articulares que venden ocasion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que vendan activo fijo (8 letra 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vendan material oficina sobra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75840" y="475920"/>
            <a:ext cx="712476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abitualidad Empresas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structora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79080" y="2189160"/>
            <a:ext cx="711828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Toda empres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organizad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para constru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y vender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 sea exclus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giro construcción sea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sporádico 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e menor import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uando existe organización empresa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istinta usada ocasionalmente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ara construir y vender uno o varios inmue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85800" y="1523880"/>
            <a:ext cx="762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19320" y="685800"/>
            <a:ext cx="533160" cy="5181480"/>
          </a:xfrm>
          <a:custGeom>
            <a:avLst/>
            <a:gdLst>
              <a:gd name="textAreaLeft" fmla="*/ 0 w 533160"/>
              <a:gd name="textAreaRight" fmla="*/ 192600 w 53316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1066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16765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13716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19810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1219320"/>
            <a:ext cx="2743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muebles, sean de su propia producción o de terc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3429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3124080"/>
            <a:ext cx="76320" cy="1524240"/>
          </a:xfrm>
          <a:custGeom>
            <a:avLst/>
            <a:gdLst>
              <a:gd name="textAreaLeft" fmla="*/ 22320 w 76320"/>
              <a:gd name="textAreaRight" fmla="*/ 76320 w 7632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57600" y="914400"/>
            <a:ext cx="152280" cy="1676520"/>
          </a:xfrm>
          <a:custGeom>
            <a:avLst/>
            <a:gdLst>
              <a:gd name="textAreaLeft" fmla="*/ 0 w 152280"/>
              <a:gd name="textAreaRight" fmla="*/ 10692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3200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natu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3505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ersona juríd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3809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Comun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1148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ociedades de h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048120"/>
            <a:ext cx="228600" cy="1600200"/>
          </a:xfrm>
          <a:custGeom>
            <a:avLst/>
            <a:gdLst>
              <a:gd name="textAreaLeft" fmla="*/ 66960 w 228600"/>
              <a:gd name="textAreaRight" fmla="*/ 228960 w 22860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3124080"/>
            <a:ext cx="25146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e dedique en  forma habitual a la venta de bienes corporales inmuebles construidos total o parcialmente por el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76520" y="4724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Productor Fabric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9880" y="46483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5257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Empresa Construct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487692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Venda materias primas e insumos que por cualquiera causa no utilice en sus procesos Produ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finición de Servici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31640" y="2255400"/>
            <a:ext cx="727236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rt. 2 No.2 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“La acción o prestación que una persona realiza para otra y por la cual percibe un interés, prima, comisión o cualquiera otra forma de remuneración, siempre que provenga del ejercicio de las actividades comprendidas en los Números 3 y 4 del Artículo 20 de la Ley de la Ren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A.- Realización de una prestación a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avor de otra person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2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uede ser realizada por persona natural o juríd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est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cto o hecho que un contratante realiza o promete  a otro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sin importar que sea HABITUAL o ESPORÁD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Impuesto a las Ventas y Servicios</a:t>
            </a:r>
            <a:br>
              <a:rPr sz="2800"/>
            </a:b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es un impuesto Indirect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ayor recaudación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traslación o reca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Der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vendedor, prestador 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Contr. de Hech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consumidor fi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stino: beneficio fis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eclaración y pago mens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arácter plurifás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.- Que el prestador del servici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perciba una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695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epción de “interés, prima o comisión, o cualquiera otra forma de remuneració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 la percepción nace la obligación tributa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cibir”: recibir una cosa, pago y cualquier otro modo de extingu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42800" y="398160"/>
            <a:ext cx="7127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oncepto de Remuneración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lo que se da para remunerar (premiar, compens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r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precio que el asegurado paga al asegu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teré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Provecho, utilidad, ganancia. Lucro del capit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Mandato conferido al comisionista que no sea dependiente del que apod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Industria comercio, minería, explotación de las riquezas del mar, y demás actividades extractiv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ías. Aéreas, de seguros, bancos, asociaciones de ahorro y préstamos, sociedades administradoras fondos mutuos, sociedades de inversión o capitalización, empresas financieras y otras de actividad análo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 3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constructo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periodísticas, publicitarias, de radiodifusión y televis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procesamiento automático de d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telecomunic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juríd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rredores que sean personas naturales, cuyas rentas no provengan exclusivamente de su trabajo o actuación pers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misionistas con oficina establec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Martilleros, agentes de aduana, embarcadores y otros que intervienen com. Maríti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.- Proveniente actividades del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artículo 20 No. 3 y 4 Ley Rent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20 No.4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Agentes de seguros que no sean personas natural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línicas, hospitales, laboratorios y otros establecimientos análogos particular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mpresas de diversión y esparc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Interpretaciones del SI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ividades del art. 20 No. 3 incluye rentas del “comercio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hace referencia al artículo 3 del Código de Comercio (def. de acto de comerci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ntrato de suministro – hoy supe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Gestor de Negoc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Requisitos del Servicio com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hecho gravado básic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.- Que una persona realice una acción o prestación a favor de otra pers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.- Que dicha persona perciba por la acción o prestación un interés, prima, comisión o remun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.- Que la acción o prestación provenga ejercicio actividades artículo 20 Nos.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Que el servicio se preste o utilice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BJETIVO DEL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GRAVAR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EXCLUSIVAMENTE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L VALOR QUE AÑADE AL PRECIO DE VENTA DE UN DETERMINADO BIEN O SERVICIO, CADA UNO DE LOS AGENTES QUE INTERVIENEN EN EL PROCESO DE S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distribu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- comercializ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Prest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en el territori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.- El servicio debe prestarse 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utilizarse en 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ritorialidad – art. 5 L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rvicio Utilizado en Ch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uando la actividad que genera el servicio es desarrollada fuera pero el beneficio es en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xención: Rentas afectas a impuesto Adicional del Art. 59 Ley de la Renta se encuentran exentas de I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ARACTERISTICAS DEL IVA EN 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CHILE (cont.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2276280"/>
            <a:ext cx="75438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mpuesto al “valor agregad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 carácter plurifás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No acumulativo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MX" sz="2000" spc="-1" strike="noStrike">
                <a:solidFill>
                  <a:srgbClr val="ffffff"/>
                </a:solidFill>
                <a:latin typeface="Tahoma"/>
              </a:rPr>
              <a:t>se busca evitar “impuesto en cascada”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alculado sobre base financi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dalidad impuesto contra im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Formas de lograr el objetivo</a:t>
            </a:r>
            <a:br>
              <a:rPr sz="3200"/>
            </a:b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Base Imponibl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étodos para determinar “valor agregado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- METODO DE LA ADICIÓN (SUM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e suman todos los factores que fueron agregados en l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respectiva etap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B.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ETODO DE LA SUSTRACCIÓN (RESTA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•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uantificar diferencias entre ventas y compras por c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una de las empresas que inciden en proces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6:24Z</dcterms:created>
  <dc:creator>CEYZAGUIRRE</dc:creator>
  <dc:description/>
  <dc:language>en-US</dc:language>
  <cp:lastModifiedBy> Rodrigo Rojas</cp:lastModifiedBy>
  <dcterms:modified xsi:type="dcterms:W3CDTF">2007-08-28T15:56:09Z</dcterms:modified>
  <cp:revision>618</cp:revision>
  <dc:subject/>
  <dc:title>II. LEY DEL IMPUESTO AL VALOR AGREGADO (IVA)  Aspectos teóricos del Impuesto al  Valor Agregado Estructura General de la Ley</dc:title>
</cp:coreProperties>
</file>