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468-17ED-42EA-8A8F-FF080716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9A4-4789-408E-8024-F6E4E3E3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57F-56B2-406D-9095-3F0147C9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5DE-CC04-481E-B5D3-7C855442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7F7-8A65-4A35-B672-A6705741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96C2-C8FA-4CA1-B315-C501B259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75ED-DB8F-43AB-9E49-EA88945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2F35-3E25-4C3B-822B-BF809074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AAE6-BC81-4234-B902-73960727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8967-37FA-4457-AEDD-147B1B0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5C08-B1CF-4FC1-941B-11F72576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F87-9334-4753-91BD-8617B80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BF5-C100-40A9-A7BB-6A51CA7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DCA3-9BD2-435E-84C1-B31B127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A4FD-D1A6-4D73-917A-E8F427B3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1D2-E238-444B-A336-E63DA498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D10-4AF2-48F6-8109-A62AC22B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5D1-0FAF-43AA-BF13-E56C220B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8BB-DD35-4AD8-9D9D-54DD9212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FA3-DB9F-4AFE-A6EE-F2EC44D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9F7-6923-409B-9B1E-80843AC8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CB2-B6E4-48FD-A36B-E6D68EC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146-A9B7-4E2E-8633-898A1E2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138-3274-4AD1-91C7-03CCF9BA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538-132D-4F3D-9BC6-FCC196BC8C2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3541-1403-4B70-AF25-7FA21692D7B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 Rodrigo Rojas</cp:lastModifiedBy>
  <dcterms:modified xsi:type="dcterms:W3CDTF">2007-08-28T15:56:09Z</dcterms:modified>
  <cp:revision>618</cp:revision>
  <dc:subject/>
  <dc:title>II. LEY DEL IMPUESTO AL VALOR AGREGADO (IVA)  Aspectos teóricos del Impuesto al  Valor Agregado Estructura General de la Ley</dc:title>
</cp:coreProperties>
</file>