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D7A-D51E-4486-9C42-39D7607F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C77-7257-4E3E-B468-C005E194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F63-79B5-4092-A4D6-269395C1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C7A-04B4-4C96-B4F7-D15277C0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161B-E418-4213-9934-1115FCCD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E276-8FCB-4339-A66E-A14C8592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6672-B0BF-4D4C-90EA-30623C39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88AF-21AD-4A30-B3EA-F4B40271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2199-35EC-4F1A-9FAE-ED9FC10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38FE-F32F-4740-9F35-935C156F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FD5E-F5EE-4225-B0B9-1F111C1B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0DA-BA99-43ED-8A1C-BEEFC357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9956-4390-4613-A680-2F1519D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3A66-E92F-4B0C-AC7E-03C86C5F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8A7A-11E5-4A8A-BD12-7C992B9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1288-5BF4-454F-B8F2-1C734AEA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0542-B7E5-43B6-AF36-272BFC51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54A-072B-4A92-B6EB-E1340489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EC8-AAA5-43B3-B8A6-31B93661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571-1988-42C4-8923-5CE5C439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56E-BC7B-4170-85BD-B9E9BA2B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81C-5674-4FC0-A639-FB47A05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D57-C9C1-4602-BB0D-4903FF94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A28-3A1F-4CA2-98A5-BB1C617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CF93-5BC5-447E-B50B-20560D95995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01B2-06FF-404B-ACC5-7F0AE4885CC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53352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4941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4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181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590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 Rodrigo Rojas</cp:lastModifiedBy>
  <dcterms:modified xsi:type="dcterms:W3CDTF">2007-08-28T15:56:09Z</dcterms:modified>
  <cp:revision>618</cp:revision>
  <dc:subject/>
  <dc:title>II. LEY DEL IMPUESTO AL VALOR AGREGADO (IVA)  Aspectos teóricos del Impuesto al  Valor Agregado Estructura General de la Ley</dc:title>
</cp:coreProperties>
</file>