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10288588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C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76E0-AC0B-434B-9417-1B1DA76C9ADE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9"/>
          </p:nvPr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D47C-986A-40AF-A1E7-FA9C41D73B5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Img"/>
          </p:nvPr>
        </p:nvSpPr>
        <p:spPr>
          <a:xfrm>
            <a:off x="637920" y="415440"/>
            <a:ext cx="5584680" cy="37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body"/>
          </p:nvPr>
        </p:nvSpPr>
        <p:spPr>
          <a:xfrm>
            <a:off x="685800" y="4331160"/>
            <a:ext cx="548604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A617-EF78-477E-98EA-03EECE0378A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C6BE-497B-4B9D-8BC6-E82E02E7C79D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66880" y="684360"/>
            <a:ext cx="5126040" cy="3417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9AF9-A3BF-4C7F-AB75-7A57C0CA686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4C70-2520-4508-AA1A-24F0B504C020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66880" y="684360"/>
            <a:ext cx="5126040" cy="34178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BA23-FE83-47EE-8DC4-0017DBF664F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884D-E0DD-4402-BE62-1D4FFD4A17B6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66880" y="684360"/>
            <a:ext cx="5126040" cy="34178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0185-FDF6-4A0B-A36E-2C65A4C5197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BC9C-17CE-4077-B71B-BFB187DD6775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66880" y="684360"/>
            <a:ext cx="5126040" cy="34178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9BFA-D724-42C3-ACB8-4740B1747FC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F6BB-B4B3-4B16-8DC8-B086F54489C2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66880" y="684360"/>
            <a:ext cx="5126040" cy="3417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9427-2C0D-4E45-9FD7-813819CC4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F97E-12C0-4971-9BE1-0150A4AD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6C18-C0C8-4E94-A0A6-2AC9A3BB3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42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7744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40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442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7744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F67D-7B52-442E-8535-1AE687684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DE4D-0868-4316-859D-92C561B64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409F-4F14-437F-9AE5-363BC5AD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6F3C-980A-4E37-BA2C-1090EEA1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B9D3-B304-4C1D-B749-96DBFBAD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145D-05E4-49AC-B410-6729D832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14080" y="27756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E381-2AFC-487A-94D8-44C133A7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2C4B-571C-45B5-903B-CB206BAB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2835-8D03-48CF-887F-0284932C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B49B-3221-4ACE-A4AC-71505D4C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FA5D-50B8-4757-ACF1-1FC913DA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61FF-2621-432B-91CD-6A3EF19C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3148-52A2-407D-B247-25ED70659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6442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7744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40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6442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7744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DD20-99EE-4F1B-B049-E6E9CCF19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F039-DB5F-448E-8ACF-2C86CA57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6123-5FDE-45FE-A149-81734F32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E301-26F2-416C-889E-EE0E7F3E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14080" y="27756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B80B-4311-45D9-98F8-3343A1D5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C35A-CDA9-4820-8C58-DFBA0738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9EE5-A60C-404B-B798-6299665D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5A30-42B6-4D5E-BDD4-D2B6B8D8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275000" y="1789200"/>
            <a:ext cx="6008400" cy="5056200"/>
            <a:chOff x="4275000" y="1789200"/>
            <a:chExt cx="6008400" cy="5056200"/>
          </a:xfrm>
        </p:grpSpPr>
        <p:sp>
          <p:nvSpPr>
            <p:cNvPr id="1" name=""/>
            <p:cNvSpPr/>
            <p:nvPr/>
          </p:nvSpPr>
          <p:spPr>
            <a:xfrm>
              <a:off x="7554240" y="2166840"/>
              <a:ext cx="35172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677360" y="1881360"/>
              <a:ext cx="8424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9295920" y="2373480"/>
              <a:ext cx="1044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699400" y="5568840"/>
              <a:ext cx="11772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9799560" y="2436480"/>
              <a:ext cx="1080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10072440" y="2414520"/>
              <a:ext cx="1044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6150240" y="2882520"/>
              <a:ext cx="1080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923360" y="2890800"/>
              <a:ext cx="1044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5419800" y="2968200"/>
              <a:ext cx="1044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156080" y="4795920"/>
              <a:ext cx="111240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504640" y="5700600"/>
              <a:ext cx="177876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547480" y="5786280"/>
              <a:ext cx="173592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579520" y="5700600"/>
              <a:ext cx="170388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62640" y="2446200"/>
              <a:ext cx="18216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462640" y="2682720"/>
              <a:ext cx="16056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462640" y="2806560"/>
              <a:ext cx="16056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768960" y="1913040"/>
              <a:ext cx="18216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780120" y="2141640"/>
              <a:ext cx="14976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768960" y="2274840"/>
              <a:ext cx="16056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694080" y="5595840"/>
              <a:ext cx="11772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387400" y="1789200"/>
              <a:ext cx="464940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239440" y="5989680"/>
              <a:ext cx="15012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748560" y="6146640"/>
              <a:ext cx="16056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4285440" y="6146640"/>
              <a:ext cx="12852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4363920" y="6093000"/>
              <a:ext cx="246492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275000" y="6086520"/>
              <a:ext cx="268272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358520" y="6127920"/>
              <a:ext cx="254520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6684480" y="6013440"/>
              <a:ext cx="16020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9683640" y="5719680"/>
              <a:ext cx="12816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7568280" y="2814480"/>
              <a:ext cx="3088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7657920" y="2452680"/>
              <a:ext cx="13536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7536240" y="2766960"/>
              <a:ext cx="36612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689960" y="2427120"/>
              <a:ext cx="45036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445160" y="2255760"/>
              <a:ext cx="56592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514080" y="627840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8202-30FB-428F-B9B5-388A3363C34F}" type="datetime">
              <a:rPr b="0" lang="es-CL" sz="1200" spc="-1" strike="noStrike">
                <a:solidFill>
                  <a:srgbClr val="ffffff"/>
                </a:solidFill>
                <a:latin typeface="Tahoma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514320" y="62784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7372080" y="627840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012D-A859-48B6-9E1B-906B76B84C9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4275000" y="1789200"/>
            <a:ext cx="6008400" cy="5056200"/>
            <a:chOff x="4275000" y="1789200"/>
            <a:chExt cx="6008400" cy="5056200"/>
          </a:xfrm>
        </p:grpSpPr>
        <p:sp>
          <p:nvSpPr>
            <p:cNvPr id="77" name=""/>
            <p:cNvSpPr/>
            <p:nvPr/>
          </p:nvSpPr>
          <p:spPr>
            <a:xfrm>
              <a:off x="7554240" y="2166840"/>
              <a:ext cx="35172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77360" y="1881360"/>
              <a:ext cx="8424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9295920" y="2373480"/>
              <a:ext cx="1044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699400" y="5568840"/>
              <a:ext cx="11772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9799560" y="2436480"/>
              <a:ext cx="1080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10072440" y="2414520"/>
              <a:ext cx="1044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6150240" y="2882520"/>
              <a:ext cx="1080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923360" y="2890800"/>
              <a:ext cx="1044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5419800" y="2968200"/>
              <a:ext cx="1044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56080" y="4795920"/>
              <a:ext cx="111240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504640" y="5700600"/>
              <a:ext cx="177876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547480" y="5786280"/>
              <a:ext cx="173592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579520" y="5700600"/>
              <a:ext cx="170388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462640" y="2446200"/>
              <a:ext cx="18216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62640" y="2682720"/>
              <a:ext cx="16056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62640" y="2806560"/>
              <a:ext cx="16056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768960" y="1913040"/>
              <a:ext cx="18216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780120" y="2141640"/>
              <a:ext cx="14976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768960" y="2274840"/>
              <a:ext cx="16056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694080" y="5595840"/>
              <a:ext cx="11772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87400" y="1789200"/>
              <a:ext cx="464940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39440" y="5989680"/>
              <a:ext cx="15012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48560" y="6146640"/>
              <a:ext cx="16056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85440" y="6146640"/>
              <a:ext cx="12852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63920" y="6093000"/>
              <a:ext cx="246492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75000" y="6086520"/>
              <a:ext cx="268272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358520" y="6127920"/>
              <a:ext cx="254520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84480" y="6013440"/>
              <a:ext cx="16020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683640" y="5719680"/>
              <a:ext cx="12816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68280" y="2814480"/>
              <a:ext cx="3088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57920" y="2452680"/>
              <a:ext cx="13536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536240" y="2766960"/>
              <a:ext cx="36612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89960" y="2427120"/>
              <a:ext cx="45036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45160" y="2255760"/>
              <a:ext cx="56592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514080" y="627840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C336-2C8F-49E4-B537-CDD95860D27B}" type="datetime">
              <a:rPr b="0" lang="es-CL" sz="1200" spc="-1" strike="noStrike">
                <a:solidFill>
                  <a:srgbClr val="ffffff"/>
                </a:solidFill>
                <a:latin typeface="Tahoma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514320" y="62784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771120" y="1767960"/>
            <a:ext cx="874404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7372080" y="627840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42F9-4C91-4BBE-B9AF-E36A1AAFC50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14080" y="8377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800" spc="-1" strike="noStrike">
                <a:solidFill>
                  <a:srgbClr val="dbbd71"/>
                </a:solidFill>
                <a:latin typeface="Book Antiqua"/>
              </a:rPr>
              <a:t>Derecho Tributario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95080" y="4876920"/>
            <a:ext cx="72961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 Antiqua"/>
              </a:rPr>
              <a:t>Facultad de Derech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 Antiqua"/>
              </a:rPr>
              <a:t>Universidad de Ch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 Antiqua"/>
              </a:rPr>
              <a:t>Segundo Semestre 200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2819520" y="2438280"/>
            <a:ext cx="4647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Book Antiqua"/>
              </a:rPr>
              <a:t>Profe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Book Antiqua"/>
              </a:rPr>
              <a:t>Rodrigo Rojas 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6E36-8EAA-47DE-8D30-45B3A40CBB4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C55564-A1F8-4058-B79B-83B2901070CC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14080" y="990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Comparación Tasa y Precio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90400" y="2590920"/>
            <a:ext cx="4553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Tas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Obligato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Monopol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Subsid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43320" y="2590560"/>
            <a:ext cx="45529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re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Volunta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Libre ofer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Util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2520-0AA1-4B55-947C-0AADDF4FF3C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0464D9-CE4B-4480-8447-F3C2BC7B5FEB}" type="datetime1">
              <a:rPr lang="en-US"/>
              <a:t>07/30/26</a:t>
            </a:fld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76240" y="699480"/>
            <a:ext cx="7925040" cy="55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Norma: Decreto Supremo N° 109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 EXENT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Fecha Publicación: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28.02.2005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Organismo: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MINISTERIO DE </a:t>
            </a: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AGRICULTURA</a:t>
            </a:r>
            <a:br>
              <a:rPr sz="1200"/>
            </a:b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FIJA TARIFA POR LA INSPECCION Y CERTIFICACION DE PRODUCTOS FORESTALES DE EXPORTACION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Santiago, 22 de Febrero de 2005.- Hoy se decretó lo que sigue: Núm. 109 exento.-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Visto: El artículo 6º del DFL Nº 294 de 1960; lo establecido en artículo 7º letra ñ) de la ley Nº 18.755, Orgánica del Servicio Agrícola y Ganadero, modificada por la ley Nº 19.283, el Nº 16 del decreto Nº 186, de 1994, del Ministerio de Agricultura; el decreto Nº 19, de 2001, del Ministerio Secretaría General de la Presidencia y el artículo 32, Nº 8, y 35 de la Constitución Política de la República,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Decreto: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1º Fíjanse las siguientes tarifas a ser aplicadas en las labores de inspección y certificación de productos forestales de exportació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Rollizos, maderas aserradas   y aserrables, por metro cúbico         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0,00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Astillas y madera elaborada,   por tonelada                           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0,005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Vara de coligüe, por cada muestra de 300 uds que ampara un lote de 6000 unidades     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0,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d) Tejuelas de madera y otros productos forestales elaborados no incluidos en lo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tipos anteriores, por    hora de inspección                     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0,5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2º Las tarifas señaladas en el presente decreto y los valores aplicables no incluyen el valor de los servicios de laboratorio que deban efectuarse, ni el costo de las horas extraordinarias habilitadas a cobrar.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3º El presente decreto regirá a contar del primer día del mes siguiente al de su publicación en el Diario Oficial.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Anótese, comuníquese y publíquese.-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Por orden del Presidente de la República, Arturo Barrera Miranda, Ministro de Agricultura (S).- María Eugenia Wagner Brizzi, Ministra de Hacienda (S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FC80-6178-41D8-A569-71470DFEEA05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98F350-5212-4E16-8F01-E4CFB08A9002}" type="datetime1">
              <a:rPr lang="en-US"/>
              <a:t>07/30/26</a:t>
            </a:fld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14080" y="91404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br>
              <a:rPr sz="3600"/>
            </a:br>
            <a:r>
              <a:rPr b="0" lang="es-MX" sz="2800" spc="-1" strike="noStrike">
                <a:solidFill>
                  <a:srgbClr val="dbbd71"/>
                </a:solidFill>
                <a:latin typeface="Book Antiqua"/>
              </a:rPr>
              <a:t>Definiciones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42520" y="2285640"/>
            <a:ext cx="9201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Vinculo jurídico en virtud del cual, un sujeto debe dar a otro, que actúa ejercitando el poder tributario, una suma de dinero que se determina por ley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Vinculo de carácter personal que surge entre el Estado u otros entes públicos y, los sujetos pasivos en cuanto en cuanto ocurre el presupuesto de hecho previsto en la ley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66DA-6595-401E-A973-42DF9AA73D4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6E67A2-25BF-49FE-BC3E-B8A335639465}" type="datetime1">
              <a:rPr lang="en-US"/>
              <a:t>07/30/26</a:t>
            </a:fld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785680" y="1143000"/>
            <a:ext cx="47145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bbd71"/>
                </a:solidFill>
                <a:latin typeface="Book Antiqua"/>
              </a:rPr>
              <a:t>Elem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81160" y="251460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Vinculo Juríd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Fuente leg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Acaecimiento de un hecho grav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Obligación principal: Pago de suma de dine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75AC-5674-4C13-B9B2-A4DEB08FDCA9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75146B-1929-458B-8592-75258051FB27}" type="datetime1">
              <a:rPr lang="en-US"/>
              <a:t>07/30/26</a:t>
            </a:fld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785680" y="1143000"/>
            <a:ext cx="471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Sujetos y Hecho Grav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81160" y="251460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Sujeto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Book Antiqua"/>
              </a:rPr>
              <a:t>Activo (Estado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Book Antiqua"/>
              </a:rPr>
              <a:t>Pasivo (Contribuyente, Agente retenedor, tercero responsabl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Hecho Gravado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Book Antiqua"/>
              </a:rPr>
              <a:t>Conjunto de circunstancias hipotéticamente previstas en la norma, cuya realización provoca el nacimiento de la obligación tributaria concreta. (Afecto, Exento, No afecto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Book Antiqua"/>
              </a:rPr>
              <a:t>Devenga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7AE3-B305-42C2-9E7D-40D934A0DCAA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E2F398-E8E7-4E92-8C06-B087A55D1399}" type="datetime1">
              <a:rPr lang="en-US"/>
              <a:t>07/30/26</a:t>
            </a:fld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785680" y="1143000"/>
            <a:ext cx="471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Base Imponible y T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81160" y="251460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Base Imponible: 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Cuantificación del hecho gravado. Cifra sobre la cual se aplica la tasa. Real o Presun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Tasa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: Porcentaje que se aplica a la base. Proporcional, Progresiva, Fija, etc. (Ejempl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Créditos: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 contra la Base o contra el Impue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Exenciones: 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Reales y Person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F17A-C931-44B5-98BA-0F2A64467819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8FD740-B321-4ACF-B0C8-41F4BFE133F6}" type="datetime1">
              <a:rPr lang="en-US"/>
              <a:t>07/30/26</a:t>
            </a:fld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785680" y="1143000"/>
            <a:ext cx="471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Determin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81160" y="3048120"/>
            <a:ext cx="7924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ropio Contribuy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Jue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Autoridad tributaria (S.I.I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3D42-6681-47C8-9B23-638F45D21E14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F88D03-B905-4228-B226-6A0939632D5D}" type="datetime1">
              <a:rPr lang="en-US"/>
              <a:t>07/30/26</a:t>
            </a:fld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785680" y="1143000"/>
            <a:ext cx="471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Exti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81160" y="3048120"/>
            <a:ext cx="7924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ago o solu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rescrip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Compensación o imput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2BD3-707B-4E30-9BF9-04C826863E34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F6AF26-09AD-4206-A269-AD3EA7DECB9F}" type="datetime1">
              <a:rPr lang="en-US"/>
              <a:t>07/30/26</a:t>
            </a:fld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87360" y="114300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Limites al Poder Tributa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81160" y="2743200"/>
            <a:ext cx="8001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Leg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Igualdad y Gener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No discriminación arbitra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No afec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No Confis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Seguridad Juríd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7A84-E04A-4190-A373-B195299399C7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DA35C-A86D-4CA5-94EC-6F9EA91937DB}" type="datetime1">
              <a:rPr lang="en-US"/>
              <a:t>07/30/26</a:t>
            </a:fld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830160" y="1937520"/>
            <a:ext cx="8626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Art. 63: “Sólo son materias de le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N° 2 Las que la Constitución exija que sean reguladas por una ley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Art. 63 “Sólo son materias de le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N° 14: Las demás que la Constitución señale como leyes de iniciativa exclusiva del Presidente de la República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Art. 65 inciso 2°: “Las leyes sobre tributos de cualquiera naturaleza que sean, sobre los presupuestos de la administración pública y sobre reclutamiento, sólo pueden tener origen en la Cámara de Diputado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Art. 65 inciso 4° N° 1: “Corresponderá, asimismo, al Presidente de la República, la iniciativa exclusiva para: 1° Imponer, suprimir, reducir o condonar tributos de cualquier clase o naturaleza, establecer exenciones o modificar las existentes y determinar su forma, proporcionalidad o progresión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84840" y="91440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Leg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42AE-A592-4DBC-AB09-73D00FC8CFC3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F632C8-47E6-414E-B2CA-2D6317122E55}" type="datetime1">
              <a:rPr lang="en-US"/>
              <a:t>07/30/26</a:t>
            </a:fld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-3967200" y="268128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3886200"/>
            <a:ext cx="8762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l bobtail, que en castellano significa "cola mocha" o "cola corta", debe su nombre a un hecho que sucedió hace doscientos años. Dado que el rey Guillermo I había establecido un impuesto sobre los perros de caza, que tenían todos la cola larga, los pastores, que utilizaban a sus perros de rebaño también para ir a cazar jabalíes, empezaron a cortar la cola a los cachorros recién nacidos, con el fin de no tener que pagar los impues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700440" y="838080"/>
            <a:ext cx="2886120" cy="242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865E-69AB-489A-8669-ABA8EA5A9896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F3D2BE-E7B2-4085-BB47-FCA722A783DC}" type="datetime1">
              <a:rPr lang="en-US"/>
              <a:t>07/30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830160" y="2360520"/>
            <a:ext cx="862668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 Antiqua"/>
              </a:rPr>
              <a:t>Art.19</a:t>
            </a: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. La Constitución asegura a todas las person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20º La igual repartición de los tributos en proporción a las rentas o en la progresión o forma que fije la ley, y la igual repartición de las demás cargas públic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En ningún caso la ley podrá establecer tributos manifiestamente desproporcionados o injus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84840" y="91440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Igualdad y Gener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7BEB-DD90-4003-B399-9F1E5B752721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E45FD5-64EE-4F79-AE27-EAAA18B3E204}" type="datetime1">
              <a:rPr lang="en-US"/>
              <a:t>07/30/26</a:t>
            </a:fld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2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335240" y="2361240"/>
            <a:ext cx="761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 Antiqua"/>
              </a:rPr>
              <a:t>Art.19</a:t>
            </a: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. La Constitución asegura a todas las person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8040" y="1591920"/>
            <a:ext cx="9234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35240" y="2971800"/>
            <a:ext cx="7615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22º La no discriminación arbitraria en el trato que deben dar el Estado y sus organismos en materia económic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Sólo en virtud de una ley, y siempre que no signifique tal discriminación se podrán autorizar determinados beneficios directos o indirectos a favor de algún sector, actividad o zona geográfica, o establecer gravámenes especiales que afecten a uno u otras. En el caso de las franquicias o beneficios indirectos, la estimación del costo de éstos deberá incluirse anualmente en la Ley de Presupues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131560" y="914400"/>
            <a:ext cx="60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No Discriminación Arbitra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835E-6F2E-41A9-B048-D7398E7084D8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5CA988-87D2-402A-AA1D-F4D27691148F}" type="datetime1">
              <a:rPr lang="en-US"/>
              <a:t>07/30/26</a:t>
            </a:fld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514080" y="2057400"/>
            <a:ext cx="9124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 Antiqua"/>
              </a:rPr>
              <a:t>Art.19</a:t>
            </a: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. La Constitución asegura a todas las persona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20º La igual repartición ………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Book Antiqua"/>
              </a:rPr>
              <a:t>Los tributos que se recauden, cualquiera que sea su naturaleza ingresaran al patrimonio de la Nación y no podrán estar afectos a un destino determin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Book Antiqua"/>
              </a:rPr>
              <a:t>Sin embargo, la ley podrá autorizar que determinados tributos puedan estar afectados a fines propios de la defensa nacional. Asimismo, podrá autorizar que los que gravan actividades o bienes que tengan una clara identificación regional o local puedan ser aplicados, dentro de los marcos que la misma ley señale, por las autoridades regionales o comunales para el financiamiento de obras de desarrol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2184840" y="91440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No Afec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CDDF-02FF-4809-80BE-FD37EC4EAF7C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89451C-7DE9-4E9D-BA5B-7C23B475A2EF}" type="datetime1">
              <a:rPr lang="en-US"/>
              <a:t>07/30/26</a:t>
            </a:fld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415880" y="2818440"/>
            <a:ext cx="74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 Antiqua"/>
              </a:rPr>
              <a:t>Art.19</a:t>
            </a: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. La Constitución asegura a todas las person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6280" y="3580200"/>
            <a:ext cx="753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24º El derecho de propiedad en sus diversas especies sobre toda clase de bienes corporales o incorpor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84840" y="106668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No Confis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A312-B6B1-45C4-A496-DBFF57C85424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D04581-2260-4599-893E-A9201CE2E35A}" type="datetime1">
              <a:rPr lang="en-US"/>
              <a:t>07/30/26</a:t>
            </a:fld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092240" y="2666160"/>
            <a:ext cx="81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 Antiqua"/>
              </a:rPr>
              <a:t>Art.19</a:t>
            </a: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. La Constitución asegura a todas las person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11240" y="3427920"/>
            <a:ext cx="826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26º La seguridad de que los preceptos legales que por mandato de la Constitución regulen o complementen las garantías que ésta establece o que las limiten en los casos en que ella lo autoriza, no podrán afectar los derechos en su esencia, ni imponer condiciones, tributos o requisitos que impidan su libre ejercic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84840" y="106668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Seguridad Juríd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49CF-063B-4D81-8955-917B8E1717DC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C78DD1-CB18-47C6-92A6-6456352A9637}" type="datetime1">
              <a:rPr lang="en-US"/>
              <a:t>07/30/26</a:t>
            </a:fld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318680" y="1371600"/>
            <a:ext cx="76489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bbd71"/>
                </a:solidFill>
                <a:uFillTx/>
                <a:latin typeface="Book Antiqua"/>
                <a:ea typeface="Times New Roman"/>
              </a:rPr>
              <a:t>Potestad Tribut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ómo se orig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on qué objet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ómo funci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3CAF-626B-41FB-BBA9-2DCDB323767C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23B1E5-B1A7-42E7-87A9-4330E2E975B9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771120" y="1028520"/>
            <a:ext cx="8744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bbd71"/>
                </a:solidFill>
                <a:uFillTx/>
                <a:latin typeface="Book Antiqua"/>
                <a:ea typeface="Times New Roman"/>
              </a:rPr>
              <a:t>Característ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Origina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Abstrac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Perman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Indeleg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Irrenunci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Imprescript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Limitaciones territoriales y constituci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720F-F790-458E-B604-DD41B39E4D9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E7627F-2FA0-4624-8111-1342F169EC59}" type="datetime1">
              <a:rPr lang="en-US"/>
              <a:t>07/30/26</a:t>
            </a:fld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2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2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2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14080" y="91404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Tributo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14080" y="2514240"/>
            <a:ext cx="9258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Concep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Aquella prestación obligatoria, comúnmente en dinero, exigida por el Estado en ejercicio de su poder de imperio, en virtud de una ley, para atender sus necesidades y cumplir sus fines públicos, económicos y soci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502E-209C-4CB5-9D58-BE82BC2D3E4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B39C96-FE3F-4BF9-B3B7-C019731BE3DC}" type="datetime1">
              <a:rPr lang="en-US"/>
              <a:t>07/30/26</a:t>
            </a:fld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14080" y="6091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Clasificación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4520" y="1980720"/>
            <a:ext cx="7077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Internos y Extern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Directos e Indire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Reales y Pers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Fiscales y Municip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Generales y Espe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ermanentes y Transito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roporcionales, progresivos y fij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Retención y de recar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9F63-12AA-4F91-9C3D-88E9905C253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DD2480-764D-4D90-80EB-9FC032DCFF34}" type="datetime1">
              <a:rPr lang="en-US"/>
              <a:t>07/30/26</a:t>
            </a:fld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1333440" y="571680"/>
          <a:ext cx="7543800" cy="5657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3440" y="571680"/>
                    <a:ext cx="7543800" cy="56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FB65-A588-4B0F-8355-19CF3FC23F36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C6FA2D-7C1A-4337-9575-50E67F11D309}" type="datetime1">
              <a:rPr lang="en-US"/>
              <a:t>07/30/26</a:t>
            </a:fld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409760" y="503280"/>
            <a:ext cx="7467480" cy="585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70A5-2F5F-4E0A-9726-28321348E82A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8F69A3-F2C5-4AB5-A9B7-86D1F9E3994E}" type="datetime1">
              <a:rPr lang="en-US"/>
              <a:t>07/30/26</a:t>
            </a:fld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14080" y="7617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Tipos de Tributo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23600" y="2286000"/>
            <a:ext cx="52390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Impues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Tas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Contribu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Derech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FED2-0B7D-40F5-847F-14973D3654D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8F68AF-523C-4539-847C-174173D62F1B}" type="datetime1">
              <a:rPr lang="en-US"/>
              <a:t>07/30/26</a:t>
            </a:fld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11:59:30Z</dcterms:created>
  <dc:creator>dale tincher</dc:creator>
  <dc:description/>
  <dc:language>en-US</dc:language>
  <cp:lastModifiedBy> Rodrigo Rojas</cp:lastModifiedBy>
  <cp:lastPrinted>1999-12-01T16:13:34Z</cp:lastPrinted>
  <dcterms:modified xsi:type="dcterms:W3CDTF">2007-08-02T15:42:52Z</dcterms:modified>
  <cp:revision>180</cp:revision>
  <dc:subject/>
  <dc:title>Using PowerPoint - For Lawyers - VA CLE Course by Dale Tincher Consultwebs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netsmartinc.com</vt:lpwstr>
  </property>
  <property fmtid="{D5CDD505-2E9C-101B-9397-08002B2CF9AE}" pid="9" name="LinkColor">
    <vt:r8>16711782</vt:r8>
  </property>
  <property fmtid="{D5CDD505-2E9C-101B-9397-08002B2CF9AE}" pid="10" name="MailAddress">
    <vt:lpwstr>dtincher@netsmartinc.com</vt:lpwstr>
  </property>
  <property fmtid="{D5CDD505-2E9C-101B-9397-08002B2CF9AE}" pid="11" name="NavBtnPos">
    <vt:r8>3</vt:r8>
  </property>
  <property fmtid="{D5CDD505-2E9C-101B-9397-08002B2CF9AE}" pid="12" name="Other">
    <vt:lpwstr>Phone: 919-272-8052</vt:lpwstr>
  </property>
  <property fmtid="{D5CDD505-2E9C-101B-9397-08002B2CF9AE}" pid="13" name="OutputDir">
    <vt:lpwstr>E:\NCBA Presentations - PPT and 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