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73C1-D79E-42D8-ACA2-1C192B426793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5552-4CE7-48D8-B15A-07876ABE11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3C7-1561-4C7C-9192-272F303FF5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7E6-0EA9-4E19-90A5-8FE8614F304A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C0DD-830C-40A9-9553-86CDD29B90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65AA-14AA-49AC-ACB2-A93745342A5A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B0AC-9DED-422F-9386-61EE86A1FF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A6D-C4D2-4839-B8D9-41A9C8C7ECBD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6EB-EDDA-4499-8638-35ADFCF2C0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1F84-E781-42AE-9CFE-0EA139C935B8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7F26-69AE-468A-A31B-34E33B885B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448-9BC9-470E-B084-E86FDFA7C5EB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1EE-A229-4B99-BE71-39B54934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874-8C6C-473E-B4B2-9C3EEF6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95D-C967-4D3D-9FD2-9D083D76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240-9658-4895-AF74-7C7078E7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22CD-4CB0-4B45-8CCA-D2A6FF2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7642-8C49-4507-A586-26AC5807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B4B0-7847-49B9-A408-F1AA83B0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8933-4B8C-43F9-BD1E-B90E0EE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1F56-CE04-4673-8736-96A6EFE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B94-5CBA-4EA0-8886-2EBDA769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9602-E267-47CB-BF04-AE43A72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817-1339-4256-B0DF-FA62E11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77FB-78CE-46BC-8A2C-E775F9D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FA5-75F7-4BCB-A12D-8D9FEC53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B5C3-714F-4EF5-BAE9-39AEAB0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2F5B-144C-471F-95A7-35E1C06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8614-6F96-4E13-87E6-D73067EF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A52-8DE8-4293-9DF2-85D99CE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76F-C6C2-4F27-9627-3224BB6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940-E2BF-47B4-AA54-33A8BFB8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1D4-B69D-4704-A3F3-26FE45A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163-E2BF-4978-A3D8-5ED8093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7CE-92B3-4A94-8124-C8FE7F19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5AC-9663-4BDD-96B3-82008AB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AAB3-F371-4212-B8A0-2DC1A8E9BE62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4770-516D-490C-A131-E81A93CE5D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28CB-5686-4FCF-BCA0-23271B357FBC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1C1C-F64F-469A-9CB7-B8DDA5434D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Segundo Semestre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B25-D04C-4678-8BCB-DEF4B1BFCEC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7E214-4D20-45F3-8DF2-CD79944DFD5D}" type="datetime1">
              <a:rPr lang="en-US"/>
              <a:t>07/31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DEE-51AA-44B7-B4DB-874407FB88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763AA-E626-4860-A034-0ECFC6F03DAD}" type="datetime1">
              <a:rPr lang="en-US"/>
              <a:t>07/31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6A4-368F-4036-865E-02DFEF1B8F3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F0343-98DF-4BE9-8219-C2F269F1B2C3}" type="datetime1">
              <a:rPr lang="en-US"/>
              <a:t>07/31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78C-535B-43B4-8A2F-B81D207B77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2E4B3-43AB-45C2-9AB9-F2EAECCE9EB7}" type="datetime1">
              <a:rPr lang="en-US"/>
              <a:t>07/31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853-DE56-4452-8F01-AE45093E45E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A99B-80B7-4116-8E28-F99B2C832A92}" type="datetime1">
              <a:rPr lang="en-US"/>
              <a:t>07/31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373-380E-4EDF-9726-C6D61B495B6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BB505-BBD1-4971-9FDA-E7B1D85F98B8}" type="datetime1">
              <a:rPr lang="en-US"/>
              <a:t>07/31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1EC-AE52-48B9-83D1-0D3A7D626B7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5D554-3098-450B-9889-82AE12FEEEFA}" type="datetime1">
              <a:rPr lang="en-US"/>
              <a:t>07/31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40B-5A5E-42E2-B76F-8322A726518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2676-8664-48AE-BF48-7C8E4642D3A9}" type="datetime1">
              <a:rPr lang="en-US"/>
              <a:t>07/31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99E-FD94-4D2D-81F4-F92DF381FF6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232FF-BCA4-4C17-AF10-8FBD1272561E}" type="datetime1">
              <a:rPr lang="en-US"/>
              <a:t>07/31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785-4E7C-46C1-B1A1-649D581A34D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0115D-D43B-4609-97F9-724983EA3A03}" type="datetime1">
              <a:rPr lang="en-US"/>
              <a:t>07/31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00D-FC98-44E3-9E86-C45BE5E22E00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70A64-B482-4C70-BC6D-C8549E0780A3}" type="datetime1">
              <a:rPr lang="en-US"/>
              <a:t>07/31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704-52A4-4095-9EEB-2EB9C0EFB20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70917-EBB8-4CFD-9483-0E26978B37E9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5E3-BD34-40A5-8422-8A15DAEC783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54C5-0BB8-4D34-A94C-C8101A82CFD9}" type="datetime1">
              <a:rPr lang="en-US"/>
              <a:t>07/31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952-D2DA-4DAA-9966-5A953AA075F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87D21-8A66-499B-AA83-A63F0D240F4A}" type="datetime1">
              <a:rPr lang="en-US"/>
              <a:t>07/31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ED5-8F81-46CF-95C5-5E10E4D6956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C454C-FBB4-42A8-96B7-2DC8DC163364}" type="datetime1">
              <a:rPr lang="en-US"/>
              <a:t>07/31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F24-8A5E-4EB8-AAE7-254F69A0DD32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B999E-659A-4B9F-AB88-F9F799128553}" type="datetime1">
              <a:rPr lang="en-US"/>
              <a:t>07/31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DF4-6769-44AD-9295-BD1ED6349B1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B256B-4509-4F3F-BD8A-DDE4A7EDC928}" type="datetime1">
              <a:rPr lang="en-US"/>
              <a:t>07/31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57A-E762-4D86-AA15-9099FE7D386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6E756-4773-473A-A20A-39D61562FC6E}" type="datetime1">
              <a:rPr lang="en-US"/>
              <a:t>07/31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025-6666-4295-B836-A2FCC16BC73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0FD2D-57E3-47B3-85E9-A3F736DADCA0}" type="datetime1">
              <a:rPr lang="en-US"/>
              <a:t>07/31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8C8-BD41-4C98-8155-91730145D9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4800C-CCE2-4136-9A5C-4923CB203F51}" type="datetime1">
              <a:rPr lang="en-US"/>
              <a:t>07/31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2D0-5CCE-4073-8DAB-6413D7B519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7C5CC-F977-4B7A-8041-4C563A88473F}" type="datetime1">
              <a:rPr lang="en-US"/>
              <a:t>07/31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74D-E754-4B01-87EE-4942528585B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9B135-3307-4DC7-AEFC-DB528B3380F7}" type="datetime1">
              <a:rPr lang="en-US"/>
              <a:t>07/31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C9E-6179-4CC2-A69A-13A7F639101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7AE3A-F848-4064-9DDD-D79FF1B83371}" type="datetime1">
              <a:rPr lang="en-US"/>
              <a:t>07/31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989-CAB8-493E-909A-27E3FE88C8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20BF7-D7F4-4D7B-8A9B-7C911DE8AA63}" type="datetime1">
              <a:rPr lang="en-US"/>
              <a:t>07/31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 Rodrigo Rojas</cp:lastModifiedBy>
  <cp:lastPrinted>1999-12-01T16:13:34Z</cp:lastPrinted>
  <dcterms:modified xsi:type="dcterms:W3CDTF">2007-08-02T15:42:52Z</dcterms:modified>
  <cp:revision>180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