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288588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C014-AF6A-43BF-AEF7-74F1D492DDCB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A448-8846-47F5-82A8-C1F8A82333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Img"/>
          </p:nvPr>
        </p:nvSpPr>
        <p:spPr>
          <a:xfrm>
            <a:off x="637920" y="415440"/>
            <a:ext cx="55846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3DDB-7E74-4521-B5A8-6DD068B135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6AFE-38C6-46DA-B17D-242F1A81FF3F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1344-8CD5-4611-856B-F9484D73B7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4429-574E-499D-9315-09D0A94689B5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4193-64AE-4ED8-BB91-16E76E30A8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8FC2-37CA-495A-B0E1-B2D5E9E379FD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7FBF-13C3-4180-896C-72810216E6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0106-CCEE-4FBF-9AB5-9DFBB577BB27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DC38-9152-4091-AE74-559D7E9971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F05-FF84-4FDF-B78C-01EBB9D54BB2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0D5-DFC1-4847-B216-0F592C48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9A6-5C48-4182-BDDE-86DE4F21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0F7-2E94-4D50-88BA-AB4BFBF7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515-81FE-4416-B88B-E91241B9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6D7A-8FC3-47C5-A487-6E39A7C4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885B-D724-4DB0-8716-90C0759D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0B96-421F-4439-869C-3250A0A3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EBEC-8840-423C-A19E-7451949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6365-A1BF-46DF-B8DA-E3E8466F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CF7F-5A39-4ED6-9BB6-47D7B212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86A9-5D0E-478C-B9C7-29E3EE12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C5D-46F1-4083-A5EB-0765E19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58B6-CCBE-4457-BB32-28F21005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D969-CA12-49E3-BB9F-35B21874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52E1-2A4A-45D5-A510-67D480B3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88D8-FB92-4447-9FAB-56133780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7A99-855B-4E9E-A03A-1C3C4850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D7F-DB14-4EB5-A647-7B6158C7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DA9-AA2A-49C6-9FB3-1C43F35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ECF-73F5-4E04-A36F-FE405055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0DE-2A8B-4920-B1F4-1C3EFF37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181-DC6C-47F7-8AE8-763254F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910-4A3C-4D5B-B229-81E32E8E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3CD-E8BF-446E-B2F3-7351BAAD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1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37CC-5F66-49F1-A1C3-ADA114EFB4E7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356E-D4BD-4320-8218-F13D100365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77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3970-F3EA-4B2A-8533-44F2911FEF54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771120" y="1767960"/>
            <a:ext cx="8744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5D4C-993A-4E23-951D-F2B455E032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080" y="8377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dbbd71"/>
                </a:solidFill>
                <a:latin typeface="Book Antiqua"/>
              </a:rPr>
              <a:t>Derecho Tributar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95080" y="4876920"/>
            <a:ext cx="7296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Segundo Semestre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43828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848-3C6A-4DA2-A2FB-F597ADBAFEF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0C8A1-DC13-4F47-AFFE-AF729B23C010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990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omparación Tasa y Preci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2590920"/>
            <a:ext cx="45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Oblig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Monop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Subsi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3320" y="2590560"/>
            <a:ext cx="4552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olu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Libre ofe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Ut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53A-F698-410C-9319-A06CB47F35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5F6A3-B4D2-4DF9-81B3-17972EBDD19D}" type="datetime1">
              <a:rPr lang="en-US"/>
              <a:t>07/31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76240" y="699480"/>
            <a:ext cx="79250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Norma: Decreto Supremo N° 109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 EXENT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echa Publicación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8.02.2005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Organismo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MINISTERIO DE 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AGRICULTURA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IJA TARIFA POR LA INSPECCION Y CERTIFICACION DE PRODUCTOS FORESTALES DE EXPORTACION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Santiago, 22 de Febrero de 2005.- Hoy se decretó lo que sigue: Núm. 109 exento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isto: El artículo 6º del DFL Nº 294 de 1960; lo establecido en artículo 7º letra ñ) de la ley Nº 18.755, Orgánica del Servicio Agrícola y Ganadero, modificada por la ley Nº 19.283, el Nº 16 del decreto Nº 186, de 1994, del Ministerio de Agricultura; el decreto Nº 19, de 2001, del Ministerio Secretaría General de la Presidencia y el artículo 32, Nº 8, y 35 de la Constitución Política de la República,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ecreto: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1º Fíjanse las siguientes tarifas a ser aplicadas en las labores de inspección y certificación de productos forestales de export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Rollizos, maderas aserradas   y aserrables, por metro cúbico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stillas y madera elaborada,   por tonelada 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ara de coligüe, por cada muestra de 300 uds que ampara un lote de 6000 unidades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) Tejuelas de madera y otros productos forestales elaborados no incluidos en lo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tipos anteriores, por    hora de inspección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º Las tarifas señaladas en el presente decreto y los valores aplicables no incluyen el valor de los servicios de laboratorio que deban efectuarse, ni el costo de las horas extraordinarias habilitadas a cobrar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3º El presente decreto regirá a contar del primer día del mes siguiente al de su publicación en el Diario Oficial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nótese, comuníquese y publíquese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Por orden del Presidente de la República, Arturo Barrera Miranda, Ministro de Agricultura (S).- María Eugenia Wagner Brizzi, Ministra de Hacienda (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426-B468-4108-A4A9-6C63BFB9A9E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68428-D837-4F54-94D4-CE5809378B93}" type="datetime1">
              <a:rPr lang="en-US"/>
              <a:t>07/31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br>
              <a:rPr sz="3600"/>
            </a:b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Definicion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2520" y="2285640"/>
            <a:ext cx="9201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jurídico en virtud del cual, un sujeto debe dar a otro, que actúa ejercitando el poder tributario, una suma de dinero que se determina por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de carácter personal que surge entre el Estado u otros entes públicos y, los sujetos pasivos en cuanto en cuanto ocurre el presupuesto de hecho previsto en la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2D1-EFFF-46E8-B5AF-EBCDAE964A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3C3D1-75D3-4874-9226-0D3756FEDC3F}" type="datetime1">
              <a:rPr lang="en-US"/>
              <a:t>07/31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785680" y="1143000"/>
            <a:ext cx="471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Ele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Vinculo Jurí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Fuente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Acaecimiento de un hecho gra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Obligación principal: Pago de suma de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630-1379-4FFA-92D3-1428A9E0218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5BC64-ACA4-470D-A9DD-EBF6E67F99CB}" type="datetime1">
              <a:rPr lang="en-US"/>
              <a:t>07/31/26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Sujetos y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Sujet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Activo (Esta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asivo (Contribuyente, Agente retenedor, tercero respons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Hecho Gravado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Conjunto de circunstancias hipotéticamente previstas en la norma, cuya realización provoca el nacimiento de la obligación tributaria concreta. (Afecto, Exento, No afect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Deveng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1C4-1CC7-49B7-AFAC-8DD34B310560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FD0EB-6FCD-491C-8AFF-E6033905A40D}" type="datetime1">
              <a:rPr lang="en-US"/>
              <a:t>07/31/26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Base Imponible y 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Base Imponible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uantificación del hecho gravado. Cifra sobre la cual se aplica la tasa. Real o Presu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Porcentaje que se aplica a la base. Proporcional, Progresiva, Fija, etc. (Ejemp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réditos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contra la Base o contra 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Exenciones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F21-4479-4FE8-8868-BCF24F703AD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681A2-E8DE-4A99-846A-E884E2C613EC}" type="datetime1">
              <a:rPr lang="en-US"/>
              <a:t>07/31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Determ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io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utoridad tributaria (S.I.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873-70D2-413F-BD95-A62BB4DCD450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9669B-F98B-4AA0-B929-D082FE3E027B}" type="datetime1">
              <a:rPr lang="en-US"/>
              <a:t>07/31/26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Exti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ago o 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scri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ompensación o impu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72B-C807-47D8-8C1F-396EB6A9639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68FA4-A247-4E0C-A25E-0DA03FC6B4CD}" type="datetime1">
              <a:rPr lang="en-US"/>
              <a:t>07/31/26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87360" y="11430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Limites al Poder Tribu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1160" y="27432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FF5-B2DD-4613-8927-B694C0476A4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9D417-496C-4467-9CDE-D63F4BBC93B1}" type="datetime1">
              <a:rPr lang="en-US"/>
              <a:t>07/31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0160" y="1937520"/>
            <a:ext cx="862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: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2 Las que la Constitución exija que sean reguladas por una ley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14: Las demás que la Constitución señale como leyes de iniciativa exclusiva del Presidente de la Repúbl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2°: “Las leyes sobre tributos de cualquiera naturaleza que sean, sobre los presupuestos de la administración pública y sobre reclutamiento, sólo pueden tener origen en la Cámara de Diputad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4° N° 1: “Corresponderá, asimismo, al Presidente de la República, la iniciativa exclusiva para: 1° Imponer, suprimir, reducir o condonar tributos de cualquier clase o naturaleza, establecer exenciones o modificar las existentes y determinar su forma, proporcionalidad o progresió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90F-8090-4A12-A04A-4D37E50DF713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A50F3-869D-424B-9B2B-DAA6252238F3}" type="datetime1">
              <a:rPr lang="en-US"/>
              <a:t>07/31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967200" y="2681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l bobtail, que en castellano significa "cola mocha" o "cola corta", debe su nombre a un hecho que sucedió hace doscientos años. Dado que el rey Guillermo I había establecido un impuesto sobre los perros de caza, que tenían todos la cola larga, los pastores, que utilizaban a sus perros de rebaño también para ir a cazar jabalíes, empezaron a cortar la cola a los cachorros recién nacidos, con el fin de no tener que pagar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00440" y="838080"/>
            <a:ext cx="28861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E58-A8A7-42C3-8BAA-CED8B437F0C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CBEF3-1B4E-4946-9F69-949C29E3F932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0160" y="2360520"/>
            <a:ext cx="86266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de los tributos en proporción a las rentas o en la progresión o forma que fije la ley, y la igual repartición de las demás cargas públ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En ningún caso la ley podrá establecer tributos manifiestamente desproporcionados o inju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676-23AB-4225-9000-08467B0FC394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D0904-69D4-4CC0-B3F5-5C72E0003593}" type="datetime1">
              <a:rPr lang="en-US"/>
              <a:t>07/31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5240" y="23612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1591920"/>
            <a:ext cx="923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5240" y="2971800"/>
            <a:ext cx="76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2º La no discriminación arbitraria en el trato que deben dar el Estado y sus organismos en materia económ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Sólo en virtud de una ley, y siempre que no signifique tal discriminación se podrán autorizar determinados beneficios directos o indirectos a favor de algún sector, actividad o zona geográfica, o establecer gravámenes especiales que afecten a uno u otras. En el caso de las franquicias o beneficios indirectos, la estimación del costo de éstos deberá incluirse anualmente en la Ley de Presupue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1560" y="91440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6D8-9F9D-4A69-9B30-45885B69C4A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6EECD-383E-4015-9E4D-6518DD6F4A1B}" type="datetime1">
              <a:rPr lang="en-US"/>
              <a:t>07/31/26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4080" y="2057400"/>
            <a:ext cx="912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……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Los tributos que se recauden, cualquiera que sea su naturaleza ingresaran al patrimonio de la Nación y no podrán estar afectos a un destino determin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Sin embargo, la ley podrá autorizar que determinados tributos puedan estar afectados a fines propios de la defensa nacional. Asimismo, podrá autorizar que los que gravan actividades o bienes que tengan una clara identificación regional o local puedan ser aplicados, dentro de los marcos que la misma ley señale, por las autoridades regionales o comunales para el financiamiento de obras de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69F-12A4-40FE-9986-9BCDF8213D7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35FFF-4D77-4CBC-AA9C-BE277A953143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15880" y="2818440"/>
            <a:ext cx="74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6280" y="3580200"/>
            <a:ext cx="75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4º El derecho de propiedad en sus diversas especies sobre toda clase de bienes corporales o incorp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DE5-8DA5-455C-9CD6-3B5633235966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70AA3-500F-4B70-A3FC-21687E45CE6D}" type="datetime1">
              <a:rPr lang="en-US"/>
              <a:t>07/31/2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2240" y="26661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1240" y="3427920"/>
            <a:ext cx="826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6º La seguridad de que los preceptos legales que por mandato de la Constitución regulen o complementen las garantías que ésta establece o que las limiten en los casos en que ella lo autoriza, no podrán afectar los derechos en su esencia, ni imponer condiciones, tributos o requisitos que impidan su libre ejerc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ECE-4E0E-4FD6-B4EF-E1F21C25065F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91F2F-D277-400B-8968-4A12BCC90731}" type="datetime1">
              <a:rPr lang="en-US"/>
              <a:t>07/31/26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8680" y="1371600"/>
            <a:ext cx="7648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Potestad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se orig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 qué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funci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5A6-C55A-4978-BF10-ABA93399D1B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52720-F0D5-4665-87F0-0BD38D8FA30D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71120" y="1028520"/>
            <a:ext cx="874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Orig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Abstr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Perma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ndeleg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rrenunc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mprescrip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Limitaciones territoriales y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F65-7B55-4863-BB0A-347D42D2310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FD98C-DACB-453B-B288-0358463F95DC}" type="datetime1">
              <a:rPr lang="en-US"/>
              <a:t>07/31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80" y="2514240"/>
            <a:ext cx="925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quella prestación obligatoria, comúnmente en dinero, exigida por el Estado en ejercicio de su poder de imperio, en virtud de una ley, para atender sus necesidades y cumplir sus fines públicos, económicos y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418-E016-4CF4-8566-CBEF8540A4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96310-815F-4BA0-8621-CCC7093515E2}" type="datetime1">
              <a:rPr lang="en-US"/>
              <a:t>07/31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6091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lasificació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4520" y="1980720"/>
            <a:ext cx="7077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Internos y Ex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irectos e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iscales y Muni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ales y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ermanentes y Transi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orcionales, progresivos y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tención y de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21B-D4EC-400E-95A1-B0E0098197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79F8A-6DFC-4D18-9117-4B492E977C45}" type="datetime1">
              <a:rPr lang="en-US"/>
              <a:t>07/31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3344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E9C-6D7A-401D-BE32-B90A11C19CE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3206A-0D5E-4D26-A52F-88E620C5AA70}" type="datetime1">
              <a:rPr lang="en-US"/>
              <a:t>07/31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9760" y="503280"/>
            <a:ext cx="746748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2FC-5286-4980-808B-A972102782E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D9796-5F4B-47B9-88AC-C7D6CBB72E4D}" type="datetime1">
              <a:rPr lang="en-US"/>
              <a:t>07/31/26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7617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ipos de 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23600" y="2286000"/>
            <a:ext cx="5239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tribu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FAC-8435-4596-AA17-117C7FBA32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25C06-58DF-4B47-BC8F-573C1B7EB04D}" type="datetime1">
              <a:rPr lang="en-US"/>
              <a:t>07/31/2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1:59:30Z</dcterms:created>
  <dc:creator>dale tincher</dc:creator>
  <dc:description/>
  <dc:language>en-US</dc:language>
  <cp:lastModifiedBy> Rodrigo Rojas</cp:lastModifiedBy>
  <cp:lastPrinted>1999-12-01T16:13:34Z</cp:lastPrinted>
  <dcterms:modified xsi:type="dcterms:W3CDTF">2007-08-02T15:42:52Z</dcterms:modified>
  <cp:revision>180</cp:revision>
  <dc:subject/>
  <dc:title>Using PowerPoint - For Lawyers - VA CLE Course by Dale Tincher Consultwebs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etsmartinc.com</vt:lpwstr>
  </property>
  <property fmtid="{D5CDD505-2E9C-101B-9397-08002B2CF9AE}" pid="9" name="LinkColor">
    <vt:r8>16711782</vt:r8>
  </property>
  <property fmtid="{D5CDD505-2E9C-101B-9397-08002B2CF9AE}" pid="10" name="MailAddress">
    <vt:lpwstr>dtincher@netsmartinc.com</vt:lpwstr>
  </property>
  <property fmtid="{D5CDD505-2E9C-101B-9397-08002B2CF9AE}" pid="11" name="NavBtnPos">
    <vt:r8>3</vt:r8>
  </property>
  <property fmtid="{D5CDD505-2E9C-101B-9397-08002B2CF9AE}" pid="12" name="Other">
    <vt:lpwstr>Phone: 919-272-8052</vt:lpwstr>
  </property>
  <property fmtid="{D5CDD505-2E9C-101B-9397-08002B2CF9AE}" pid="13" name="OutputDir">
    <vt:lpwstr>E:\NCBA Presentations - PPT and 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