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288588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C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EADA-028D-4D47-BFEB-AF595C5C9E71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961-8BED-4804-ACCD-466DF2823C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Img"/>
          </p:nvPr>
        </p:nvSpPr>
        <p:spPr>
          <a:xfrm>
            <a:off x="637920" y="415440"/>
            <a:ext cx="5584680" cy="37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body"/>
          </p:nvPr>
        </p:nvSpPr>
        <p:spPr>
          <a:xfrm>
            <a:off x="685800" y="4331160"/>
            <a:ext cx="548604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63C-4D4B-4891-891E-85CD940F24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B19C-11FE-498A-8072-B0BD09053396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B34-D126-4EEA-8EB1-D558C630E2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FC9-FE0D-404F-94C2-F006AD6609C1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4ECB-62B0-498B-90F6-BC1793D29D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611D-72E2-4A78-A11E-B8328454C215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DC5C-004A-4FCF-BD14-A1F6FAEDC0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F5C6-C050-4754-BC41-D7BD217044E4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3C9F-F78B-405E-B008-EB8FB8585F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5840" y="-14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58A9-38AA-4194-8BB5-E6C7FCB493AA}" type="datetime"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66880" y="684360"/>
            <a:ext cx="512604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CCA-74F1-497A-AF6C-57709D96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CC4-2C5E-47CD-A188-4E664798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5DB-CABC-4F57-8E92-0DB8AEA2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774-5933-4991-8FA1-563EE3AC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9C64-EF25-48DE-A07A-88387FD3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E0FB-C2DD-4EC8-9EEC-6079EDD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4A14-A2CA-486C-975A-DFBE335E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795F-87CF-4F44-9900-A7F2D033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99A7-3AB6-408D-8B47-0C53059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1A0-E48E-4AF4-AA83-421DB3D4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5899-ABF2-4801-A7D9-6DA29F8D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8F2-643E-4F29-AB6C-986C7CDF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15B4-360F-4ECD-8F7D-D9285D8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4118-6A6A-4380-AD26-2F63C91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0A3E-77DA-4745-8061-790584D7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417B-5A5D-4B7F-B564-8B42FEB7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6442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774480" y="159984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0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6442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774480" y="3966480"/>
            <a:ext cx="2980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FCB9-4D17-4622-B37E-3D99D7BF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5ACC-FE46-412E-B754-92ACDD40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9BE-E408-48DA-88A1-4287284C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B05-229F-4F89-A798-710821DC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14080" y="27756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1CC-BFB3-45CE-84CC-D14D3F41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072-39E7-4EA3-AAFC-02F4D9E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8160" y="396648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6F3-1452-4E6E-8461-986A51E3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599840"/>
            <a:ext cx="4517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080" y="3966480"/>
            <a:ext cx="925812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9C5-C946-4D6A-8A92-5B449EC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1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080" y="2775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514080" y="1599840"/>
            <a:ext cx="9258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2D73-8363-4D50-ADD2-78C130345482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9086-A92F-46A3-81BB-1AA84196C1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4275000" y="1789200"/>
            <a:ext cx="6008400" cy="5056200"/>
            <a:chOff x="4275000" y="1789200"/>
            <a:chExt cx="6008400" cy="5056200"/>
          </a:xfrm>
        </p:grpSpPr>
        <p:sp>
          <p:nvSpPr>
            <p:cNvPr id="77" name=""/>
            <p:cNvSpPr/>
            <p:nvPr/>
          </p:nvSpPr>
          <p:spPr>
            <a:xfrm>
              <a:off x="7554240" y="2166840"/>
              <a:ext cx="35172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77360" y="1881360"/>
              <a:ext cx="842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9295920" y="2373480"/>
              <a:ext cx="1044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99400" y="5568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9799560" y="2436480"/>
              <a:ext cx="1080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10072440" y="2414520"/>
              <a:ext cx="1044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6150240" y="2882520"/>
              <a:ext cx="1080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923360" y="2890800"/>
              <a:ext cx="1044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5419800" y="2968200"/>
              <a:ext cx="1044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56080" y="4795920"/>
              <a:ext cx="111240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04640" y="5700600"/>
              <a:ext cx="177876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547480" y="5786280"/>
              <a:ext cx="173592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79520" y="5700600"/>
              <a:ext cx="170388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2640" y="2446200"/>
              <a:ext cx="18216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62640" y="2682720"/>
              <a:ext cx="16056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2640" y="280656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68960" y="1913040"/>
              <a:ext cx="18216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780120" y="2141640"/>
              <a:ext cx="1497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768960" y="2274840"/>
              <a:ext cx="16056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694080" y="5595840"/>
              <a:ext cx="11772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7400" y="1789200"/>
              <a:ext cx="464940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39440" y="5989680"/>
              <a:ext cx="15012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48560" y="6146640"/>
              <a:ext cx="16056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5440" y="6146640"/>
              <a:ext cx="12852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63920" y="6093000"/>
              <a:ext cx="246492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6086520"/>
              <a:ext cx="26827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58520" y="6127920"/>
              <a:ext cx="254520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84480" y="6013440"/>
              <a:ext cx="16020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683640" y="5719680"/>
              <a:ext cx="12816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8280" y="2814480"/>
              <a:ext cx="3088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57920" y="2452680"/>
              <a:ext cx="13536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36240" y="2766960"/>
              <a:ext cx="36612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9960" y="2427120"/>
              <a:ext cx="45036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45160" y="2255760"/>
              <a:ext cx="56592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514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23F-A0BD-4188-B6CD-78833C02E661}" type="datetime">
              <a:rPr b="0" lang="es-CL" sz="1200" spc="-1" strike="noStrike">
                <a:solidFill>
                  <a:srgbClr val="ffffff"/>
                </a:solidFill>
                <a:latin typeface="Tahom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514320" y="62784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771120" y="1767960"/>
            <a:ext cx="874404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7372080" y="6278400"/>
            <a:ext cx="24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D70C-2149-4E39-AC4F-107CABD6FC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080" y="8377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800" spc="-1" strike="noStrike">
                <a:solidFill>
                  <a:srgbClr val="dbbd71"/>
                </a:solidFill>
                <a:latin typeface="Book Antiqua"/>
              </a:rPr>
              <a:t>Derecho Tributari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95080" y="4876920"/>
            <a:ext cx="7296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Facultad de Derech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 Antiqua"/>
              </a:rPr>
              <a:t>Segundo Semestre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2438280"/>
            <a:ext cx="4647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Prof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Book Antiqua"/>
              </a:rPr>
              <a:t>Rodrigo Rojas 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6E5-5B80-417E-B0BF-87948B7798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20FDE-9F5D-4819-AAAA-D642A1029284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14080" y="9903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omparación Tasa y Preci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90400" y="2590920"/>
            <a:ext cx="45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Oblig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Monopol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Subsi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43320" y="2590560"/>
            <a:ext cx="45529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olu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Libre ofer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Uti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BA8D-3289-4EB6-9E12-A4A96F868D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4A9F3-FB67-423B-89EE-5D023B25F2ED}" type="datetime1">
              <a:rPr lang="en-US"/>
              <a:t>07/28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76240" y="699480"/>
            <a:ext cx="792504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Norma: Decreto Supremo N° 109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 EXENT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echa Publicación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8.02.2005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Organismo: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MINISTERIO DE </a:t>
            </a: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AGRICULTURA</a:t>
            </a: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Book Antiqua"/>
              </a:rPr>
              <a:t>FIJA TARIFA POR LA INSPECCION Y CERTIFICACION DE PRODUCTOS FORESTALES DE EXPORTACION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Santiago, 22 de Febrero de 2005.- Hoy se decretó lo que sigue: Núm. 109 exento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isto: El artículo 6º del DFL Nº 294 de 1960; lo establecido en artículo 7º letra ñ) de la ley Nº 18.755, Orgánica del Servicio Agrícola y Ganadero, modificada por la ley Nº 19.283, el Nº 16 del decreto Nº 186, de 1994, del Ministerio de Agricultura; el decreto Nº 19, de 2001, del Ministerio Secretaría General de la Presidencia y el artículo 32, Nº 8, y 35 de la Constitución Política de la República,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ecreto: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1º Fíjanse las siguientes tarifas a ser aplicadas en las labores de inspección y certificación de productos forestales de export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Rollizos, maderas aserradas   y aserrables, por metro cúbico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4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stillas y madera elaborada,   por tonelada      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00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Vara de coligüe, por cada muestra de 300 uds que ampara un lote de 6000 unidades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d) Tejuelas de madera y otros productos forestales elaborados no incluidos en lo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tipos anteriores, por    hora de inspección                      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0,5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2º Las tarifas señaladas en el presente decreto y los valores aplicables no incluyen el valor de los servicios de laboratorio que deban efectuarse, ni el costo de las horas extraordinarias habilitadas a cobrar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3º El presente decreto regirá a contar del primer día del mes siguiente al de su publicación en el Diario Oficial.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Anótese, comuníquese y publíquese.-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Book Antiqua"/>
              </a:rPr>
              <a:t>Por orden del Presidente de la República, Arturo Barrera Miranda, Ministro de Agricultura (S).- María Eugenia Wagner Brizzi, Ministra de Hacienda (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5B3-FCF4-4D08-9974-E644C015FA4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EF9CF-9727-4359-90EB-A242F5BD8072}" type="datetime1">
              <a:rPr lang="en-US"/>
              <a:t>07/28/26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br>
              <a:rPr sz="3600"/>
            </a:b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Definicion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2520" y="2285640"/>
            <a:ext cx="9201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jurídico en virtud del cual, un sujeto debe dar a otro, que actúa ejercitando el poder tributario, una suma de dinero que se determina por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Vinculo de carácter personal que surge entre el Estado u otros entes públicos y, los sujetos pasivos en cuanto en cuanto ocurre el presupuesto de hecho previsto en la ley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469-FAA4-4EED-8008-F3B3AA1EA5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E30E5-75F6-4020-BA25-CFD0AB2F00EE}" type="datetime1">
              <a:rPr lang="en-US"/>
              <a:t>07/28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785680" y="1143000"/>
            <a:ext cx="4714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bbd71"/>
                </a:solidFill>
                <a:latin typeface="Book Antiqua"/>
              </a:rPr>
              <a:t>Ele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Vinculo Juríd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Fuente leg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Acaecimiento de un hecho grav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Obligación principal: Pago de suma de din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449-6FDD-49D2-A664-31AA0A0D2E79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DDCC2-7DEE-40F3-BEA6-E06D680477DA}" type="datetime1">
              <a:rPr lang="en-US"/>
              <a:t>07/28/26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Sujetos y Hecho Grav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Sujeto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Activo (Estad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ook Antiqua"/>
              </a:rPr>
              <a:t>Pasivo (Contribuyente, Agente retenedor, tercero respons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Hecho Gravado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Conjunto de circunstancias hipotéticamente previstas en la norma, cuya realización provoca el nacimiento de la obligación tributaria concreta. (Afecto, Exento, No afect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Book Antiqua"/>
              </a:rPr>
              <a:t>Deveng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31A-AC28-4B52-8E16-95BD7B9C418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7EB0E-2C1A-425B-AADF-930D618A2043}" type="datetime1">
              <a:rPr lang="en-US"/>
              <a:t>07/28/26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Base Imponible y 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2514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Base Imponible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Cuantificación del hecho gravado. Cifra sobre la cual se aplica la tasa. Real o Presun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Tasa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: Porcentaje que se aplica a la base. Proporcional, Progresiva, Fija, etc. (Ejempl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réditos: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 contra la Base o contra el Im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Exenciones: </a:t>
            </a: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EE7-0DA0-4B0E-8C17-2D291EE3554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E98CB-872A-4911-ABD9-88926E0B6109}" type="datetime1">
              <a:rPr lang="en-US"/>
              <a:t>07/28/26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Determ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io Contribuy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Ju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utoridad tributaria (S.I.I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53E-546F-45C9-83F7-21F7675899B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2A1DE-BFE7-4E97-98CC-D94815FD0D1A}" type="datetime1">
              <a:rPr lang="en-US"/>
              <a:t>07/28/26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785680" y="1143000"/>
            <a:ext cx="47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Obligación Tributa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Exti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1160" y="3048120"/>
            <a:ext cx="792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ago o 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escri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Compensación o impu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157-C234-44B5-80CB-5E045DABF17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6B965-5FDF-4877-9FE9-C3319C6DA21C}" type="datetime1">
              <a:rPr lang="en-US"/>
              <a:t>07/28/26</a:t>
            </a:fld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87360" y="11430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Limites al Poder Tribu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81160" y="274320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56F-3A94-4EA3-ACFE-9005F02CA07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09DC1-6B9F-4C90-8833-B9A6FB49C958}" type="datetime1">
              <a:rPr lang="en-US"/>
              <a:t>07/28/26</a:t>
            </a:fld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0160" y="1937520"/>
            <a:ext cx="8626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: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2 Las que la Constitución exija que sean reguladas por una ley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3 “Sólo son materias de ley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N° 14: Las demás que la Constitución señale como leyes de iniciativa exclusiva del Presidente de la Repúbl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2°: “Las leyes sobre tributos de cualquiera naturaleza que sean, sobre los presupuestos de la administración pública y sobre reclutamiento, sólo pueden tener origen en la Cámara de Diputado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Art. 65 inciso 4° N° 1: “Corresponderá, asimismo, al Presidente de la República, la iniciativa exclusiva para: 1° Imponer, suprimir, reducir o condonar tributos de cualquier clase o naturaleza, establecer exenciones o modificar las existentes y determinar su forma, proporcionalidad o progresió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Leg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5F0-27C6-4A94-ABD2-E129CF31310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3AD9A-3D1A-4577-9280-C80632486239}" type="datetime1">
              <a:rPr lang="en-US"/>
              <a:t>07/28/26</a:t>
            </a:fld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-3967200" y="268128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876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l bobtail, que en castellano significa "cola mocha" o "cola corta", debe su nombre a un hecho que sucedió hace doscientos años. Dado que el rey Guillermo I había establecido un impuesto sobre los perros de caza, que tenían todos la cola larga, los pastores, que utilizaban a sus perros de rebaño también para ir a cazar jabalíes, empezaron a cortar la cola a los cachorros recién nacidos, con el fin de no tener que pagar los impues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700440" y="838080"/>
            <a:ext cx="2886120" cy="242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62A-295B-4772-A07C-DD055AD5E12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916D4-2656-4F60-AD9A-DB1F0F59190A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830160" y="2360520"/>
            <a:ext cx="862668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de los tributos en proporción a las rentas o en la progresión o forma que fije la ley, y la igual repartición de las demás cargas públ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En ningún caso la ley podrá establecer tributos manifiestamente desproporcionados o inju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Igualdad y Genera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BC9-DD25-4BE7-9B7C-47A6226B163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93F3D-B180-41ED-9E90-0E1626AA922B}" type="datetime1">
              <a:rPr lang="en-US"/>
              <a:t>07/28/26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20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335240" y="2361240"/>
            <a:ext cx="761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8040" y="1591920"/>
            <a:ext cx="9234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35240" y="2971800"/>
            <a:ext cx="7615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2º La no discriminación arbitraria en el trato que deben dar el Estado y sus organismos en materia económ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Sólo en virtud de una ley, y siempre que no signifique tal discriminación se podrán autorizar determinados beneficios directos o indirectos a favor de algún sector, actividad o zona geográfica, o establecer gravámenes especiales que afecten a uno u otras. En el caso de las franquicias o beneficios indirectos, la estimación del costo de éstos deberá incluirse anualmente en la Ley de Presupue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31560" y="914400"/>
            <a:ext cx="60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Discriminación Arbit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B43-3568-437A-B180-1078FB25BA7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17DF6-6F0C-4DDD-A888-B87214352C71}" type="datetime1">
              <a:rPr lang="en-US"/>
              <a:t>07/28/26</a:t>
            </a:fld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14080" y="2057400"/>
            <a:ext cx="912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0º La igual repartición ……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Los tributos que se recauden, cualquiera que sea su naturaleza ingresaran al patrimonio de la Nación y no podrán estar afectos a un destino determin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Sin embargo, la ley podrá autorizar que determinados tributos puedan estar afectados a fines propios de la defensa nacional. Asimismo, podrá autorizar que los que gravan actividades o bienes que tengan una clara identificación regional o local puedan ser aplicados, dentro de los marcos que la misma ley señale, por las autoridades regionales o comunales para el financiamiento de obras de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2184840" y="91440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Afec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B722-E8D0-4A37-BA56-D45B03B33F1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BF5E4-DF85-482B-8BEC-9FCCBFE02F28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415880" y="2818440"/>
            <a:ext cx="74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6280" y="3580200"/>
            <a:ext cx="753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4º El derecho de propiedad en sus diversas especies sobre toda clase de bienes corporales o incorpo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No Confisc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0ECE-DA36-4BD9-8EF0-F407FD3CECFB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12E80-BB3C-4162-B840-1A7A3AD42102}" type="datetime1">
              <a:rPr lang="en-US"/>
              <a:t>07/28/26</a:t>
            </a:fld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92240" y="2666160"/>
            <a:ext cx="81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Book Antiqua"/>
              </a:rPr>
              <a:t>Art.19</a:t>
            </a: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. La Constitución asegura a todas las person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11240" y="3427920"/>
            <a:ext cx="826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Book Antiqua"/>
              </a:rPr>
              <a:t>26º La seguridad de que los preceptos legales que por mandato de la Constitución regulen o complementen las garantías que ésta establece o que las limiten en los casos en que ella lo autoriza, no podrán afectar los derechos en su esencia, ni imponer condiciones, tributos o requisitos que impidan su libre ejerc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84840" y="1066680"/>
            <a:ext cx="59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Garantías Constitu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bbd71"/>
                </a:solidFill>
                <a:latin typeface="Book Antiqua"/>
              </a:rPr>
              <a:t>Principio de Seguridad Juríd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920-DE03-4131-9769-968D22D9E1CB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DE039-4134-4176-BBAF-BB144A6A920D}" type="datetime1">
              <a:rPr lang="en-US"/>
              <a:t>07/28/26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18680" y="1371600"/>
            <a:ext cx="7648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Potestad Tribut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se orig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 qué obje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ómo funci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4C53-03B6-4D4A-AFBC-F45F391E5D5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D710E-DDC1-406D-A060-BEFE639B0FF8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71120" y="1028520"/>
            <a:ext cx="8744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bbd71"/>
                </a:solidFill>
                <a:uFillTx/>
                <a:latin typeface="Book Antiqua"/>
                <a:ea typeface="Times New Roman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Origin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Abstra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Perman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ndeleg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rrenunci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Imprescripti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· Limitaciones territoriales y constitu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594-9205-49EA-97D0-4EA4B520A64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2AFB4-2A35-4C50-85DA-6C2458174F65}" type="datetime1">
              <a:rPr lang="en-US"/>
              <a:t>07/28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14080" y="91404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080" y="2514240"/>
            <a:ext cx="925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cep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Aquella prestación obligatoria, comúnmente en dinero, exigida por el Estado en ejercicio de su poder de imperio, en virtud de una ley, para atender sus necesidades y cumplir sus fines públicos, económicos y soci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493-3C2F-4C9C-8BEA-B6AEA60029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43262-A170-4905-B202-5EA362EC07C7}" type="datetime1">
              <a:rPr lang="en-US"/>
              <a:t>07/28/26</a:t>
            </a:fld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080" y="6091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Clasificació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4520" y="1980720"/>
            <a:ext cx="70772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Internos y Exter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Directos e Indire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ales y Pers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Fiscales y Municip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Generales y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ermanentes y Transi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Proporcionales, progresivos y fi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ook Antiqua"/>
              </a:rPr>
              <a:t>Retención y de reca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F77-106F-444B-A43B-86F98899F9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D1525-4170-419B-BD71-1CBCEE0F6BC2}" type="datetime1">
              <a:rPr lang="en-US"/>
              <a:t>07/28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1333440" y="57168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57168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11A-6ABD-4AEF-80E8-F4FE7F359DB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8FB56-69F9-4666-9C01-49CFA9AAE498}" type="datetime1">
              <a:rPr lang="en-US"/>
              <a:t>07/28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9760" y="503280"/>
            <a:ext cx="746748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CA53-CAFB-4C2B-B3B8-0EF8E563C98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F42C0-5A30-4DBA-B388-77E7AC079712}" type="datetime1">
              <a:rPr lang="en-US"/>
              <a:t>07/28/26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080" y="76176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bbd71"/>
                </a:solidFill>
                <a:latin typeface="Book Antiqua"/>
              </a:rPr>
              <a:t>Tipos de Tributo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23600" y="2286000"/>
            <a:ext cx="5239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Impue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Tas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Contribu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ook Antiqua"/>
              </a:rPr>
              <a:t>Derech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E69-037A-4268-B532-331DF7994E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285C3-9C8F-474A-95D3-A37900914E78}" type="datetime1">
              <a:rPr lang="en-US"/>
              <a:t>07/28/26</a:t>
            </a:fld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1:59:30Z</dcterms:created>
  <dc:creator>dale tincher</dc:creator>
  <dc:description/>
  <dc:language>en-US</dc:language>
  <cp:lastModifiedBy> Rodrigo Rojas</cp:lastModifiedBy>
  <cp:lastPrinted>1999-12-01T16:13:34Z</cp:lastPrinted>
  <dcterms:modified xsi:type="dcterms:W3CDTF">2007-08-02T15:42:52Z</dcterms:modified>
  <cp:revision>180</cp:revision>
  <dc:subject/>
  <dc:title>Using PowerPoint - For Lawyers - VA CLE Course by Dale Tincher Consultwebs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etsmartinc.com</vt:lpwstr>
  </property>
  <property fmtid="{D5CDD505-2E9C-101B-9397-08002B2CF9AE}" pid="9" name="LinkColor">
    <vt:r8>16711782</vt:r8>
  </property>
  <property fmtid="{D5CDD505-2E9C-101B-9397-08002B2CF9AE}" pid="10" name="MailAddress">
    <vt:lpwstr>dtincher@netsmartinc.com</vt:lpwstr>
  </property>
  <property fmtid="{D5CDD505-2E9C-101B-9397-08002B2CF9AE}" pid="11" name="NavBtnPos">
    <vt:r8>3</vt:r8>
  </property>
  <property fmtid="{D5CDD505-2E9C-101B-9397-08002B2CF9AE}" pid="12" name="Other">
    <vt:lpwstr>Phone: 919-272-8052</vt:lpwstr>
  </property>
  <property fmtid="{D5CDD505-2E9C-101B-9397-08002B2CF9AE}" pid="13" name="OutputDir">
    <vt:lpwstr>E:\NCBA Presentations - PPT and 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