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A1541-D04B-4355-9472-352746FD1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CD203-43A5-42CA-839A-222D3A68A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D2AE4-6326-453A-BD22-4FD37AC30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70424-985E-4831-B9C1-7345D9DD2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08300-D803-4566-A30B-A7A0DBE5C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753F1-A0EB-4617-9F37-2352EE338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5FD55-0C66-48D3-8618-447987756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59B66-AACD-4419-8989-7C887A105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8D5F5-0B75-4469-B459-64CDCD6D1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AD099-3F27-410A-8B2C-5295C3DC9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B2D52-DC37-414F-A869-EB822549E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9CA72-680D-4A4F-8BD9-5D149DE71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CF493-5F87-4892-BD18-4E9F25E92A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-11160" y="4680"/>
          <a:ext cx="916632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1160" y="4680"/>
                    <a:ext cx="916632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Book Antiqua"/>
              </a:rPr>
              <a:t>Recaudación 1989-2006</a:t>
            </a:r>
            <a:br>
              <a:rPr sz="2800"/>
            </a:br>
            <a:r>
              <a:rPr b="0" lang="es-MX" sz="2800" spc="-1" strike="noStrike">
                <a:solidFill>
                  <a:srgbClr val="000000"/>
                </a:solidFill>
                <a:latin typeface="Book Antiqua"/>
              </a:rPr>
              <a:t>en millones de pes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923760" y="1989000"/>
          <a:ext cx="7296480" cy="4143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3760" y="1989000"/>
                    <a:ext cx="7296480" cy="414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Book Antiqua"/>
              </a:rPr>
              <a:t>Recaudación 1989-2006</a:t>
            </a:r>
            <a:br>
              <a:rPr sz="2800"/>
            </a:br>
            <a:r>
              <a:rPr b="0" lang="es-MX" sz="2800" spc="-1" strike="noStrike">
                <a:solidFill>
                  <a:srgbClr val="000000"/>
                </a:solidFill>
                <a:latin typeface="Book Antiqua"/>
              </a:rPr>
              <a:t>como % del PI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919080" y="2060640"/>
          <a:ext cx="7305840" cy="4152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9080" y="2060640"/>
                    <a:ext cx="7305840" cy="415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923760" y="1989000"/>
          <a:ext cx="7296480" cy="4143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3760" y="1989000"/>
                    <a:ext cx="7296480" cy="414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Book Antiqua"/>
              </a:rPr>
              <a:t>Distribución Impuestos – Chile 20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Book Antiqua"/>
              </a:rPr>
              <a:t>Distribución Impuestos – Chile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923760" y="1916280"/>
          <a:ext cx="7296480" cy="414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3760" y="1916280"/>
                    <a:ext cx="7296480" cy="414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923760" y="1916280"/>
          <a:ext cx="7296480" cy="414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3760" y="1916280"/>
                    <a:ext cx="7296480" cy="414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Book Antiqua"/>
              </a:rPr>
              <a:t>Distribución Impuestos – Chile 200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3T19:20:54Z</dcterms:created>
  <dc:creator> Rodrigo Rojas</dc:creator>
  <dc:description/>
  <dc:language>en-US</dc:language>
  <cp:lastModifiedBy>s</cp:lastModifiedBy>
  <dcterms:modified xsi:type="dcterms:W3CDTF">2007-08-01T14:55:19Z</dcterms:modified>
  <cp:revision>7</cp:revision>
  <dc:subject/>
  <dc:title>Diapositiva 1</dc:title>
</cp:coreProperties>
</file>