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8923-33D1-48CB-8299-99CED2E4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530-C57A-4AF2-9D35-A19893A7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C1C-6132-48FE-8666-9289B2B7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4B2C-19E6-4C92-9F5D-E00634DC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29C2-4D27-47BA-B741-B659A789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3AC-A68C-4282-800A-B04852C0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177-FFEF-407E-AA93-5C3EB8AE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615F-A6E8-44AD-AE77-2E0AF0B2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3F3-33A2-42BE-A618-8B0B96D3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9B3-86E2-43B1-A66C-3D4D3B3A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1A32-0B07-48EE-AFB2-078D2639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B3CC-43BD-4ECF-9D04-CF6379D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CD0D-47B9-4E44-9226-40E14D01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-11160" y="4680"/>
          <a:ext cx="91663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160" y="4680"/>
                    <a:ext cx="9166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en millones de p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Recaudación 1989-2006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como % del P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19080" y="2060640"/>
          <a:ext cx="7305840" cy="415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2060640"/>
                    <a:ext cx="730584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23760" y="1989000"/>
          <a:ext cx="7296480" cy="41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89000"/>
                    <a:ext cx="729648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923760" y="1916280"/>
          <a:ext cx="7296480" cy="41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916280"/>
                    <a:ext cx="7296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 Antiqua"/>
              </a:rPr>
              <a:t>Distribución Impuestos – Chil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19:20:54Z</dcterms:created>
  <dc:creator> Rodrigo Rojas</dc:creator>
  <dc:description/>
  <dc:language>en-US</dc:language>
  <cp:lastModifiedBy>s</cp:lastModifiedBy>
  <dcterms:modified xsi:type="dcterms:W3CDTF">2007-08-01T14:55:19Z</dcterms:modified>
  <cp:revision>7</cp:revision>
  <dc:subject/>
  <dc:title>Diapositiva 1</dc:title>
</cp:coreProperties>
</file>