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C1E-6A61-44CF-8336-F9D5F995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5AD-CF24-4784-939D-3FBD30AF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8AF-E234-47E9-85E2-E07DC845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D2C-8BF7-4AA2-A535-0E0C8C40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EA2-AA30-4888-A92B-1283E5DF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AEA-0087-44E0-A3FB-E87F910E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115-9C54-4E0A-B345-E50F362E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778-BA64-4A5C-9481-FF1BDFEC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644-1DAA-4B44-B184-7D93852E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FE9-92E7-4DDE-B720-DE63D7C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382-3CC5-4173-BAEC-0DEDFC4E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87F-95A9-4254-850E-55A9897F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E960-A4A0-488A-8BDA-F48D95B6C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-11160" y="4680"/>
          <a:ext cx="91663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4680"/>
                    <a:ext cx="916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6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en millones de p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23760" y="198900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8900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6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como % del P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19080" y="2060640"/>
          <a:ext cx="7305840" cy="41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2060640"/>
                    <a:ext cx="73058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23760" y="198900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8900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9:20:54Z</dcterms:created>
  <dc:creator> Rodrigo Rojas</dc:creator>
  <dc:description/>
  <dc:language>en-US</dc:language>
  <cp:lastModifiedBy>s</cp:lastModifiedBy>
  <dcterms:modified xsi:type="dcterms:W3CDTF">2007-08-01T14:55:19Z</dcterms:modified>
  <cp:revision>7</cp:revision>
  <dc:subject/>
  <dc:title>Diapositiva 1</dc:title>
</cp:coreProperties>
</file>