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6FA-73D7-42A8-B5DA-65CFEB08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AE6-738A-4914-88F8-4B905BA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65C-EDB8-4F1B-8093-8014F03D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59E-CB1D-4E88-98BA-8EDBD11E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126-B734-4B8C-910B-6FEE71F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CC0-FDD2-4238-952C-706E3FE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496-EC46-41F0-99A6-51BF110D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C9F-3421-4AEE-8642-ABBE9253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BD4-A480-4925-833C-BA34721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A52-F918-4286-831E-F287203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D37-D11B-4C10-8622-FF49D9B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907-73C2-4FEE-9F04-069E96A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6BD7-9A3A-4114-8274-F7D42BAB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206064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06064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s</cp:lastModifiedBy>
  <dcterms:modified xsi:type="dcterms:W3CDTF">2007-08-01T14:55:19Z</dcterms:modified>
  <cp:revision>7</cp:revision>
  <dc:subject/>
  <dc:title>Diapositiva 1</dc:title>
</cp:coreProperties>
</file>