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070AF-9C32-41B8-8126-F7715DE87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E820D-014F-4802-9B6A-F56B71D11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97C16-16AC-426E-8A04-9F9DBBC97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D87BC-FC33-46ED-967A-2EFD1A9DC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58CBE6-9A5D-48C9-BACB-FE3C43683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E9477-92D3-43C5-A830-E32C281A5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840E2-87CD-4FF0-BA73-20CF57DB1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1ECA9-028D-499B-8B4A-03415B429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A9F31-406E-4E6D-8AFF-6E84533AC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EACC0-AB2A-434B-81DE-5EE100DE2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41766-3758-447C-9892-2557C57BE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E4581-A69B-4CCD-8027-16565384A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78395-2AC8-4CFB-9E80-15ADE6DEA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BD947-9E3B-4C14-AA39-120F92CDA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5C517-6E02-4D04-A31D-6B6A3D361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D3515-9A41-4CE2-BC68-CF98730A9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EC5293-3D58-4993-A695-4ACF8B8B6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22C10-834A-44C5-A831-4D8504105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56E2C-4BE5-4A21-B173-F6162E7DE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30CF6-D69B-4995-A7A7-0657092FC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A7D47-E337-40E7-9E89-494E25DE1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9E5BB-68C3-46DE-98F3-D7C194524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4FF6F-6AB6-4079-8DB4-7EFF7749F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789D3-50E1-41FE-9421-B201F48B7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D3E8-C11F-4F17-9A5E-655098193331}"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5576C-2FE5-48E4-B9DD-EF27C1B68C33}"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891800"/>
            <a:ext cx="762336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Mercado Relevante</a:t>
            </a:r>
            <a:endParaRPr b="0" lang="en-US" sz="6800" spc="-1" strike="noStrike">
              <a:solidFill>
                <a:srgbClr val="006633"/>
              </a:solidFill>
              <a:latin typeface="Garamond"/>
            </a:endParaRPr>
          </a:p>
        </p:txBody>
      </p:sp>
      <p:sp>
        <p:nvSpPr>
          <p:cNvPr id="87" name="PlaceHolder 2"/>
          <p:cNvSpPr>
            <a:spLocks noGrp="1"/>
          </p:cNvSpPr>
          <p:nvPr>
            <p:ph type="subTitle"/>
          </p:nvPr>
        </p:nvSpPr>
        <p:spPr>
          <a:xfrm>
            <a:off x="1981080" y="441324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troducción a los criterios de la parte general del derecho antimonopol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Demanda</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umidor maximizador de beneficios</a:t>
            </a:r>
            <a:r>
              <a:rPr b="0" lang="es-CL" sz="2800" spc="-1" strike="noStrike">
                <a:solidFill>
                  <a:srgbClr val="000000"/>
                </a:solidFill>
                <a:latin typeface="Arial"/>
                <a:ea typeface="Arial"/>
              </a:rPr>
              <a:t>→ cambio de precio, calidad o condiciones contractuales de la ofer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stá estrechamente vinculado con el concepto de </a:t>
            </a:r>
            <a:r>
              <a:rPr b="1" lang="es-CL" sz="2800" spc="-1" strike="noStrike" u="sng">
                <a:solidFill>
                  <a:srgbClr val="000000"/>
                </a:solidFill>
                <a:uFillTx/>
                <a:latin typeface="Arial"/>
                <a:ea typeface="Arial"/>
              </a:rPr>
              <a:t>elasticidad precio-cruzada de la demanda</a:t>
            </a:r>
            <a:r>
              <a:rPr b="0" lang="es-CL" sz="2800" spc="-1" strike="noStrike">
                <a:solidFill>
                  <a:srgbClr val="000000"/>
                </a:solidFill>
                <a:latin typeface="Arial"/>
                <a:ea typeface="Arial"/>
              </a:rPr>
              <a:t>. (“ECD”)</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CD: Respuesta porcentual al camb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CD es el elemento clave para determinar </a:t>
            </a:r>
            <a:r>
              <a:rPr b="0" i="1" lang="es-CL" sz="2800" spc="-1" strike="noStrike">
                <a:solidFill>
                  <a:srgbClr val="000000"/>
                </a:solidFill>
                <a:latin typeface="Arial"/>
              </a:rPr>
              <a:t>market shares (participaciones de mercado, puesto que debemos </a:t>
            </a:r>
            <a:r>
              <a:rPr b="1" i="1" lang="es-CL" sz="2800" spc="-1" strike="noStrike" u="sng">
                <a:solidFill>
                  <a:srgbClr val="000000"/>
                </a:solidFill>
                <a:uFillTx/>
                <a:latin typeface="Arial"/>
              </a:rPr>
              <a:t>referirnos a un mercado</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Es un método objetivo y precis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ubjetividad de configuración de un M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Ofert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uesta horizontal de un competidor ya presente en el mercado, pero que sin costos financieros importantes, puede destinar sus activos a producir bienes similares a los que la empresa, cuyo curso de acción se modificó, producía.</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 Jugo de Naranja v/s Jugo de piña.</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etencia Potencial</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puesta horizontal de un competidor </a:t>
            </a:r>
            <a:r>
              <a:rPr b="1" lang="es-CL" sz="2000" spc="-1" strike="noStrike" u="sng">
                <a:solidFill>
                  <a:srgbClr val="000000"/>
                </a:solidFill>
                <a:uFillTx/>
                <a:latin typeface="Arial"/>
              </a:rPr>
              <a:t>no</a:t>
            </a:r>
            <a:r>
              <a:rPr b="0" lang="es-CL" sz="2000" spc="-1" strike="noStrike">
                <a:solidFill>
                  <a:srgbClr val="000000"/>
                </a:solidFill>
                <a:latin typeface="Arial"/>
              </a:rPr>
              <a:t> presente en el mercado, pero que sin costos financieros importantes, puede destinar sus activos a producir bienes similares a los que la empresa, cuyo curso de acción se modificó, producía. Esta respuesta puede aumentar la competencia potencial en un mercado, por lo que pueden realizarse estimaciones basadas en la posible entrada de un competidor que esté al acecho, lo que puede ampliar el mercado relevante.</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i="1" lang="es-CL" sz="2000" spc="-1" strike="noStrike">
                <a:solidFill>
                  <a:srgbClr val="000000"/>
                </a:solidFill>
                <a:latin typeface="Arial"/>
              </a:rPr>
              <a:t>Sunk Costs” </a:t>
            </a:r>
            <a:r>
              <a:rPr b="0" i="1" lang="es-CL" sz="2000" spc="-1" strike="noStrike">
                <a:solidFill>
                  <a:srgbClr val="000000"/>
                </a:solidFill>
                <a:latin typeface="Wingdings"/>
                <a:ea typeface="Wingdings"/>
              </a:rPr>
              <a:t></a:t>
            </a:r>
            <a:r>
              <a:rPr b="0" i="1" lang="es-CL" sz="2000" spc="-1" strike="noStrike">
                <a:solidFill>
                  <a:srgbClr val="000000"/>
                </a:solidFill>
                <a:latin typeface="Arial"/>
              </a:rPr>
              <a:t> costos hundidos, son los que no se pueden recuperar una vez hechos (determinadas instalaciones para algunas industrias, como los postes de alumbrado), y pueden representar barreras a la entrada y la salida de un mercado, por cuanto están implicados factores temporales y financieros en la recuperación de estos costos. Los costos hundidos pueden reducir la competencia potencial en un mercado, y por ende, el mercado relevante, aún cuando pareciera que un competidor puede responder y competir potenci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Geográfic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s la zona en la que las empresas afectadas desarrollan actividades de suministro de los productos y de prestación de servicios (…) en que las condiciones de competencia son suficientemente homogéneas (…)”</a:t>
            </a:r>
            <a:r>
              <a:rPr b="0" lang="en-US" sz="2800" spc="-1" strike="noStrike">
                <a:solidFill>
                  <a:srgbClr val="000000"/>
                </a:solidFill>
                <a:latin typeface="Arial"/>
              </a:rPr>
              <a:t> (Comunicación Europea relativa al mercado de referencia, 1997).</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significa 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que está dado por costos transaccionales de búsqueda (tanto los del oferente como el demandan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mos que, desde el punto de vista de los costos económicos, éstos se imputan como costos variab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os ejempl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Pepsi v. Coca-Cola) debe (puede) incluir bebestibles tales como jugo en polvo, leche, etc.</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vidir la cadena de comercialización (relación “suppliers-retailers” y “retailers-consumer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ferenciar mar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as conclusiones</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a la importancia estratégica de este concepto, mayoritariamente encontramos argumentos tipo </a:t>
            </a:r>
            <a:r>
              <a:rPr b="0" i="1" lang="es-CL" sz="2800" spc="-1" strike="noStrike">
                <a:solidFill>
                  <a:srgbClr val="000000"/>
                </a:solidFill>
                <a:latin typeface="Arial"/>
              </a:rPr>
              <a:t>“Humpty-Dumpty”</a:t>
            </a:r>
            <a:r>
              <a:rPr b="0" lang="es-CL" sz="2800" spc="-1" strike="noStrike">
                <a:solidFill>
                  <a:srgbClr val="000000"/>
                </a:solidFill>
                <a:latin typeface="Arial"/>
              </a:rPr>
              <a:t> </a:t>
            </a:r>
            <a:endParaRPr b="0" lang="en-US" sz="2800" spc="-1" strike="noStrike">
              <a:solidFill>
                <a:srgbClr val="000000"/>
              </a:solidFill>
              <a:latin typeface="Arial"/>
            </a:endParaRPr>
          </a:p>
          <a:p>
            <a:pPr lvl="2" marL="1022400" indent="-351000">
              <a:lnSpc>
                <a:spcPct val="90000"/>
              </a:lnSpc>
              <a:spcBef>
                <a:spcPts val="5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Cuando uso una palabra, dijo Humpty Dumpty con un dejo de ironía, significa exactamente lo que he elegido que signifique; ni más ni menos”.</a:t>
            </a:r>
            <a:endParaRPr b="0" lang="en-US" sz="21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mos renunciar a él?</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que no contemos con un criterio mejor de imputación razonable, pareciera ser que 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333000"/>
            <a:ext cx="8229600" cy="575964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 Stigler (198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r>
              <a:rPr b="0" i="1" lang="es-CL" sz="2800" spc="-1" strike="noStrike">
                <a:solidFill>
                  <a:srgbClr val="000000"/>
                </a:solidFill>
                <a:latin typeface="Arial"/>
              </a:rPr>
              <a:t>“</a:t>
            </a:r>
            <a:r>
              <a:rPr b="0" i="1" lang="es-CL" sz="2800" spc="-1" strike="noStrike">
                <a:solidFill>
                  <a:srgbClr val="000000"/>
                </a:solidFill>
                <a:latin typeface="Arial"/>
              </a:rPr>
              <a:t>Mi queja es que esta batalla de la definición de mercado, que es peleada miles de veces en todas las demandas antitrust, ha recibido muy poca atención de los economistas. Excepto alguna relación puntual con la elasticidad cruzada de la demanda y de oferta, la delimitación de los mercados ha permanecido como un área inexplorada de la investigación econó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rcado Relevante (“MR”): ¿De qué hablamos?</a:t>
            </a:r>
            <a:endParaRPr b="0" lang="en-US" sz="38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entendemos a los mercados como interacciones dinámicas de oferta y demanda, debemos caracterizar a qué oferta y demanda nos referim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Pepe es un monopolio porque controla la oferta de ese producto en ese territori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riterios de imputación general nos exigen un parámetro (marco analítico) de delimitación de la actividad de las empresas, consumidores y demás intervinientes, en la línea de comercialización de bienes o servicios determin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r qué un MR?</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mo veremos con posterioridad, la imputación de una posición dominante (</a:t>
            </a:r>
            <a:r>
              <a:rPr b="0" i="1" lang="en-US" sz="2800" spc="-1" strike="noStrike">
                <a:solidFill>
                  <a:srgbClr val="000000"/>
                </a:solidFill>
                <a:latin typeface="Arial"/>
              </a:rPr>
              <a:t>“Market Power”</a:t>
            </a:r>
            <a:r>
              <a:rPr b="0" lang="en-US" sz="2800" spc="-1" strike="noStrike">
                <a:solidFill>
                  <a:srgbClr val="000000"/>
                </a:solidFill>
                <a:latin typeface="Arial"/>
              </a:rPr>
              <a:t> o “PD”) nos exige previamente determinar los requisitos con arreglo a los cuales constatamos dicha característica.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mente participaciones de mercado (</a:t>
            </a:r>
            <a:r>
              <a:rPr b="0" i="1" lang="en-US" sz="2800" spc="-1" strike="noStrike">
                <a:solidFill>
                  <a:srgbClr val="000000"/>
                </a:solidFill>
                <a:latin typeface="Arial"/>
              </a:rPr>
              <a:t>“Market Shar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remos de MR de </a:t>
            </a:r>
            <a:r>
              <a:rPr b="0" i="1" lang="en-US" sz="2800" spc="-1" strike="noStrike">
                <a:solidFill>
                  <a:srgbClr val="000000"/>
                </a:solidFill>
                <a:latin typeface="Arial"/>
              </a:rPr>
              <a:t>primer nivel</a:t>
            </a:r>
            <a:r>
              <a:rPr b="0" lang="en-US" sz="2800" spc="-1" strike="noStrike">
                <a:solidFill>
                  <a:srgbClr val="000000"/>
                </a:solidFill>
                <a:latin typeface="Arial"/>
              </a:rPr>
              <a:t> y MR </a:t>
            </a:r>
            <a:r>
              <a:rPr b="0" i="1" lang="en-US" sz="2800" spc="-1" strike="noStrike">
                <a:solidFill>
                  <a:srgbClr val="000000"/>
                </a:solidFill>
                <a:latin typeface="Arial"/>
              </a:rPr>
              <a:t>de segundo nivel </a:t>
            </a:r>
            <a:r>
              <a:rPr b="0" lang="en-US" sz="2800" spc="-1" strike="noStrike">
                <a:solidFill>
                  <a:srgbClr val="000000"/>
                </a:solidFill>
                <a:latin typeface="Arial"/>
                <a:ea typeface="Arial"/>
              </a:rPr>
              <a:t>→ herramienta general de la condición d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1º nivel es aquel con el que determinamos la posición de la empresa respecto del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2º nivel, las características del mercado en su conjunto (competitivo, parcialmente concentrado,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r qué procesalmente es tan importante?</a:t>
            </a:r>
            <a:endParaRPr b="0" lang="en-US" sz="38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nte…</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un demandante al imputar un ilícito? ¿qué mercado relevante trataría de configura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d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qué términos plantearía su defensa? ¿cómo configuraría su M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stóricament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esarrollo fundamental comenzó con unos lineamientos guía de EE.UU. </a:t>
            </a:r>
            <a:r>
              <a:rPr b="0" i="1" lang="es-CL" sz="2800" spc="-1" strike="noStrike">
                <a:solidFill>
                  <a:srgbClr val="000000"/>
                </a:solidFill>
                <a:latin typeface="Arial"/>
              </a:rPr>
              <a:t>(“U.S Department of Justice, Merger Guidelines, 1982”) </a:t>
            </a:r>
            <a:r>
              <a:rPr b="0" lang="es-CL" sz="2800" spc="-1" strike="noStrike">
                <a:solidFill>
                  <a:srgbClr val="000000"/>
                </a:solidFill>
                <a:latin typeface="Arial"/>
              </a:rPr>
              <a:t>para determinar pro competitividades o peligrosidades en las fusiones (horizontales)</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ahí, comenzó el desarrollo de una abundante literatura económica y juríd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Clasificación</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mos de MR </a:t>
            </a:r>
            <a:r>
              <a:rPr b="0" i="1" lang="en-US" sz="2800" spc="-1" strike="noStrike">
                <a:solidFill>
                  <a:srgbClr val="000000"/>
                </a:solidFill>
                <a:latin typeface="Arial"/>
              </a:rPr>
              <a:t>de producto</a:t>
            </a:r>
            <a:r>
              <a:rPr b="0" lang="en-US" sz="2800" spc="-1" strike="noStrike">
                <a:solidFill>
                  <a:srgbClr val="000000"/>
                </a:solidFill>
                <a:latin typeface="Arial"/>
              </a:rPr>
              <a:t> y MR </a:t>
            </a:r>
            <a:r>
              <a:rPr b="0" i="1" lang="en-US" sz="2800" spc="-1" strike="noStrike">
                <a:solidFill>
                  <a:srgbClr val="000000"/>
                </a:solidFill>
                <a:latin typeface="Arial"/>
              </a:rPr>
              <a:t>geográfico</a:t>
            </a:r>
            <a:r>
              <a:rPr b="0" lang="en-US" sz="2800" spc="-1" strike="noStrike">
                <a:solidFill>
                  <a:srgbClr val="000000"/>
                </a:solidFill>
                <a:latin typeface="Arial"/>
              </a:rPr>
              <a:t>.</a:t>
            </a:r>
            <a:endParaRPr b="0" lang="en-US" sz="2800" spc="-1" strike="noStrike">
              <a:solidFill>
                <a:srgbClr val="000000"/>
              </a:solidFill>
              <a:latin typeface="Arial"/>
            </a:endParaRPr>
          </a:p>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os de MR </a:t>
            </a:r>
            <a:r>
              <a:rPr b="0" i="1" lang="en-US" sz="2800" spc="-1" strike="noStrike">
                <a:solidFill>
                  <a:srgbClr val="000000"/>
                </a:solidFill>
                <a:latin typeface="Arial"/>
              </a:rPr>
              <a:t>de producto</a:t>
            </a:r>
            <a:r>
              <a:rPr b="0" lang="en-US" sz="2800" spc="-1" strike="noStrike">
                <a:solidFill>
                  <a:srgbClr val="000000"/>
                </a:solidFill>
                <a:latin typeface="Arial"/>
              </a:rPr>
              <a:t>: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Demanda,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Oferta; y</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etencia Poten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de producto</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xiste definición pacífic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a:t>
            </a:r>
            <a:r>
              <a:rPr b="0" i="1" lang="en-US" sz="2800" spc="-1" strike="noStrike">
                <a:solidFill>
                  <a:srgbClr val="000000"/>
                </a:solidFill>
                <a:latin typeface="Arial"/>
              </a:rPr>
              <a:t>intuitivamente</a:t>
            </a:r>
            <a:r>
              <a:rPr b="0" lang="en-US" sz="2800" spc="-1" strike="noStrike">
                <a:solidFill>
                  <a:srgbClr val="000000"/>
                </a:solidFill>
                <a:latin typeface="Arial"/>
              </a:rPr>
              <a:t>, que se trata del </a:t>
            </a:r>
            <a:r>
              <a:rPr b="0" i="1" lang="en-US" sz="2800" spc="-1" strike="noStrike">
                <a:solidFill>
                  <a:srgbClr val="000000"/>
                </a:solidFill>
                <a:latin typeface="Arial"/>
              </a:rPr>
              <a:t>conjunto de bienes o servicios que pueden considerarse </a:t>
            </a:r>
            <a:r>
              <a:rPr b="0" lang="en-US" sz="2800" spc="-1" strike="noStrike">
                <a:solidFill>
                  <a:srgbClr val="000000"/>
                </a:solidFill>
                <a:latin typeface="Arial"/>
              </a:rPr>
              <a:t>(“¿razonablemente?”) </a:t>
            </a:r>
            <a:r>
              <a:rPr b="0" i="1" lang="en-US" sz="2800" spc="-1" strike="noStrike">
                <a:solidFill>
                  <a:srgbClr val="000000"/>
                </a:solidFill>
                <a:latin typeface="Arial"/>
              </a:rPr>
              <a:t>intercambiables entre sí, desde un punto de vista de la satisfacción de quien lo adquiere, cuando existe un cambio en los precios, calidades o condiciones contractuales de uno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03:40:50Z</dcterms:created>
  <dc:creator>Equipo Docente</dc:creator>
  <dc:description/>
  <dc:language>en-US</dc:language>
  <cp:lastModifiedBy>Sebastian Spolmann</cp:lastModifiedBy>
  <dcterms:modified xsi:type="dcterms:W3CDTF">2007-09-10T16:02:40Z</dcterms:modified>
  <cp:revision>27</cp:revision>
  <dc:subject/>
  <dc:title> El Mercado Relevante</dc:title>
</cp:coreProperties>
</file>