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50F0E-F42B-4C95-A983-E6A692A56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90454-E907-47CE-87A6-7D67166D6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8D532-18EE-4C2F-BFDD-31147FB8E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71FF0-B3B3-4E8A-AC1C-CD4F60339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CF65AB-69EA-4CF6-BE43-E8F993381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82ECF-324F-48BA-BDD0-B21DBF93A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D320B-A2B1-4F06-B4F1-026BFDC6C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E06B7-B6E5-4DDF-A61F-314B96750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AF022-0C93-429E-A5DC-EBE34F6F8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0BF86-1CAE-4D92-9A31-EFAFC5517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2371E-CA8C-4003-8144-12BD46CAC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05A1C-7BF4-47AE-9A12-86DE08F7B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84C42-FE68-4888-996B-C6EF3FE88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BFFB7-B95D-426F-B03C-C1E7B2EDB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1B87A-A6DC-480B-83F8-D0E4DE7E3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36ED4-1B4C-4E4D-A3DF-2D2442A9C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E6259-62BD-46B7-A600-C8E05845D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4FC77-45C2-41AC-AE3B-FAB1AF8E0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584CA-9FE7-4BFD-BDE0-9A0BD74AD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37E89-5855-49C5-9B15-4B077C5BE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8B1B1-D0CF-49B6-8DCE-6C1E07502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8BFB5-4B0A-4049-97E6-E31CA74B4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84D7-0826-4445-9BD3-92E62761B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08181-866C-4CDA-BBDB-85B1E7AA3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4F88-E946-4009-B4C9-28A18822B697}"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807C-E425-46E5-B9B4-A408FE5AE61B}"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a Protección de la Libre Competencia</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aramond"/>
              </a:rPr>
              <a:t>Decreto Ley N° 2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89000"/>
          </a:bodyPr>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4°: Los concursos mencionados, deberán fundarse en condiciones objetivas, públicas, transparentes y no discriminatorias (…)</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7°: Es </a:t>
            </a:r>
            <a:r>
              <a:rPr b="1" i="1" lang="es-MX" sz="3000" spc="-1" strike="noStrike" u="sng">
                <a:solidFill>
                  <a:srgbClr val="000000"/>
                </a:solidFill>
                <a:uFillTx/>
                <a:latin typeface="Garamond"/>
              </a:rPr>
              <a:t>incompatible el cargo de integrante titular</a:t>
            </a:r>
            <a:r>
              <a:rPr b="1" i="1" lang="es-MX" sz="3000" spc="-1" strike="noStrike">
                <a:solidFill>
                  <a:srgbClr val="000000"/>
                </a:solidFill>
                <a:latin typeface="Garamond"/>
              </a:rPr>
              <a:t> del Tribunal con la condición de </a:t>
            </a:r>
            <a:r>
              <a:rPr b="1" i="1" lang="es-MX" sz="3000" spc="-1" strike="noStrike" u="sng">
                <a:solidFill>
                  <a:srgbClr val="000000"/>
                </a:solidFill>
                <a:uFillTx/>
                <a:latin typeface="Garamond"/>
              </a:rPr>
              <a:t>funcionario público</a:t>
            </a:r>
            <a:r>
              <a:rPr b="1" i="1" lang="es-MX" sz="3000" spc="-1" strike="noStrike">
                <a:solidFill>
                  <a:srgbClr val="000000"/>
                </a:solidFill>
                <a:latin typeface="Garamond"/>
              </a:rPr>
              <a:t>, como también con la de </a:t>
            </a:r>
            <a:r>
              <a:rPr b="1" i="1" lang="es-MX" sz="3000" spc="-1" strike="noStrike" u="sng">
                <a:solidFill>
                  <a:srgbClr val="000000"/>
                </a:solidFill>
                <a:uFillTx/>
                <a:latin typeface="Garamond"/>
              </a:rPr>
              <a:t>administrador, gerente o trabajador dependiente de S.A.</a:t>
            </a:r>
            <a:r>
              <a:rPr b="1" i="1" lang="es-MX" sz="3000" spc="-1" strike="noStrike">
                <a:solidFill>
                  <a:srgbClr val="000000"/>
                </a:solidFill>
                <a:latin typeface="Garamond"/>
              </a:rPr>
              <a:t> abiertas o sometidas a las reglas de estas sociedades, como asimismo, de sus matrices, filiales, coligantes o coligadas.</a:t>
            </a:r>
            <a:endParaRPr b="0" lang="en-US" sz="3000" spc="-1" strike="noStrike">
              <a:solidFill>
                <a:srgbClr val="000000"/>
              </a:solidFill>
              <a:latin typeface="Arial"/>
            </a:endParaRPr>
          </a:p>
          <a:p>
            <a:pPr lvl="1" marL="5961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1) </a:t>
            </a:r>
            <a:r>
              <a:rPr b="1" i="1" lang="es-MX" sz="2200" spc="-1" strike="noStrike" u="sng">
                <a:solidFill>
                  <a:srgbClr val="000000"/>
                </a:solidFill>
                <a:uFillTx/>
                <a:latin typeface="Garamond"/>
              </a:rPr>
              <a:t>Conocer, a solicitud de parte o del FNE, las situaciones que pudieren constituir infracciones</a:t>
            </a:r>
            <a:r>
              <a:rPr b="1" i="1" lang="es-MX" sz="2200" spc="-1" strike="noStrike">
                <a:solidFill>
                  <a:srgbClr val="000000"/>
                </a:solidFill>
                <a:latin typeface="Garamond"/>
              </a:rPr>
              <a:t> a la presente ley.</a:t>
            </a:r>
            <a:endParaRPr b="0" lang="en-US" sz="22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2) </a:t>
            </a:r>
            <a:r>
              <a:rPr b="1" i="1" lang="es-MX" sz="2200" spc="-1" strike="noStrike" u="sng">
                <a:solidFill>
                  <a:srgbClr val="000000"/>
                </a:solidFill>
                <a:uFillTx/>
                <a:latin typeface="Garamond"/>
              </a:rPr>
              <a:t>Conocer</a:t>
            </a:r>
            <a:r>
              <a:rPr b="1" i="1" lang="es-MX" sz="2200" spc="-1" strike="noStrike">
                <a:solidFill>
                  <a:srgbClr val="000000"/>
                </a:solidFill>
                <a:latin typeface="Garamond"/>
              </a:rPr>
              <a:t>, a solicitud de quien tenga interés legítimo, o del FNE, </a:t>
            </a:r>
            <a:r>
              <a:rPr b="1" i="1" lang="es-MX" sz="2200" spc="-1" strike="noStrike" u="sng">
                <a:solidFill>
                  <a:srgbClr val="000000"/>
                </a:solidFill>
                <a:uFillTx/>
                <a:latin typeface="Garamond"/>
              </a:rPr>
              <a:t>los asuntos de carácter no contencioso</a:t>
            </a:r>
            <a:r>
              <a:rPr b="1" i="1" lang="es-MX" sz="2200" spc="-1" strike="noStrike">
                <a:solidFill>
                  <a:srgbClr val="000000"/>
                </a:solidFill>
                <a:latin typeface="Garamond"/>
              </a:rPr>
              <a:t> que puedan infringir las disposiciones de la presente ley, sobre hechos, actos o contratos existentes, así como aquellos que le presenten quienes se propongan ejecutarlos o celebrarlos, para lo cual, en ambos casos, podrá fijar las condiciones que deberán ser cumplidas en dichos hechos, actos o contratos.</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18: El TDLC tendrá las siguientes atribuciones y debere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3)</a:t>
            </a:r>
            <a:r>
              <a:rPr b="1" i="1" lang="es-MX" sz="2600" spc="-1" strike="noStrike" u="sng">
                <a:solidFill>
                  <a:srgbClr val="000000"/>
                </a:solidFill>
                <a:uFillTx/>
                <a:latin typeface="Garamond"/>
              </a:rPr>
              <a:t>Dictar instrucciones de carácter general</a:t>
            </a:r>
            <a:r>
              <a:rPr b="1" i="1" lang="es-MX" sz="2600" spc="-1" strike="noStrike">
                <a:solidFill>
                  <a:srgbClr val="000000"/>
                </a:solidFill>
                <a:latin typeface="Garamond"/>
              </a:rPr>
              <a:t> de conformidad a la ley, las cuales </a:t>
            </a:r>
            <a:r>
              <a:rPr b="1" i="1" lang="es-MX" sz="2600" spc="-1" strike="noStrike" u="sng">
                <a:solidFill>
                  <a:srgbClr val="000000"/>
                </a:solidFill>
                <a:uFillTx/>
                <a:latin typeface="Garamond"/>
              </a:rPr>
              <a:t>deberán considerarse por los particulares en los actos o contratos</a:t>
            </a:r>
            <a:r>
              <a:rPr b="1" i="1" lang="es-MX" sz="2600" spc="-1" strike="noStrike">
                <a:solidFill>
                  <a:srgbClr val="000000"/>
                </a:solidFill>
                <a:latin typeface="Garamond"/>
              </a:rPr>
              <a:t> que ejecuten o celebren y que tuvieren relación con la libre competencia o pudieren atentar contra ella.</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1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4) </a:t>
            </a:r>
            <a:r>
              <a:rPr b="1" i="1" lang="es-MX" sz="2200" spc="-1" strike="noStrike" u="sng">
                <a:solidFill>
                  <a:srgbClr val="000000"/>
                </a:solidFill>
                <a:uFillTx/>
                <a:latin typeface="Garamond"/>
              </a:rPr>
              <a:t>Proponer</a:t>
            </a:r>
            <a:r>
              <a:rPr b="1" i="1" lang="es-MX" sz="2200" spc="-1" strike="noStrike">
                <a:solidFill>
                  <a:srgbClr val="000000"/>
                </a:solidFill>
                <a:latin typeface="Garamond"/>
              </a:rPr>
              <a:t> al Pdte. de la República, a través del Ministro de Estado que corresponda, la </a:t>
            </a:r>
            <a:r>
              <a:rPr b="1" i="1" lang="es-MX" sz="2200" spc="-1" strike="noStrike" u="sng">
                <a:solidFill>
                  <a:srgbClr val="000000"/>
                </a:solidFill>
                <a:uFillTx/>
                <a:latin typeface="Garamond"/>
              </a:rPr>
              <a:t>modificación o derogación de los preceptos legales y reglamentarios que estime contrarios a la libre competencia, como también la dictación</a:t>
            </a:r>
            <a:r>
              <a:rPr b="1" i="1" lang="es-MX" sz="2200" spc="-1" strike="noStrike">
                <a:solidFill>
                  <a:srgbClr val="000000"/>
                </a:solidFill>
                <a:latin typeface="Garamond"/>
              </a:rPr>
              <a:t> de preceptos legales o reglamentarios cuando sean necesarios para fomentar la competencia o regular el ejercicio de determinadas actividades económicas que se presten en condiciones no competitivas.</a:t>
            </a:r>
            <a:endParaRPr b="0" lang="en-US" sz="22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5) Las demás que le señalen las ley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26: La sentencia definitiva será fundada, debiendo enunciar los </a:t>
            </a:r>
            <a:r>
              <a:rPr b="1" i="1" lang="es-MX" sz="3000" spc="-1" strike="noStrike" u="sng">
                <a:solidFill>
                  <a:srgbClr val="000000"/>
                </a:solidFill>
                <a:uFillTx/>
                <a:latin typeface="Garamond"/>
              </a:rPr>
              <a:t>fundamentos de hecho, de derecho y económicos</a:t>
            </a:r>
            <a:r>
              <a:rPr b="1" i="1" lang="es-MX" sz="3000" spc="-1" strike="noStrike">
                <a:solidFill>
                  <a:srgbClr val="000000"/>
                </a:solidFill>
                <a:latin typeface="Garamond"/>
              </a:rPr>
              <a:t> con arreglo a los cuales se pronuncia.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En la sentencia definitiva, el Tribunal podrá adoptar las siguientes medidas:</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 </a:t>
            </a:r>
            <a:r>
              <a:rPr b="1" i="1" lang="es-MX" sz="3000" spc="-1" strike="noStrike" u="sng">
                <a:solidFill>
                  <a:srgbClr val="000000"/>
                </a:solidFill>
                <a:uFillTx/>
                <a:latin typeface="Garamond"/>
              </a:rPr>
              <a:t>Modificar o poner término a los actos, contratos, convenios, sistemas o acuerdos</a:t>
            </a:r>
            <a:r>
              <a:rPr b="1" i="1" lang="es-MX" sz="3000" spc="-1" strike="noStrike">
                <a:solidFill>
                  <a:srgbClr val="000000"/>
                </a:solidFill>
                <a:latin typeface="Garamond"/>
              </a:rPr>
              <a:t> que sean contrarios a las disposiciones de la presente ley;</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Ordenar la </a:t>
            </a:r>
            <a:r>
              <a:rPr b="1" i="1" lang="es-MX" sz="3000" spc="-1" strike="noStrike" u="sng">
                <a:solidFill>
                  <a:srgbClr val="000000"/>
                </a:solidFill>
                <a:uFillTx/>
                <a:latin typeface="Garamond"/>
              </a:rPr>
              <a:t>modificación o disolución de las sociedades, corporaciones y demás personas jurídicas de derecho privado</a:t>
            </a:r>
            <a:r>
              <a:rPr b="1" i="1" lang="es-MX" sz="3000" spc="-1" strike="noStrike">
                <a:solidFill>
                  <a:srgbClr val="000000"/>
                </a:solidFill>
                <a:latin typeface="Garamond"/>
              </a:rPr>
              <a:t> que hubieren intervenido en los actos, contratos, convenios, sistemas o acuerdos a que se refiere la letra anterior;</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2000"/>
          </a:bodyPr>
          <a:p>
            <a:pPr marL="315360" indent="-31536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C) Aplicar </a:t>
            </a:r>
            <a:r>
              <a:rPr b="1" i="1" lang="es-MX" sz="2600" spc="-1" strike="noStrike" u="sng">
                <a:solidFill>
                  <a:srgbClr val="000000"/>
                </a:solidFill>
                <a:uFillTx/>
                <a:latin typeface="Garamond"/>
              </a:rPr>
              <a:t>multas a beneficio fiscal hasta por una suma equivalente a 20.000 UTA</a:t>
            </a:r>
            <a:r>
              <a:rPr b="1" i="1" lang="es-MX" sz="2600" spc="-1" strike="noStrike">
                <a:solidFill>
                  <a:srgbClr val="000000"/>
                </a:solidFill>
                <a:latin typeface="Garamond"/>
              </a:rPr>
              <a:t>s. Las multas podrán ser impuestas a la persona jurídica correspondiente, a sus directores, administradores y a toda persona que haya intervenido en la realización del acto respectivo. En el caso de las </a:t>
            </a:r>
            <a:r>
              <a:rPr b="1" i="1" lang="es-MX" sz="2600" spc="-1" strike="noStrike" u="sng">
                <a:solidFill>
                  <a:srgbClr val="000000"/>
                </a:solidFill>
                <a:uFillTx/>
                <a:latin typeface="Garamond"/>
              </a:rPr>
              <a:t>multas aplicadas a personas jurídicas, responderán solidariamente del pago de las mismas sus directores, administradores y aquellas personas que se hayan beneficiado del acto respectivo</a:t>
            </a:r>
            <a:r>
              <a:rPr b="1" i="1" lang="es-MX" sz="2600" spc="-1" strike="noStrike">
                <a:solidFill>
                  <a:srgbClr val="000000"/>
                </a:solidFill>
                <a:latin typeface="Garamond"/>
              </a:rPr>
              <a:t>, siempre que hubieren participado en la realización del mismo.</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3°: Para la determinación de las multas se considerarán, entre otras, las siguientes circunstancias: el </a:t>
            </a:r>
            <a:r>
              <a:rPr b="1" i="1" lang="es-MX" sz="3000" spc="-1" strike="noStrike" u="sng">
                <a:solidFill>
                  <a:srgbClr val="000000"/>
                </a:solidFill>
                <a:uFillTx/>
                <a:latin typeface="Garamond"/>
              </a:rPr>
              <a:t>beneficio económico </a:t>
            </a:r>
            <a:r>
              <a:rPr b="1" i="1" lang="es-MX" sz="3000" spc="-1" strike="noStrike">
                <a:solidFill>
                  <a:srgbClr val="000000"/>
                </a:solidFill>
                <a:latin typeface="Garamond"/>
              </a:rPr>
              <a:t>obtenido con motivo de la infracción, la </a:t>
            </a:r>
            <a:r>
              <a:rPr b="1" i="1" lang="es-MX" sz="3000" spc="-1" strike="noStrike" u="sng">
                <a:solidFill>
                  <a:srgbClr val="000000"/>
                </a:solidFill>
                <a:uFillTx/>
                <a:latin typeface="Garamond"/>
              </a:rPr>
              <a:t>gravedad</a:t>
            </a:r>
            <a:r>
              <a:rPr b="1" i="1" lang="es-MX" sz="3000" spc="-1" strike="noStrike">
                <a:solidFill>
                  <a:srgbClr val="000000"/>
                </a:solidFill>
                <a:latin typeface="Garamond"/>
              </a:rPr>
              <a:t> de la conducta y la calidad de </a:t>
            </a:r>
            <a:r>
              <a:rPr b="1" i="1" lang="es-MX" sz="3000" spc="-1" strike="noStrike" u="sng">
                <a:solidFill>
                  <a:srgbClr val="000000"/>
                </a:solidFill>
                <a:uFillTx/>
                <a:latin typeface="Garamond"/>
              </a:rPr>
              <a:t>reincidente</a:t>
            </a:r>
            <a:r>
              <a:rPr b="1" i="1" lang="es-MX" sz="3000" spc="-1" strike="noStrike">
                <a:solidFill>
                  <a:srgbClr val="000000"/>
                </a:solidFill>
                <a:latin typeface="Garamond"/>
              </a:rPr>
              <a:t> del infractor.</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Indemnización</a:t>
            </a:r>
            <a:endParaRPr b="0" lang="en-US" sz="4200" spc="-1" strike="noStrike">
              <a:solidFill>
                <a:srgbClr val="006633"/>
              </a:solidFill>
              <a:latin typeface="Garamond"/>
            </a:endParaRPr>
          </a:p>
        </p:txBody>
      </p:sp>
      <p:sp>
        <p:nvSpPr>
          <p:cNvPr id="12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30: La </a:t>
            </a:r>
            <a:r>
              <a:rPr b="1" i="1" lang="es-MX" sz="3000" spc="-1" strike="noStrike" u="sng">
                <a:solidFill>
                  <a:srgbClr val="000000"/>
                </a:solidFill>
                <a:uFillTx/>
                <a:latin typeface="Garamond"/>
              </a:rPr>
              <a:t>acción de indemnización de perjuicios</a:t>
            </a:r>
            <a:r>
              <a:rPr b="1" i="1" lang="es-MX" sz="3000" spc="-1" strike="noStrike">
                <a:solidFill>
                  <a:srgbClr val="000000"/>
                </a:solidFill>
                <a:latin typeface="Garamond"/>
              </a:rPr>
              <a:t> a que haya lugar, con motivo de la dictación por el TDLC de una sentencia definitiva ejecutoriada, se interpondrá ante el </a:t>
            </a:r>
            <a:r>
              <a:rPr b="1" i="1" lang="es-MX" sz="3000" spc="-1" strike="noStrike" u="sng">
                <a:solidFill>
                  <a:srgbClr val="000000"/>
                </a:solidFill>
                <a:uFillTx/>
                <a:latin typeface="Garamond"/>
              </a:rPr>
              <a:t>tribunal civil competente</a:t>
            </a:r>
            <a:r>
              <a:rPr b="1" i="1" lang="es-MX" sz="3000" spc="-1" strike="noStrike">
                <a:solidFill>
                  <a:srgbClr val="000000"/>
                </a:solidFill>
                <a:latin typeface="Garamond"/>
              </a:rPr>
              <a:t> de conformidad a las reglas generales (…)</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l resolver sobre la indemnización de perjuicios, fundará su </a:t>
            </a:r>
            <a:r>
              <a:rPr b="1" i="1" lang="es-MX" sz="3000" spc="-1" strike="noStrike" u="sng">
                <a:solidFill>
                  <a:srgbClr val="000000"/>
                </a:solidFill>
                <a:uFillTx/>
                <a:latin typeface="Garamond"/>
              </a:rPr>
              <a:t>fallo en las conductas, hechos y calificación jurídica de los mismo, establecidos en la sentencia del TDLC</a:t>
            </a:r>
            <a:r>
              <a:rPr b="1" i="1" lang="es-MX" sz="3000" spc="-1" strike="noStrike">
                <a:solidFill>
                  <a:srgbClr val="000000"/>
                </a:solidFill>
                <a:latin typeface="Garamond"/>
              </a:rPr>
              <a:t>.</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Fiscalía Nacional Económica</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9: El FNE, en el ejercicio de sus funciones, será independiente de todas las autoridades y tribunales ante los cuales actúe. Podrá, en consecuencia, </a:t>
            </a:r>
            <a:r>
              <a:rPr b="1" i="1" lang="es-ES" sz="3000" spc="-1" strike="noStrike" u="sng">
                <a:solidFill>
                  <a:srgbClr val="000000"/>
                </a:solidFill>
                <a:uFillTx/>
                <a:latin typeface="Garamond"/>
              </a:rPr>
              <a:t>defender los intereses que le están encomendados en la forma que estime arreglada a derecho</a:t>
            </a:r>
            <a:r>
              <a:rPr b="1" i="1" lang="es-ES" sz="3000" spc="-1" strike="noStrike">
                <a:solidFill>
                  <a:srgbClr val="000000"/>
                </a:solidFill>
                <a:latin typeface="Garamond"/>
              </a:rPr>
              <a:t>, según sus propias apreciacione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33000"/>
            <a:ext cx="8435880" cy="63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89"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 El que ejecute o celebre, individual o colectivamente, </a:t>
            </a:r>
            <a:r>
              <a:rPr b="1" i="1" lang="es-ES" sz="3000" spc="-1" strike="noStrike" u="sng">
                <a:solidFill>
                  <a:srgbClr val="000000"/>
                </a:solidFill>
                <a:uFillTx/>
                <a:latin typeface="Garamond"/>
              </a:rPr>
              <a:t>cualquier hecho, acto o convención</a:t>
            </a:r>
            <a:r>
              <a:rPr b="1" i="1" lang="es-ES" sz="3000" spc="-1" strike="noStrike">
                <a:solidFill>
                  <a:srgbClr val="000000"/>
                </a:solidFill>
                <a:latin typeface="Garamond"/>
              </a:rPr>
              <a:t> que </a:t>
            </a:r>
            <a:r>
              <a:rPr b="1" i="1" lang="es-ES" sz="3000" spc="-1" strike="noStrike" u="sng">
                <a:solidFill>
                  <a:srgbClr val="000000"/>
                </a:solidFill>
                <a:uFillTx/>
                <a:latin typeface="Garamond"/>
              </a:rPr>
              <a:t>impida, restrinja o entorpezca</a:t>
            </a:r>
            <a:r>
              <a:rPr b="1" i="1" lang="es-ES" sz="3000" spc="-1" strike="noStrike">
                <a:solidFill>
                  <a:srgbClr val="000000"/>
                </a:solidFill>
                <a:latin typeface="Garamond"/>
              </a:rPr>
              <a:t> la libre competencia, o </a:t>
            </a:r>
            <a:r>
              <a:rPr b="1" i="1" lang="es-ES" sz="3000" spc="-1" strike="noStrike" u="sng">
                <a:solidFill>
                  <a:srgbClr val="000000"/>
                </a:solidFill>
                <a:uFillTx/>
                <a:latin typeface="Garamond"/>
              </a:rPr>
              <a:t>que tienda a producir dichos efectos</a:t>
            </a:r>
            <a:r>
              <a:rPr b="1" i="1" lang="es-ES" sz="3000" spc="-1" strike="noStrike">
                <a:solidFill>
                  <a:srgbClr val="000000"/>
                </a:solidFill>
                <a:latin typeface="Garamond"/>
              </a:rPr>
              <a:t>, será sancionado con las medidas señaladas en el artículo 26 de la presente ley, sin perjuicio de las medidas correctivas o prohibitivas que respecto de dichos hechos, actos o convenciones puedan disponerse en cada caso.</a:t>
            </a:r>
            <a:endParaRPr b="0" lang="en-US" sz="30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Tipo infraccional genérico (Tipo Abierto)</a:t>
            </a:r>
            <a:endParaRPr b="0" lang="en-US" sz="22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Sancionable desde la fase de la tentativ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1" name="PlaceHolder 2"/>
          <p:cNvSpPr>
            <a:spLocks noGrp="1"/>
          </p:cNvSpPr>
          <p:nvPr>
            <p:ph/>
          </p:nvPr>
        </p:nvSpPr>
        <p:spPr>
          <a:xfrm>
            <a:off x="250560" y="1125000"/>
            <a:ext cx="8713800" cy="51850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Se considerarán, entre otros, como hechos, actos o convenciones que impiden, restringen o entorpecen la libre competencia, los siguientes:</a:t>
            </a:r>
            <a:endParaRPr b="0" lang="en-US" sz="3000" spc="-1" strike="noStrike">
              <a:solidFill>
                <a:srgbClr val="000000"/>
              </a:solidFill>
              <a:latin typeface="Arial"/>
            </a:endParaRPr>
          </a:p>
          <a:p>
            <a:pPr lvl="1" marL="616320" indent="-29916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 Los </a:t>
            </a:r>
            <a:r>
              <a:rPr b="1" i="1" lang="es-MX" sz="3000" spc="-1" strike="noStrike" u="sng">
                <a:solidFill>
                  <a:srgbClr val="000000"/>
                </a:solidFill>
                <a:uFillTx/>
                <a:latin typeface="Garamond"/>
              </a:rPr>
              <a:t>acuerdos expresos o tácitos</a:t>
            </a:r>
            <a:r>
              <a:rPr b="1" i="1" lang="es-MX" sz="3000" spc="-1" strike="noStrike">
                <a:solidFill>
                  <a:srgbClr val="000000"/>
                </a:solidFill>
                <a:latin typeface="Garamond"/>
              </a:rPr>
              <a:t> entre agentes económicos, o las </a:t>
            </a:r>
            <a:r>
              <a:rPr b="1" i="1" lang="es-MX" sz="3000" spc="-1" strike="noStrike" u="sng">
                <a:solidFill>
                  <a:srgbClr val="000000"/>
                </a:solidFill>
                <a:uFillTx/>
                <a:latin typeface="Garamond"/>
              </a:rPr>
              <a:t>prácticas concertadas</a:t>
            </a:r>
            <a:r>
              <a:rPr b="1" i="1" lang="es-MX" sz="3000" spc="-1" strike="noStrike">
                <a:solidFill>
                  <a:srgbClr val="000000"/>
                </a:solidFill>
                <a:latin typeface="Garamond"/>
              </a:rPr>
              <a:t> entre ellos, que tengan por objeto fijar precios de venta o de compra, limitar la producción o asignarse zonas o cuotas de mercado, </a:t>
            </a:r>
            <a:r>
              <a:rPr b="1" i="1" lang="es-MX" sz="3000" spc="-1" strike="noStrike" u="sng">
                <a:solidFill>
                  <a:srgbClr val="000000"/>
                </a:solidFill>
                <a:uFillTx/>
                <a:latin typeface="Garamond"/>
              </a:rPr>
              <a:t>abusando del poder</a:t>
            </a:r>
            <a:r>
              <a:rPr b="1" i="1" lang="es-MX" sz="3000" spc="-1" strike="noStrike">
                <a:solidFill>
                  <a:srgbClr val="000000"/>
                </a:solidFill>
                <a:latin typeface="Garamond"/>
              </a:rPr>
              <a:t> que dichos acuerdos o prácticas les confieran.</a:t>
            </a:r>
            <a:endParaRPr b="0" lang="en-US" sz="30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Conductas Colusivas. Cartel</a:t>
            </a:r>
            <a:endParaRPr b="0" lang="en-US" sz="22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Verbo Rector: ABUSAR d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La </a:t>
            </a:r>
            <a:r>
              <a:rPr b="1" i="1" lang="es-MX" sz="3000" spc="-1" strike="noStrike" u="sng">
                <a:solidFill>
                  <a:srgbClr val="000000"/>
                </a:solidFill>
                <a:uFillTx/>
                <a:latin typeface="Garamond"/>
              </a:rPr>
              <a:t>explotación abusiva</a:t>
            </a:r>
            <a:r>
              <a:rPr b="1" i="1" lang="es-MX" sz="3000" spc="-1" strike="noStrike">
                <a:solidFill>
                  <a:srgbClr val="000000"/>
                </a:solidFill>
                <a:latin typeface="Garamond"/>
              </a:rPr>
              <a:t> por parte de una empresa, o conjunto de empresas que tenga un controlador común, </a:t>
            </a:r>
            <a:r>
              <a:rPr b="1" i="1" lang="es-MX" sz="3000" spc="-1" strike="noStrike" u="sng">
                <a:solidFill>
                  <a:srgbClr val="000000"/>
                </a:solidFill>
                <a:uFillTx/>
                <a:latin typeface="Garamond"/>
              </a:rPr>
              <a:t>de una posición dominante</a:t>
            </a:r>
            <a:r>
              <a:rPr b="1" i="1" lang="es-MX" sz="3000" spc="-1" strike="noStrike">
                <a:solidFill>
                  <a:srgbClr val="000000"/>
                </a:solidFill>
                <a:latin typeface="Garamond"/>
              </a:rPr>
              <a:t> en el mercado, fijando precios de compra o de venta, imponiendo a una venta la de otro producto, asignando zonas o cuotas de mercado, </a:t>
            </a:r>
            <a:r>
              <a:rPr b="1" i="1" lang="es-MX" sz="3000" spc="-1" strike="noStrike" u="sng">
                <a:solidFill>
                  <a:srgbClr val="000000"/>
                </a:solidFill>
                <a:uFillTx/>
                <a:latin typeface="Garamond"/>
              </a:rPr>
              <a:t>o imponiendo a otros abusos semejantes</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buso de una posición dominante</a:t>
            </a:r>
            <a:endParaRPr b="0" lang="en-US" sz="26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Imposición de abusos genéricos</a:t>
            </a: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C) Las </a:t>
            </a:r>
            <a:r>
              <a:rPr b="1" i="1" lang="es-MX" sz="3000" spc="-1" strike="noStrike" u="sng">
                <a:solidFill>
                  <a:srgbClr val="000000"/>
                </a:solidFill>
                <a:uFillTx/>
                <a:latin typeface="Garamond"/>
              </a:rPr>
              <a:t>prácticas predatorias, o de competencia desleal</a:t>
            </a:r>
            <a:r>
              <a:rPr b="1" i="1" lang="es-MX" sz="3000" spc="-1" strike="noStrike">
                <a:solidFill>
                  <a:srgbClr val="000000"/>
                </a:solidFill>
                <a:latin typeface="Garamond"/>
              </a:rPr>
              <a:t>, realizadas con el objeto de alcanzar, </a:t>
            </a:r>
            <a:r>
              <a:rPr b="1" i="1" lang="es-MX" sz="3000" spc="-1" strike="noStrike" u="sng">
                <a:solidFill>
                  <a:srgbClr val="000000"/>
                </a:solidFill>
                <a:uFillTx/>
                <a:latin typeface="Garamond"/>
              </a:rPr>
              <a:t>mantener o incrementar una posición dominante</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Prácticas dirigidas a incrementar o alcanzar una posición dominant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Competencia desleal excluida. (conflictos privados)</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onopolio</a:t>
            </a:r>
            <a:endParaRPr b="0" lang="en-US" sz="4200" spc="-1" strike="noStrike">
              <a:solidFill>
                <a:srgbClr val="006633"/>
              </a:solidFill>
              <a:latin typeface="Garamond"/>
            </a:endParaRPr>
          </a:p>
        </p:txBody>
      </p:sp>
      <p:sp>
        <p:nvSpPr>
          <p:cNvPr id="9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4°: No podrán otorgarse concesiones, autorizaciones, ni actos que </a:t>
            </a:r>
            <a:r>
              <a:rPr b="1" i="1" lang="es-MX" sz="3000" spc="-1" strike="noStrike" u="sng">
                <a:solidFill>
                  <a:srgbClr val="000000"/>
                </a:solidFill>
                <a:uFillTx/>
                <a:latin typeface="Garamond"/>
              </a:rPr>
              <a:t>impliquen conceder monopolios</a:t>
            </a:r>
            <a:r>
              <a:rPr b="1" i="1" lang="es-MX" sz="3000" spc="-1" strike="noStrike">
                <a:solidFill>
                  <a:srgbClr val="000000"/>
                </a:solidFill>
                <a:latin typeface="Garamond"/>
              </a:rPr>
              <a:t> para el ejercicio de actividades económicas, salvo que la ley lo autoric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Fuentes del monopolio. (3)</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aramond"/>
              </a:rPr>
              <a:t>TDLC</a:t>
            </a:r>
            <a:endParaRPr b="0" lang="en-US" sz="4200" spc="-1" strike="noStrike">
              <a:solidFill>
                <a:srgbClr val="006633"/>
              </a:solidFill>
              <a:latin typeface="Garamond"/>
            </a:endParaRPr>
          </a:p>
        </p:txBody>
      </p:sp>
      <p:sp>
        <p:nvSpPr>
          <p:cNvPr id="9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5°: El Tribunal de Defensa de la Libre Competencia es un </a:t>
            </a:r>
            <a:r>
              <a:rPr b="1" i="1" lang="es-MX" sz="3000" spc="-1" strike="noStrike" u="sng">
                <a:solidFill>
                  <a:srgbClr val="000000"/>
                </a:solidFill>
                <a:uFillTx/>
                <a:latin typeface="Garamond"/>
              </a:rPr>
              <a:t>órgano jurisdiccional especial e independiente</a:t>
            </a:r>
            <a:r>
              <a:rPr b="1" i="1" lang="es-MX" sz="3000" spc="-1" strike="noStrike">
                <a:solidFill>
                  <a:srgbClr val="000000"/>
                </a:solidFill>
                <a:latin typeface="Garamond"/>
              </a:rPr>
              <a:t>, sujeto a la superintendencia directiva, correccional y económica de la </a:t>
            </a:r>
            <a:r>
              <a:rPr b="1" i="1" lang="es-MX" sz="3000" spc="-1" strike="noStrike" u="sng">
                <a:solidFill>
                  <a:srgbClr val="000000"/>
                </a:solidFill>
                <a:uFillTx/>
                <a:latin typeface="Garamond"/>
              </a:rPr>
              <a:t>Corte Suprema</a:t>
            </a:r>
            <a:r>
              <a:rPr b="1" i="1" lang="es-MX" sz="3000" spc="-1" strike="noStrike">
                <a:solidFill>
                  <a:srgbClr val="000000"/>
                </a:solidFill>
                <a:latin typeface="Garamond"/>
              </a:rPr>
              <a:t>, cuya función será prevenir, corregir y sancionar los atentados a la libre competencia.</a:t>
            </a: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TDLC</a:t>
            </a:r>
            <a:endParaRPr b="0" lang="en-US" sz="4200" spc="-1" strike="noStrike">
              <a:solidFill>
                <a:srgbClr val="006633"/>
              </a:solidFill>
              <a:latin typeface="Garamond"/>
            </a:endParaRPr>
          </a:p>
        </p:txBody>
      </p:sp>
      <p:sp>
        <p:nvSpPr>
          <p:cNvPr id="10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6°: El TDLC estará integrado por las personas que se indican a continuación:</a:t>
            </a:r>
            <a:endParaRPr b="0" lang="en-US" sz="3000" spc="-1" strike="noStrike">
              <a:solidFill>
                <a:srgbClr val="000000"/>
              </a:solidFill>
              <a:latin typeface="Arial"/>
            </a:endParaRPr>
          </a:p>
          <a:p>
            <a:pPr lvl="1" marL="649800" indent="-31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A) </a:t>
            </a:r>
            <a:r>
              <a:rPr b="1" lang="es-MX" sz="2600" spc="-1" strike="noStrike" u="sng">
                <a:solidFill>
                  <a:srgbClr val="000000"/>
                </a:solidFill>
                <a:uFillTx/>
                <a:latin typeface="Garamond"/>
              </a:rPr>
              <a:t>Un abogado</a:t>
            </a:r>
            <a:r>
              <a:rPr b="1" lang="es-MX" sz="2600" spc="-1" strike="noStrike">
                <a:solidFill>
                  <a:srgbClr val="000000"/>
                </a:solidFill>
                <a:latin typeface="Garamond"/>
              </a:rPr>
              <a:t>, que lo presidirá, designado por el Pdte. de la República de una nómina de cinco postulantes confeccionada por la Corte Suprema (…) quienes tengan una destacada actividad profesional o académica en </a:t>
            </a:r>
            <a:r>
              <a:rPr b="1" lang="es-MX" sz="2600" spc="-1" strike="noStrike" u="sng">
                <a:solidFill>
                  <a:srgbClr val="000000"/>
                </a:solidFill>
                <a:uFillTx/>
                <a:latin typeface="Garamond"/>
              </a:rPr>
              <a:t>materias de libre competencia o en Derecho Comercial o Económico</a:t>
            </a:r>
            <a:r>
              <a:rPr b="1" lang="es-MX" sz="2600" spc="-1" strike="noStrike">
                <a:solidFill>
                  <a:srgbClr val="000000"/>
                </a:solidFill>
                <a:latin typeface="Garamond"/>
              </a:rPr>
              <a:t>.</a:t>
            </a:r>
            <a:endParaRPr b="0" lang="en-US" sz="2600" spc="-1" strike="noStrike">
              <a:solidFill>
                <a:srgbClr val="000000"/>
              </a:solidFill>
              <a:latin typeface="Arial"/>
            </a:endParaRPr>
          </a:p>
          <a:p>
            <a:pPr lvl="1" marL="64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Cuatro profesionales universitarios expertos en materias de libre competencia, dos de los cuales deberán ser </a:t>
            </a:r>
            <a:r>
              <a:rPr b="1" i="1" lang="es-MX" sz="3000" spc="-1" strike="noStrike" u="sng">
                <a:solidFill>
                  <a:srgbClr val="000000"/>
                </a:solidFill>
                <a:uFillTx/>
                <a:latin typeface="Garamond"/>
              </a:rPr>
              <a:t>abogados y dos licenciados o con post grados en ciencias económicas</a:t>
            </a:r>
            <a:r>
              <a:rPr b="1" i="1" lang="es-MX" sz="3000" spc="-1" strike="noStrike">
                <a:solidFill>
                  <a:srgbClr val="000000"/>
                </a:solidFill>
                <a:latin typeface="Garamond"/>
              </a:rPr>
              <a:t>. Dos integrantes, uno de cada área profesional, serán designados por el Consejo del Bco. Central (…) los otros dos integrantes, también uno de cada área profesional, serán designados por el Pdte. de la República.</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1:30:47Z</dcterms:created>
  <dc:creator>Sebastian Spolmann</dc:creator>
  <dc:description/>
  <dc:language>en-US</dc:language>
  <cp:lastModifiedBy>Sebastian Spolmann</cp:lastModifiedBy>
  <dcterms:modified xsi:type="dcterms:W3CDTF">2007-10-20T22:14:44Z</dcterms:modified>
  <cp:revision>36</cp:revision>
  <dc:subject/>
  <dc:title>Fundamentos Económicos: Modelo de Competencia Perfecta</dc:title>
</cp:coreProperties>
</file>