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B05C-88A8-4117-ADB5-3967A6197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98DD-BF48-46AD-B35A-7859DEE9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4D35-8320-421B-A3A8-9708E709A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C468-5112-48DE-A40F-95AB6F53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CD33-C4D1-435D-97A9-62973DE0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2E5A-EC9C-4E97-945B-66B0650C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B918-FE71-4DE4-8A58-D95C9E55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2959-77AA-4000-9178-5BD9ECB0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33F3-953E-4704-9F04-91D5DAA3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D451-9118-4EA1-B520-1C731C198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1141-2AE0-4777-8EE4-331BE4D5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F6C8-18B1-437F-AF70-60601632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A5C3-F8C5-4801-A051-0E7B1F9C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2E1BC-F904-4969-A8A0-4305D322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0194-0751-4FDE-B2B5-F7824EB4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64D2-90B2-48C7-97FF-1015CF3E0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993F-CCEF-4145-BA29-22F02F95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6447-A375-4E3F-BA96-F6368821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9529-C136-4402-B55B-4D6EA4E2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0A6A-598B-447E-B541-E8197B40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6A2-A71E-4A30-AECC-8ADDD00B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410B-2F95-498D-86A9-3A062D4A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9018-CEB8-4F4E-97CF-8E3C11EA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BB9-5B7C-42DE-9C80-FF8F7271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0A05-10BB-4A07-A823-6DA7786447C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FDF6-96F0-49EE-AD16-0A8A6DBB0707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r>
              <a:rPr b="1" lang="es-CL" sz="5000" spc="-1" strike="noStrike">
                <a:solidFill>
                  <a:srgbClr val="006633"/>
                </a:solidFill>
                <a:latin typeface="Garamond"/>
              </a:rPr>
              <a:t>Integraciones Vertical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7920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Por qué integrarme verticalment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Existen fuertes justificaciones económicas para hacer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.- Fenómeno de “eliminación del intermediario”. ¿A quién beneficia esto? (costos de trans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b.- Reducción de riesgos de incumplimientos al asegurar las fuentes de suministro o de la colocación de la producción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Por qué integrarme verticalment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00"/>
                </a:solidFill>
                <a:latin typeface="Garamond"/>
              </a:rPr>
              <a:t>c.- Corregir externalidades negativas generadas por la política empresarial en cada eslabón de la cadena.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 (i.e. Calidades de elaboración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.- Eventualmente, generar o incrementar posiciones dominantes en diferentes niveles (¿o en el mismo?). ¿Qué sucede horizontalm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Por qué integrarme verticalment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sí como existen fuertes argumentos para incentivar la IV, existen buenas razones en cierta literatura económica para la desintegración vert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La tendencia actual es a esto último (i.e. Ley Corta Eléctrica) ¿Por 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.- Cruzar Subsidios. (¿Y contablement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b.- Discriminar en los 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inputs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 o en los 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outputs 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(¿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c.- Generar BA artific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Canales de Distribución (CD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Importancia de este concep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Algunos contratos/cláusulas accidentales en relación con los C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Brevísima referencia a la exclusiv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Teoría de las Instalaciones Esenci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Essential Facility” (EF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Esta teoría nació en 1912, pero obtuvo su desarrollo importante en la década del ´8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Casos: 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“Aspen Skiing Co. v. Aspen Highlands Skiing Corp. (1985).” 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US. V. Colgate Co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Garamond"/>
              </a:rPr>
              <a:t>Tendencia EE.UU. = Libertad Comer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89320" indent="-28620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Garamond"/>
              </a:rPr>
              <a:t>Tendencia Europea = Obligación de Contra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Teoría de las Instalaciones Esencia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Qué significa entonces una 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odemos decir, intuitivamente, que se trata de una posición especialmente estratégica que se detenta en algún nivel de la cadena de comercialización que implica -para quien(es) se encuentra(n) en los niveles superiores de dicha cadena- la imposibilidad de utilizar canales alternativos, o que al utilizarlos, los costos financieros se tornen </a:t>
            </a:r>
            <a:r>
              <a:rPr b="0" i="1" lang="es-CL" sz="3200" spc="-1" strike="noStrike">
                <a:solidFill>
                  <a:srgbClr val="000000"/>
                </a:solidFill>
                <a:latin typeface="Garamond"/>
              </a:rPr>
              <a:t>(¿irrazonablemente</a:t>
            </a: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?) al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Instalaciones Esenciales o </a:t>
            </a:r>
            <a:br>
              <a:rPr sz="4200"/>
            </a:b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Facilidad Esenci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ssential Facilit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gmento monopólico por el que tienen que pasar las firmas de otro segmento, que puede ser competitivo, para llegar a los clientes finales. (Redes de agua potable, líneas de transmisión y distribución, red de telefonía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Qué consecuencias tien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Desde un punto de vista jurídico existiría un deber de cooperación con sus rivales -u oferentes verticales- más pequeños. (¿Y horizontalmente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Qué se puede decir al respecto, desde una noción liberal de las funciones del derecho administrativo sancionator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Las EF en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Una pequeña noción de los Monopolios Naturales (MN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MN: Ocurre cuando una única empresa puede ofrecer un bien o servicio, en un mercado relevante dado, a un menor costo que dos o más empre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No importa tanto el número de oferentes y demandantes, sino más bien las relaciones entre demanda y las características de la oferta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Introduc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Las Integraciones Verticales (IV) no constituyen -propiamente tal- un delito de la parte especial del derecho antitrust, pero han sido objeto de numerosas revisiones por parte de las autoridades antimonopolios (¿Por Qué?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55964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Consecuencia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Son los MN = 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Regulación. Consecuencias horizon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Empresas de Servicios de Utilidad Pública (ESUP)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ESUP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uelen ser regulados. (Electricidad, Gas, SS, Telecomunicaciones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onopolio natural. Conces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En muchos mercados de ESUP, existen etapas competitivas, y otras </a:t>
            </a:r>
            <a:r>
              <a:rPr b="0" i="1" lang="en-US" sz="3200" spc="-1" strike="noStrike">
                <a:solidFill>
                  <a:srgbClr val="000000"/>
                </a:solidFill>
                <a:latin typeface="Garamond"/>
              </a:rPr>
              <a:t>“no tanto”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ercado Eléctr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702080" y="1652760"/>
            <a:ext cx="5846040" cy="4297320"/>
            <a:chOff x="1702080" y="1652760"/>
            <a:chExt cx="5846040" cy="4297320"/>
          </a:xfrm>
        </p:grpSpPr>
        <p:cxnSp>
          <p:nvCxnSpPr>
            <p:cNvPr id="130" name="_s16412"/>
            <p:cNvCxnSpPr>
              <a:stCxn id="131" idx="0"/>
              <a:endCxn id="132" idx="2"/>
            </p:cNvCxnSpPr>
            <p:nvPr/>
          </p:nvCxnSpPr>
          <p:spPr>
            <a:xfrm flipV="1" rot="16200000">
              <a:off x="5257080" y="1537560"/>
              <a:ext cx="230760" cy="1881720"/>
            </a:xfrm>
            <a:prstGeom prst="bentConnector3">
              <a:avLst>
                <a:gd name="adj1" fmla="val 49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16413"/>
            <p:cNvCxnSpPr>
              <a:stCxn id="134" idx="0"/>
              <a:endCxn id="132" idx="2"/>
            </p:cNvCxnSpPr>
            <p:nvPr/>
          </p:nvCxnSpPr>
          <p:spPr>
            <a:xfrm flipV="1" rot="16200000">
              <a:off x="4317480" y="2477160"/>
              <a:ext cx="230760" cy="2160"/>
            </a:xfrm>
            <a:prstGeom prst="bentConnector3">
              <a:avLst>
                <a:gd name="adj1" fmla="val 49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16414"/>
            <p:cNvCxnSpPr>
              <a:stCxn id="136" idx="0"/>
              <a:endCxn id="132" idx="2"/>
            </p:cNvCxnSpPr>
            <p:nvPr/>
          </p:nvCxnSpPr>
          <p:spPr>
            <a:xfrm flipH="1" flipV="1" rot="5400000">
              <a:off x="3376800" y="1538280"/>
              <a:ext cx="230760" cy="1880280"/>
            </a:xfrm>
            <a:prstGeom prst="bentConnector3">
              <a:avLst>
                <a:gd name="adj1" fmla="val 4953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2" name="_s16415"/>
            <p:cNvSpPr/>
            <p:nvPr/>
          </p:nvSpPr>
          <p:spPr>
            <a:xfrm>
              <a:off x="3625920" y="1652760"/>
              <a:ext cx="1612440" cy="711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DO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6416"/>
            <p:cNvSpPr/>
            <p:nvPr/>
          </p:nvSpPr>
          <p:spPr>
            <a:xfrm>
              <a:off x="1746360" y="2593080"/>
              <a:ext cx="1611360" cy="1017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dor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6417"/>
            <p:cNvSpPr/>
            <p:nvPr/>
          </p:nvSpPr>
          <p:spPr>
            <a:xfrm>
              <a:off x="3627000" y="2593080"/>
              <a:ext cx="1611000" cy="1017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dora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6418"/>
            <p:cNvSpPr/>
            <p:nvPr/>
          </p:nvSpPr>
          <p:spPr>
            <a:xfrm>
              <a:off x="5507280" y="2593080"/>
              <a:ext cx="1611000" cy="10173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dora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709720" y="3862080"/>
              <a:ext cx="377208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NSMIS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349360" y="3646440"/>
              <a:ext cx="187128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65720" y="3573720"/>
              <a:ext cx="36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653000" y="3646440"/>
              <a:ext cx="171432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02080" y="4581360"/>
              <a:ext cx="2015280" cy="47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ISTRIB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33720" y="4438440"/>
              <a:ext cx="1814400" cy="62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ES  LIB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33000" y="5302080"/>
              <a:ext cx="3096000" cy="64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ES FINALES (REGULADO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565000" y="4221000"/>
              <a:ext cx="151344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05360" y="4221000"/>
              <a:ext cx="68616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97000" y="5086440"/>
              <a:ext cx="216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636640" y="5086440"/>
              <a:ext cx="21636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29000" y="5086440"/>
              <a:ext cx="28836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17360" y="4941720"/>
              <a:ext cx="503280" cy="36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133000" y="5086440"/>
              <a:ext cx="28800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17360" y="4725720"/>
              <a:ext cx="201600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395280" y="2708280"/>
            <a:ext cx="1008000" cy="865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27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03280" y="299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0328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03280" y="33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ercado Eléctrico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misión Resolu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solución 48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solución 59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solución 66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ercado Telecomunicacio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515600" y="1802880"/>
            <a:ext cx="6113160" cy="4191120"/>
            <a:chOff x="1515600" y="1802880"/>
            <a:chExt cx="6113160" cy="4191120"/>
          </a:xfrm>
        </p:grpSpPr>
        <p:sp>
          <p:nvSpPr>
            <p:cNvPr id="161" name=""/>
            <p:cNvSpPr/>
            <p:nvPr/>
          </p:nvSpPr>
          <p:spPr>
            <a:xfrm>
              <a:off x="1690200" y="1802880"/>
              <a:ext cx="5587560" cy="1047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Garamond"/>
                </a:rPr>
                <a:t>COMPAÑÍAS DE LARGA DISTANCI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15600" y="3375000"/>
              <a:ext cx="1920600" cy="52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AÑÍ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10800" y="3375000"/>
              <a:ext cx="1924200" cy="52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MPRESA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7080" y="3375000"/>
              <a:ext cx="1921680" cy="52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RTADOR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484160" y="2850840"/>
              <a:ext cx="108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88960" y="3025080"/>
              <a:ext cx="4365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88960" y="3025080"/>
              <a:ext cx="72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754680" y="3025080"/>
              <a:ext cx="10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15600" y="4247640"/>
              <a:ext cx="6112080" cy="52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ELEFONÍA LOC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88960" y="3898800"/>
              <a:ext cx="209484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84160" y="3898800"/>
              <a:ext cx="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4483800" y="3898800"/>
              <a:ext cx="2270520" cy="34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087720" y="5295600"/>
              <a:ext cx="2969640" cy="69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LIENT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84160" y="477144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ercado Telecomunicacio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misión Resolu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Resolución 389 = Desintegr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¿VTR – M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7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¿“Triple pack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¿Qué es una IV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Podemos señalar, a modo introductorio, que ellas constituyen una situación en que existen empresas -que pueden estar jurídicamente relacionadas en sus estructuras de dominio- y que se desempeñan en algunos o todos los niveles de producción de un bien o servicio (etapas insumo-product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Y a quién le importa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6633"/>
                </a:solidFill>
                <a:latin typeface="Garamond"/>
              </a:rPr>
              <a:t>Continuación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Visto desde la perspectiva de la empresa, ellas implican una expansión operacional motivada por criterios de minimización de costos y maximización de utilida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aramond"/>
              </a:rPr>
              <a:t>¿Esto las hace eficient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315360">
              <a:lnSpc>
                <a:spcPct val="10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aramond"/>
              </a:rPr>
              <a:t>Economías de Alcance, de Ámbito y de Esc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Monopolio e Integración Vertic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nsideremos que para acceder a una playa se debe transitar por un cami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amino y Playa = únicos insu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No hay costos de ope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emanda determinada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Bañistas y la Play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39640" y="1125360"/>
          <a:ext cx="8229600" cy="5531040"/>
        </p:xfrm>
        <a:graphic>
          <a:graphicData uri="http://schemas.openxmlformats.org/drawingml/2006/table">
            <a:tbl>
              <a:tblPr/>
              <a:tblGrid>
                <a:gridCol w="2819520"/>
                <a:gridCol w="3024000"/>
                <a:gridCol w="2386080"/>
              </a:tblGrid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Q (Bañista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P($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U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8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4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9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8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Bañistas y la Playa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(Sin Regulación)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puesto 1: Ambos procesos monopolizados. Único dueñ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puesto 2: Camino único. Infinitas play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Supuesto 3: Playa única. Múltiples camin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Bañistas y la Playa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(Sin Regulación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ero… y si hay única playa y único camino, pertenecientes a dos monopolistas distint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6120" indent="-30888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Garamond"/>
              </a:rPr>
              <a:t>TEORÍA DE JUEG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Para un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Garamond"/>
              </a:rPr>
              <a:t>monopolista no regulado</a:t>
            </a: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 no hay incentivos monopólicos para integrarse, a menos que haya otro monopolista en la cadena de distribu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Bañistas y la Playa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(Con Regulación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n el caso de existir regulación en un segmento de la cadena (¿?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sibilidad de </a:t>
            </a:r>
            <a:r>
              <a:rPr b="1" lang="es-ES" sz="2600" spc="-1" strike="noStrike" u="sng">
                <a:solidFill>
                  <a:srgbClr val="000000"/>
                </a:solidFill>
                <a:uFillTx/>
                <a:latin typeface="Garamond"/>
              </a:rPr>
              <a:t>exclu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Favorecer a unos (filial o matriz) por sobre otros (competenci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03:54:31Z</dcterms:created>
  <dc:creator>Sebastian Spolmann Pasten</dc:creator>
  <dc:description/>
  <dc:language>en-US</dc:language>
  <cp:lastModifiedBy>sspolmann</cp:lastModifiedBy>
  <dcterms:modified xsi:type="dcterms:W3CDTF">2006-10-11T22:51:08Z</dcterms:modified>
  <cp:revision>12</cp:revision>
  <dc:subject/>
  <dc:title>Integraciones Verticales</dc:title>
</cp:coreProperties>
</file>