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463-DA0E-4FC2-A2C1-9F2F8B9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815-AD8A-4392-9F8D-4CA2198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B16-F965-459F-833C-EDD750B8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C02-A6DB-48BE-8528-9F8A3BF6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C63-B32F-4944-86B1-B87D4330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2E4-4B45-466F-B3E8-DC05E47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894E-D2A4-4D06-8881-02BF1127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C7A-A8CA-494C-A8CA-C9CF4E99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76E4-DAA7-4C97-801B-45CB9558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261-7004-416F-A749-4C2BC90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E8C1-DEF6-4616-8C1A-4C91F42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897-E060-46E8-A6F0-4CED48AC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11F4-3452-4435-9D3B-813534A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839D-BF45-4FC0-A676-505D702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CB45-5D79-499E-BB3C-7481BAC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7DE1-67C5-4657-BC39-D36D82B1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B5D-5446-47B5-9D08-F6FBDA29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27F-875E-444E-85EA-B760DF3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7C1-EF88-4AFF-9A16-296FFDA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F63-C43F-4A64-9337-B3EA4B5B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EE3-F076-4090-A180-2429F5B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7FD-E2A1-4127-86B0-0A3320B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46B-C609-43FA-87D8-1E74EF0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CF6-90EA-4402-96F2-EEC260B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6BD-3C85-4B0D-8C57-F4575377EC9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2BC-4EA3-4805-8C0F-51D9E59CF6C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s-CL" sz="5000" spc="-1" strike="noStrike">
                <a:solidFill>
                  <a:srgbClr val="006633"/>
                </a:solidFill>
                <a:latin typeface="Garamond"/>
              </a:rPr>
              <a:t>Integraciones Vertical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xisten fuertes justificaciones económicas para hace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Fenómeno de “eliminación del intermediario”. ¿A quién beneficia esto? (costos de trans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Reducción de riesgos de incumplimientos al asegurar las fuentes de suministro o de la colocación de la producció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Garamond"/>
              </a:rPr>
              <a:t>c.- Corregir externalidades negativas generadas por la política empresarial en cada eslabón de la cadena.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(i.e. Calidades de elaboració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.- Eventualmente, generar o incrementar posiciones dominantes en diferentes niveles (¿o en el mismo?). ¿Qué sucede horizont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sí como existen fuertes argumentos para incentivar la IV, existen buenas razones en cierta literatura económica para la desintegración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 tendencia actual es a esto último (i.e. Ley Corta Eléctrica)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Cruzar Subsidios. (¿Y contablement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Discriminar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inputs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o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outputs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(¿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.- Generar BA artif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anales de Distribución (C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Importancia de este concep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lgunos contratos/cláusulas accidentales en relación con los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revísima referencia a la exclus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sential Facility” (E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ta teoría nació en 1912, pero obtuvo su desarrollo importante en la década del ´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asos: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“Aspen Skiing Co. v. Aspen Highlands Skiing Corp. (1985).”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US. V. Colgate C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E.UU. = Libertad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uropea = Obligación de Contra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ignifica entonces una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decir, intuitivamente, que se trata de una posición especialmente estratégica que se detenta en algún nivel de la cadena de comercialización que implica -para quien(es) se encuentra(n) en los niveles superiores de dicha cadena- la imposibilidad de utilizar canales alternativos, o que al utilizarlos, los costos financieros se tornen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(¿irrazonablemente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?) a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stalaciones Esenciales o 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ilidad Es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Fac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gmento monopólico por el que tienen que pasar las firmas de otro segmento, que puede ser competitivo, para llegar a los clientes finales. (Redes de agua potable, líneas de transmisión y distribución, red de telefoní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consecuencias tien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esde un punto de vista jurídico existiría un deber de cooperación con sus rivales -u oferentes verticales- más pequeños. (¿Y horizontalmente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e puede decir al respecto, desde una noción liberal de las funciones del derecho administrativo sanciona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EF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Una pequeña noción de los Monopolios Naturales (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MN: Ocurre cuando una única empresa puede ofrecer un bien o servicio, en un mercado relevante dado, a un menor costo que dos o má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No importa tanto el número de oferentes y demandantes, sino más bien las relaciones entre demanda y las características de la oferta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Integraciones Verticales (IV) no constituyen -propiamente tal- un delito de la parte especial del derecho antitrust, pero han sido objeto de numerosas revisiones por parte de las autoridades antimonopolios (¿Por Qué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59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secue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Son los MN =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Regulación. Consecuencias horizo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mpresas de Servicios de Utilidad Pública (ESUP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S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elen ser regulados. (Electricidad, Gas, SS, Telecomunicacio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nopolio natural. Conc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n muchos mercados de ESUP, existen etapas competitivas, y otras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“no tanto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02080" y="1652760"/>
            <a:ext cx="5846040" cy="4297320"/>
            <a:chOff x="1702080" y="1652760"/>
            <a:chExt cx="5846040" cy="4297320"/>
          </a:xfrm>
        </p:grpSpPr>
        <p:cxnSp>
          <p:nvCxnSpPr>
            <p:cNvPr id="130" name="_s1641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257080" y="1537560"/>
              <a:ext cx="230760" cy="18817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6413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317480" y="2477160"/>
              <a:ext cx="230760" cy="2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6414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376800" y="1538280"/>
              <a:ext cx="230760" cy="188028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6415"/>
            <p:cNvSpPr/>
            <p:nvPr/>
          </p:nvSpPr>
          <p:spPr>
            <a:xfrm>
              <a:off x="3625920" y="1652760"/>
              <a:ext cx="1612440" cy="7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416"/>
            <p:cNvSpPr/>
            <p:nvPr/>
          </p:nvSpPr>
          <p:spPr>
            <a:xfrm>
              <a:off x="1746360" y="2593080"/>
              <a:ext cx="161136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417"/>
            <p:cNvSpPr/>
            <p:nvPr/>
          </p:nvSpPr>
          <p:spPr>
            <a:xfrm>
              <a:off x="362700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6418"/>
            <p:cNvSpPr/>
            <p:nvPr/>
          </p:nvSpPr>
          <p:spPr>
            <a:xfrm>
              <a:off x="550728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9720" y="3862080"/>
              <a:ext cx="37720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9360" y="3646440"/>
              <a:ext cx="187128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5720" y="3573720"/>
              <a:ext cx="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53000" y="3646440"/>
              <a:ext cx="171432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02080" y="4581360"/>
              <a:ext cx="201528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3720" y="4438440"/>
              <a:ext cx="181440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000" y="5302080"/>
              <a:ext cx="3096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FINALES (REGULAD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65000" y="4221000"/>
              <a:ext cx="1513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5360" y="4221000"/>
              <a:ext cx="6861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7000" y="5086440"/>
              <a:ext cx="21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36640" y="5086440"/>
              <a:ext cx="216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5086440"/>
              <a:ext cx="288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7360" y="4941720"/>
              <a:ext cx="503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000" y="5086440"/>
              <a:ext cx="28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17360" y="4725720"/>
              <a:ext cx="20160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95280" y="2708280"/>
            <a:ext cx="1008000" cy="86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4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5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6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15600" y="1802880"/>
            <a:ext cx="6113160" cy="4191120"/>
            <a:chOff x="1515600" y="1802880"/>
            <a:chExt cx="6113160" cy="4191120"/>
          </a:xfrm>
        </p:grpSpPr>
        <p:sp>
          <p:nvSpPr>
            <p:cNvPr id="161" name=""/>
            <p:cNvSpPr/>
            <p:nvPr/>
          </p:nvSpPr>
          <p:spPr>
            <a:xfrm>
              <a:off x="1690200" y="1802880"/>
              <a:ext cx="558756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COMPAÑÍAS DE LARGA DISTANC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15600" y="3375000"/>
              <a:ext cx="19206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ÑÍ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0800" y="3375000"/>
              <a:ext cx="19242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7080" y="3375000"/>
              <a:ext cx="19216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ADOR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4160" y="2850840"/>
              <a:ext cx="108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8960" y="3025080"/>
              <a:ext cx="436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88960" y="302508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4680" y="302508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5600" y="4247640"/>
              <a:ext cx="61120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LEFONÍA LO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8960" y="3898800"/>
              <a:ext cx="2094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4160" y="389880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83800" y="3898800"/>
              <a:ext cx="227052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7720" y="5295600"/>
              <a:ext cx="2969640" cy="69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84160" y="47714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389 = Desinteg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VTR –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“Triple p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es una IV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señalar, a modo introductorio, que ellas constituyen una situación en que existen empresas -que pueden estar jurídicamente relacionadas en sus estructuras de dominio- y que se desempeñan en algunos o todos los niveles de producción de un bien o servicio (etapas insumo-produc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Y a quién le importa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Visto desde la perspectiva de la empresa, ellas implican una expansión operacional motivada por criterios de minimización de costos y maximización de ut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Esto las hace eficien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conomías de Alcance, de Ámbito y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opolio e Integración Verti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deremos que para acceder a una playa se debe transitar por un cam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mino y Playa = únic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hay costos de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a determinad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125360"/>
          <a:ext cx="8229600" cy="5531040"/>
        </p:xfrm>
        <a:graphic>
          <a:graphicData uri="http://schemas.openxmlformats.org/drawingml/2006/table">
            <a:tbl>
              <a:tblPr/>
              <a:tblGrid>
                <a:gridCol w="2819520"/>
                <a:gridCol w="3024000"/>
                <a:gridCol w="238608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 (Bañista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(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1: Ambos procesos monopolizados. Único dueñ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2: Camino único. Infinitas play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3: Playa única. Múltiples camin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ro… y si hay única playa y único camino, pertenecientes a dos monopolistas disti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TEORÍA DE JUE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ara u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monopolista no regulado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no hay incentivos monopólicos para integrarse, a menos que haya otro monopolista en la cadena de distrib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Co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n el caso de existir regulación en un segmento de la cadena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bilidad d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Garamond"/>
              </a:rPr>
              <a:t>excl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avorecer a unos (filial o matriz) por sobre otros (competen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3:54:31Z</dcterms:created>
  <dc:creator>Sebastian Spolmann Pasten</dc:creator>
  <dc:description/>
  <dc:language>en-US</dc:language>
  <cp:lastModifiedBy>sspolmann</cp:lastModifiedBy>
  <dcterms:modified xsi:type="dcterms:W3CDTF">2006-10-11T22:51:08Z</dcterms:modified>
  <cp:revision>12</cp:revision>
  <dc:subject/>
  <dc:title>Integraciones Verticales</dc:title>
</cp:coreProperties>
</file>