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99B5E-AEB2-4697-A2C5-0E93E182EB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A5C5C-1E65-4BB8-AB42-85A6404D2E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C2331-C48B-4091-9DF1-23ED28F672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114E36-3847-4FFE-BB1A-8735459206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A5A91A8-B173-4197-ABEF-3383D784D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869EFB-F7EC-4930-9732-291ADAE05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F04136-E055-475F-986A-31E7EF9A55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74C1758-126B-4D6C-AC6C-A6A8130620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4BD912-1911-4BD3-8E69-122FFFEBD7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755F43-049A-4D5A-9D99-FEF0D461B9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D4133F-AC84-4C4E-8812-6237412D2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4E08C-1486-4645-BF82-A0F2C1D408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C939FD-29F8-44A5-BF50-9161A8483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D3C14-B60F-4E38-BABC-E8B5B5963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A2575-F164-484E-B4AE-18E27C0A56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AF2CF06-A6F0-4B5A-A85B-213C614F5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8C7C45-4118-4484-B726-31E4D9BC2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DD5C31-F699-4E19-B003-0D16E36674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2D97A9-1123-4330-9605-5128AC7583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7949D6-2E55-43C9-A504-F2E384E90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61B5E9-55BC-44F4-B9E2-1E8B105A07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37BD4-62C9-44BA-B5FF-1361FE917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BD36-CA9B-4219-9D48-D3BC15D12C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50614C-2E9D-4E52-9E0A-B12F213BE8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34B85B-549C-48B4-8299-D2AAF9FF05D9}"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D6402E-2AE4-4E5D-B4DF-26EB711CCA8E}" type="slidenum">
              <a:rPr b="0" lang="es-ES_tradn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000" spc="-1" strike="noStrike">
                <a:solidFill>
                  <a:srgbClr val="006633"/>
                </a:solidFill>
                <a:latin typeface="Garamond"/>
              </a:rPr>
              <a:t>Prácticas Predatorias </a:t>
            </a:r>
            <a:br>
              <a:rPr sz="5000"/>
            </a:br>
            <a:r>
              <a:rPr b="1" lang="es-MX" sz="5000" spc="-1" strike="noStrike">
                <a:solidFill>
                  <a:srgbClr val="006633"/>
                </a:solidFill>
                <a:latin typeface="Garamond"/>
              </a:rPr>
              <a:t>(precios predatorios)</a:t>
            </a:r>
            <a:endParaRPr b="0" lang="en-US" sz="5000" spc="-1" strike="noStrike">
              <a:solidFill>
                <a:srgbClr val="006633"/>
              </a:solidFill>
              <a:latin typeface="Garamond"/>
            </a:endParaRPr>
          </a:p>
        </p:txBody>
      </p:sp>
      <p:sp>
        <p:nvSpPr>
          <p:cNvPr id="87" name="PlaceHolder 2"/>
          <p:cNvSpPr>
            <a:spLocks noGrp="1"/>
          </p:cNvSpPr>
          <p:nvPr>
            <p:ph type="subTitle"/>
          </p:nvPr>
        </p:nvSpPr>
        <p:spPr>
          <a:xfrm>
            <a:off x="2590560" y="4114800"/>
            <a:ext cx="655308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Arial"/>
              </a:rPr>
              <a:t>Parte Especial Derecho Antitrust</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200" spc="-1" strike="noStrike">
                <a:solidFill>
                  <a:srgbClr val="006633"/>
                </a:solidFill>
                <a:latin typeface="Garamond"/>
              </a:rPr>
              <a:t>Algunas posiciones relevantes.</a:t>
            </a:r>
            <a:endParaRPr b="0" lang="en-US" sz="4200" spc="-1" strike="noStrike">
              <a:solidFill>
                <a:srgbClr val="006633"/>
              </a:solidFill>
              <a:latin typeface="Garamond"/>
            </a:endParaRPr>
          </a:p>
        </p:txBody>
      </p:sp>
      <p:sp>
        <p:nvSpPr>
          <p:cNvPr id="104" name="PlaceHolder 2"/>
          <p:cNvSpPr>
            <a:spLocks noGrp="1"/>
          </p:cNvSpPr>
          <p:nvPr>
            <p:ph/>
          </p:nvPr>
        </p:nvSpPr>
        <p:spPr>
          <a:xfrm>
            <a:off x="304920" y="1295280"/>
            <a:ext cx="8229600" cy="4530960"/>
          </a:xfrm>
          <a:prstGeom prst="rect">
            <a:avLst/>
          </a:prstGeom>
          <a:noFill/>
          <a:ln w="0">
            <a:noFill/>
          </a:ln>
        </p:spPr>
        <p:txBody>
          <a:bodyPr lIns="90000" rIns="90000" tIns="46800" bIns="46800" anchor="t">
            <a:normAutofit fontScale="97000"/>
          </a:bodyPr>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Algunos ejemplos de propuestas relativas al problema de los costos (no necesariamente refleja discusión actual. Problema excede curso).</a:t>
            </a:r>
            <a:endParaRPr b="0" lang="en-US" sz="1700" spc="-1" strike="noStrike">
              <a:solidFill>
                <a:srgbClr val="000000"/>
              </a:solidFill>
              <a:latin typeface="Arial"/>
            </a:endParaRPr>
          </a:p>
          <a:p>
            <a:pPr marL="332640" indent="-33264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Arial"/>
              </a:rPr>
              <a:t>Posición Escuela Chicago</a:t>
            </a:r>
            <a:endParaRPr b="0" lang="en-US" sz="17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PP carecen de lógica económica y no suponen problema para Dº antitrust</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Turner-Areeda:</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Fin netamente operativo, se centra en el corto plazo por factibilidad, y propugna permisividad en el trato de las empresas</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que optimice beneficios o disminuya pérdidas a corto plazo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ualquier P = o &gt; a CMT no es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que sea = o &gt; a costo marginal a corto plazo (o costo medio variable) se presume legal.</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l P &lt; al costo marginal a corto plazo (o CMV) es predatorio, salvo que sea = o &gt; al CMT.</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Ante la dificultad de medir costo marginal se prefiere CMV, si P es &gt; a CMV se presume legalidad, si P es &lt; se considerará predatorio.</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No cualquier P será predatorio, deben darse presupuestos materiales para su éxito.</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Propuesta Posn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Considera que los PP pueden constituir estrategia efectiva en aquellos casos que el predador opera en más mercados que la mayoría de sus competidores (subsidios cruzados?), en todo caso para él constituye más una traba para ingreso de competidores que un límite.</a:t>
            </a:r>
            <a:endParaRPr b="0" lang="en-US" sz="13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Son predatorios los precios establecidos a un nivel calculado para excluir del mercado a un competidor igual o más eficiente. No detallaremos propuesta de costos, similar a Areeda-Turner.</a:t>
            </a:r>
            <a:endParaRPr b="0" lang="en-US" sz="1300" spc="-1" strike="noStrike">
              <a:solidFill>
                <a:srgbClr val="000000"/>
              </a:solidFill>
              <a:latin typeface="Arial"/>
            </a:endParaRPr>
          </a:p>
          <a:p>
            <a:pPr lvl="1" marL="649800" indent="-315360">
              <a:lnSpc>
                <a:spcPct val="80000"/>
              </a:lnSpc>
              <a:spcBef>
                <a:spcPts val="374"/>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Arial"/>
              </a:rPr>
              <a:t>Scherer</a:t>
            </a:r>
            <a:endParaRPr b="0" lang="en-US" sz="1500" spc="-1" strike="noStrike">
              <a:solidFill>
                <a:srgbClr val="000000"/>
              </a:solidFill>
              <a:latin typeface="Arial"/>
            </a:endParaRPr>
          </a:p>
          <a:p>
            <a:pPr lvl="2" marL="991440" indent="-340200">
              <a:lnSpc>
                <a:spcPct val="80000"/>
              </a:lnSpc>
              <a:spcBef>
                <a:spcPts val="326"/>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Arial"/>
              </a:rPr>
              <a:t>Enfoque estratégico a largo plazo, va más allá de teoría de precios y costos de empresas. Se centra en prácticas de actores dominantes que quieren impedir entrada a mercados.</a:t>
            </a:r>
            <a:endParaRPr b="0" lang="en-US" sz="1300" spc="-1" strike="noStrike">
              <a:solidFill>
                <a:srgbClr val="000000"/>
              </a:solidFill>
              <a:latin typeface="Arial"/>
            </a:endParaRPr>
          </a:p>
          <a:p>
            <a:pPr marL="3326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Otras consideraciones</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Sólo consideran los costos propios o los de la competencia también se deberían considerar?</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norteamericana: que estructura del mercado posibilite a futuro obtener beneficios.</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Jurisprudencia chilena: velar por supuestos generales (MR, BE, PD) antes de calificar PP.</a:t>
            </a:r>
            <a:endParaRPr b="0" lang="en-US" sz="3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Elementos adicionales</a:t>
            </a:r>
            <a:endParaRPr b="0" lang="en-US" sz="4200" spc="-1" strike="noStrike">
              <a:solidFill>
                <a:srgbClr val="006633"/>
              </a:solidFill>
              <a:latin typeface="Garamond"/>
            </a:endParaRPr>
          </a:p>
        </p:txBody>
      </p:sp>
      <p:sp>
        <p:nvSpPr>
          <p:cNvPr id="108" name="PlaceHolder 2"/>
          <p:cNvSpPr>
            <a:spLocks noGrp="1"/>
          </p:cNvSpPr>
          <p:nvPr>
            <p:ph/>
          </p:nvPr>
        </p:nvSpPr>
        <p:spPr>
          <a:xfrm>
            <a:off x="457200" y="1371600"/>
            <a:ext cx="8229600" cy="4759200"/>
          </a:xfrm>
          <a:prstGeom prst="rect">
            <a:avLst/>
          </a:prstGeom>
          <a:noFill/>
          <a:ln w="0">
            <a:noFill/>
          </a:ln>
        </p:spPr>
        <p:txBody>
          <a:bodyPr lIns="90000" rIns="90000" tIns="46800" bIns="46800"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anadian Guidelines</a:t>
            </a: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Test Joskow-Klevorick.: </a:t>
            </a:r>
            <a:r>
              <a:rPr b="0" lang="en-US" sz="2400" spc="-1" strike="noStrike">
                <a:solidFill>
                  <a:srgbClr val="000000"/>
                </a:solidFill>
                <a:latin typeface="Arial"/>
              </a:rPr>
              <a:t>In the first stage structural characteristics of the market and the market power of the predator are examined in order to determine whether there is reasonable expectation that predatory pricing could occur. If there is no serious monopoly problem then investigation of predatory pricing should cease. If here are no barriers to entry it is unlikely that predatory pricing is taking place because the opportunity to recover losses through earning monopoly rents is non-existent.</a:t>
            </a:r>
            <a:endParaRPr b="0" lang="en-US" sz="2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2ª Etapa</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ut if the market is judged conducive to predatory pricing - that is, there is a strong possibility that the predator will be able to earn monopoly rents - then the second stage involves examining the behaviour through price-cost comparisons to determine whether the pricing is predatory </a:t>
            </a:r>
            <a:endParaRPr b="0" lang="en-US" sz="3200" spc="-1" strike="noStrike">
              <a:solidFill>
                <a:srgbClr val="000000"/>
              </a:solidFill>
              <a:latin typeface="Arial"/>
            </a:endParaRPr>
          </a:p>
          <a:p>
            <a:pPr marL="343080" indent="-343080">
              <a:spcBef>
                <a:spcPts val="7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verage Total Costs).</a:t>
            </a:r>
            <a:endParaRPr b="0" lang="en-US" sz="3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Resultado buscad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Objetivos pretendidamente perseguidos por el depredador: </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Quieb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Insolvencia Financiera</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Absorción</a:t>
            </a:r>
            <a:endParaRPr b="0" lang="en-US" sz="24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Colusión.</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006633"/>
                </a:solidFill>
                <a:latin typeface="Garamond"/>
              </a:rPr>
              <a:t>¿Es económicamente rentable para la empresa?</a:t>
            </a:r>
            <a:endParaRPr b="0" lang="en-US" sz="38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iénsese en productos de elasticidades altas. Sería rentable?. El mercado requiere ciertas condiciones para que se pueda consolidar una estrategia de precios predatorio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Qué sucede si quien establece esta estrategia es un competidor potencial de un mercado con un actor dominante? </a:t>
            </a:r>
            <a:r>
              <a:rPr b="0" lang="es-MX" sz="2800" spc="-1" strike="noStrike">
                <a:solidFill>
                  <a:srgbClr val="000000"/>
                </a:solidFill>
                <a:latin typeface="Arial"/>
                <a:ea typeface="Arial"/>
              </a:rPr>
              <a:t>→ Promociones, Descuentos, Creación de producto, fidelización, etc.</a:t>
            </a: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7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700" spc="-1" strike="noStrike">
                <a:solidFill>
                  <a:srgbClr val="000000"/>
                </a:solidFill>
                <a:latin typeface="Arial"/>
              </a:rPr>
              <a:t>Subsidios cruzados</a:t>
            </a:r>
            <a:r>
              <a:rPr b="0" lang="es-MX" sz="2700" spc="-1" strike="noStrike">
                <a:solidFill>
                  <a:srgbClr val="000000"/>
                </a:solidFill>
                <a:latin typeface="Arial"/>
              </a:rPr>
              <a:t> (i.e. Calling party pays). </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Cuando cargo en un eslabón de la cadena determinado de un negocio determinado (aguas arriba o abajo), los costos adicionales que me genera mantener un nivel de precios X.</a:t>
            </a:r>
            <a:endParaRPr b="0" lang="en-US" sz="2700" spc="-1" strike="noStrike">
              <a:solidFill>
                <a:srgbClr val="000000"/>
              </a:solidFill>
              <a:latin typeface="Arial"/>
            </a:endParaRPr>
          </a:p>
          <a:p>
            <a:pPr lvl="1" marL="669960" indent="-325440">
              <a:spcBef>
                <a:spcPts val="675"/>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700" spc="-1" strike="noStrike">
                <a:solidFill>
                  <a:srgbClr val="000000"/>
                </a:solidFill>
                <a:latin typeface="Arial"/>
              </a:rPr>
              <a:t>¿Se produce a escala transnacional?. Por ejemplo cuando la casa matriz (en el extranjero) corre con los costos adicionales señalados en el punto anterior.</a:t>
            </a:r>
            <a:endParaRPr b="0" lang="en-US" sz="27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Otros problemas relacionados</a:t>
            </a:r>
            <a:endParaRPr b="0" lang="en-US" sz="4200" spc="-1" strike="noStrike">
              <a:solidFill>
                <a:srgbClr val="006633"/>
              </a:solidFill>
              <a:latin typeface="Garamond"/>
            </a:endParaRPr>
          </a:p>
        </p:txBody>
      </p:sp>
      <p:sp>
        <p:nvSpPr>
          <p:cNvPr id="118" name="PlaceHolder 2"/>
          <p:cNvSpPr>
            <a:spLocks noGrp="1"/>
          </p:cNvSpPr>
          <p:nvPr>
            <p:ph/>
          </p:nvPr>
        </p:nvSpPr>
        <p:spPr>
          <a:xfrm>
            <a:off x="380880" y="1295280"/>
            <a:ext cx="8229600" cy="4530960"/>
          </a:xfrm>
          <a:prstGeom prst="rect">
            <a:avLst/>
          </a:prstGeom>
          <a:noFill/>
          <a:ln w="0">
            <a:noFill/>
          </a:ln>
        </p:spPr>
        <p:txBody>
          <a:bodyPr lIns="90000" rIns="90000" tIns="46800" bIns="46800"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Arial"/>
              </a:rPr>
              <a:t>Dumping y Subsidios: </a:t>
            </a:r>
            <a:endParaRPr b="0" lang="en-US" sz="2400" spc="-1" strike="noStrike">
              <a:solidFill>
                <a:srgbClr val="000000"/>
              </a:solidFill>
              <a:latin typeface="Arial"/>
            </a:endParaRPr>
          </a:p>
          <a:p>
            <a:pPr marL="329040" indent="-329040">
              <a:lnSpc>
                <a:spcPct val="9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Órgano Competente: CNDP</a:t>
            </a:r>
            <a:endParaRPr b="0" lang="en-US" sz="2400" spc="-1" strike="noStrike">
              <a:solidFill>
                <a:srgbClr val="000000"/>
              </a:solidFill>
              <a:latin typeface="Arial"/>
            </a:endParaRPr>
          </a:p>
          <a:p>
            <a:pPr lvl="1" marL="642960" indent="-31212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a Comisión Nacional Encargada de Investigar la Existencia de Distorsiones en el Precio de las Mercaderías Importadas, creada por el artículo 9 de la Ley N° 18.525, es un organismo técnico, integrado por representantes de instituciones públicas del sector económico, cuya función es asesorar al Presidente de la República respecto de aquellas materias que dicen relación con la importación al país de mercaderías, a precios distorsionados, que causen o amenacen causar daño grave a la producción nacional, así como también aquellas situaciones de aumento de importaciones en tal cantidad y en condiciones tales que causen o amenacen causar daño grave a la producción doméstica.</a:t>
            </a:r>
            <a:r>
              <a:rPr b="0" lang="es-ES_tradnl" sz="2200" spc="-1" strike="noStrike">
                <a:solidFill>
                  <a:srgbClr val="000000"/>
                </a:solidFill>
                <a:latin typeface="Arial"/>
              </a:rPr>
              <a:t> </a:t>
            </a:r>
            <a:endParaRPr b="0" lang="en-US" sz="2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dumping es un tipo de práctica desleal, realizado POR EMPRESAS, consistente en la introducción de mercaderías en un país a un precio inferior a su valor normal (discriminación de precios), y será sancionado cuando se demuestre que causa un daño o amenaza del mismo a la producción nacional.</a:t>
            </a:r>
            <a:endParaRPr b="0" lang="en-US" sz="30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Dumping</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La imposición de medidas antidumping deberá observar el acuerdo específico de la OMC. (Acuerdo general sobre Aranceles aduaneros y de comercio, año 1994, AD)</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D) Se considera que un producto es objeto de </a:t>
            </a:r>
            <a:r>
              <a:rPr b="0" i="1" lang="es-CL" sz="2100" spc="-1" strike="noStrike">
                <a:solidFill>
                  <a:srgbClr val="000000"/>
                </a:solidFill>
                <a:latin typeface="Arial"/>
              </a:rPr>
              <a:t>dumping</a:t>
            </a:r>
            <a:r>
              <a:rPr b="0" lang="es-CL" sz="2100" spc="-1" strike="noStrike">
                <a:solidFill>
                  <a:srgbClr val="000000"/>
                </a:solidFill>
                <a:latin typeface="Arial"/>
              </a:rPr>
              <a:t> cuando su precio de exportación, al exportarse de un país a otro, es menor que el precio comparable, en el curso de operaciones comerciales normales, de un producto similar destinado al consumo en el país exportador. </a:t>
            </a:r>
            <a:endParaRPr b="0" lang="en-US" sz="2100" spc="-1" strike="noStrike">
              <a:solidFill>
                <a:srgbClr val="000000"/>
              </a:solidFill>
              <a:latin typeface="Arial"/>
            </a:endParaRPr>
          </a:p>
          <a:p>
            <a:pPr marL="343080" indent="-34308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Hay que estar a lo que señala el GATT, las legislaciones y la costumbre respecto de precisiones en los conceptos (operaciones comerciales normales, ojo con producto similar)</a:t>
            </a:r>
            <a:endParaRPr b="0" lang="en-US" sz="21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Introducción</a:t>
            </a:r>
            <a:endParaRPr b="0" lang="en-US" sz="4200" spc="-1" strike="noStrike">
              <a:solidFill>
                <a:srgbClr val="006633"/>
              </a:solidFill>
              <a:latin typeface="Garamond"/>
            </a:endParaRPr>
          </a:p>
        </p:txBody>
      </p:sp>
      <p:sp>
        <p:nvSpPr>
          <p:cNvPr id="8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Las prácticas predatorias se han conceptualizado normalmente de manera muy general, y se ha optado por hablar de sus modalidades específicas (precios, publicidad, etc.) antes que un concepto general.</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Si bien en esta parte hablaremos principalmente de precios predatorios, conviene conceptualizar en qué consisten las prácticas predatorias.</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vención o subsidio</a:t>
            </a:r>
            <a:endParaRPr b="0" lang="en-US" sz="42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e considera que existe subvención (subsidio) cuando hay una contribución financiera de un gobierno o de cualquier organismo público en el territorio de un Miembro (del GATT), o cuando hay alguna forma de sostenimiento de los ingresos o de los precios y con dichas prácticas se otorga un beneficio. </a:t>
            </a:r>
            <a:endParaRPr b="0" lang="en-US" sz="30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Subsidios</a:t>
            </a:r>
            <a:endParaRPr b="0" lang="en-US" sz="42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Existen tres categorías de subvenciones: permitidas, recurribles y prohibidas. </a:t>
            </a:r>
            <a:endParaRPr b="0" lang="en-US" sz="26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prohibidas</a:t>
            </a:r>
            <a:r>
              <a:rPr b="0" lang="es-ES_tradnl" sz="2200" spc="-1" strike="noStrike">
                <a:solidFill>
                  <a:srgbClr val="000000"/>
                </a:solidFill>
                <a:latin typeface="Arial"/>
              </a:rPr>
              <a:t> son: subsidios supeditados a los resultados de exportaciones, subsidios supeditados al empleo de productos nacionales con preferencia a los importados, como única o una de las condiciones impuestas.</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Las </a:t>
            </a:r>
            <a:r>
              <a:rPr b="0" i="1" lang="es-ES_tradnl" sz="2200" spc="-1" strike="noStrike">
                <a:solidFill>
                  <a:srgbClr val="000000"/>
                </a:solidFill>
                <a:latin typeface="Arial"/>
              </a:rPr>
              <a:t>recurribles</a:t>
            </a:r>
            <a:r>
              <a:rPr b="0" lang="es-ES_tradnl" sz="2200" spc="-1" strike="noStrike">
                <a:solidFill>
                  <a:srgbClr val="000000"/>
                </a:solidFill>
                <a:latin typeface="Arial"/>
              </a:rPr>
              <a:t> son: aquellas que establecidas por un país, causen efectos desfavorables para los otros miembros, anulen ventajas del GATT, causen perjuicios graves a otro país miembro del GATT.</a:t>
            </a:r>
            <a:endParaRPr b="0" lang="en-US" sz="2200" spc="-1" strike="noStrike">
              <a:solidFill>
                <a:srgbClr val="000000"/>
              </a:solidFill>
              <a:latin typeface="Arial"/>
            </a:endParaRPr>
          </a:p>
          <a:p>
            <a:pPr lvl="1" marL="669960" indent="-325440">
              <a:lnSpc>
                <a:spcPct val="9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No se pueden recurrir subvenciones no específicas, y aquellas específicas para actividades de investigación y desarrollo (I+D), deben cumplir condiciones estrictas.</a:t>
            </a: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clusiones</a:t>
            </a:r>
            <a:endParaRPr b="0" lang="en-US" sz="42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Papel de los precios predatorios en el derecho </a:t>
            </a:r>
            <a:r>
              <a:rPr b="0" i="1" lang="es-MX" sz="2800" spc="-1" strike="noStrike">
                <a:solidFill>
                  <a:srgbClr val="000000"/>
                </a:solidFill>
                <a:latin typeface="Arial"/>
              </a:rPr>
              <a:t>antitrust</a:t>
            </a:r>
            <a:r>
              <a:rPr b="0" lang="es-MX"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Efectividad que puede tener esta conduc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Arial"/>
              </a:rPr>
              <a:t>Importancia de situaciones relacionada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71600" y="320400"/>
            <a:ext cx="8215200" cy="9874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Una definición (Areeda y Turner):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Arial"/>
              </a:rPr>
              <a:t>	</a:t>
            </a:r>
            <a:r>
              <a:rPr b="0" lang="es-MX" sz="3000" spc="-1" strike="noStrike">
                <a:solidFill>
                  <a:srgbClr val="000000"/>
                </a:solidFill>
                <a:latin typeface="Arial"/>
              </a:rPr>
              <a:t>“</a:t>
            </a:r>
            <a:r>
              <a:rPr b="0" lang="es-MX" sz="3000" spc="-1" strike="noStrike">
                <a:solidFill>
                  <a:srgbClr val="000000"/>
                </a:solidFill>
                <a:latin typeface="Arial"/>
              </a:rPr>
              <a:t>Aquella conducta susceptible de contribuir de manera significativa a la creación o al mantenimiento de un poder monopolístico, que no es competencia basada en los méritos ni una restricción inherente a la competencia basada en los méri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90000"/>
              </a:lnSpc>
              <a:spcBef>
                <a:spcPts val="524"/>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Para efectos de la cátedra, seguiremos a Francisco Hernández Rodríguez (texto en Syllabus), que señala características comunes a las prácticas predatorias:</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xistencia de una conducta orientada DIRECTAMENTE a perjudicar (predar) uno o varios competidores para mejorar situación propia en el mercado.</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Empleo de medios distintos de la competencia basada en méritos (eficienci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pariencia competitiva de los medios señalados (dificultad en descubrir conducta)</a:t>
            </a:r>
            <a:endParaRPr b="0" lang="en-US" sz="2100" spc="-1" strike="noStrike">
              <a:solidFill>
                <a:srgbClr val="000000"/>
              </a:solidFill>
              <a:latin typeface="Arial"/>
            </a:endParaRPr>
          </a:p>
          <a:p>
            <a:pPr marL="533520" indent="-533520">
              <a:lnSpc>
                <a:spcPct val="90000"/>
              </a:lnSpc>
              <a:spcBef>
                <a:spcPts val="524"/>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Sacrificio de beneficios a corto plazo a cambio de expectativa de mayores ganancias a largo plazo.</a:t>
            </a:r>
            <a:endParaRPr b="0" lang="en-US" sz="2100" spc="-1" strike="noStrike">
              <a:solidFill>
                <a:srgbClr val="000000"/>
              </a:solidFill>
              <a:latin typeface="Arial"/>
            </a:endParaRPr>
          </a:p>
        </p:txBody>
      </p:sp>
      <p:sp>
        <p:nvSpPr>
          <p:cNvPr id="93" name="PlaceHolder 2"/>
          <p:cNvSpPr>
            <a:spLocks noGrp="1"/>
          </p:cNvSpPr>
          <p:nvPr>
            <p:ph type="title"/>
          </p:nvPr>
        </p:nvSpPr>
        <p:spPr>
          <a:xfrm>
            <a:off x="457200" y="277560"/>
            <a:ext cx="8229600" cy="788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Definiciones de práctica predatoria:</a:t>
            </a:r>
            <a:endParaRPr b="0" lang="en-US" sz="3800" spc="-1" strike="noStrike">
              <a:solidFill>
                <a:srgbClr val="006633"/>
              </a:solidFill>
              <a:latin typeface="Garamond"/>
            </a:endParaRPr>
          </a:p>
        </p:txBody>
      </p:sp>
      <p:sp>
        <p:nvSpPr>
          <p:cNvPr id="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Con los elementos señalados con anterioridad podemos excluir prácticas que no afectan en principio al derecho antitrust, y otras prácticas cuya naturaleza predatoria no merece discusión (boicots, negativas de venta).</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Las prácticas predatorias podemos clasificarlas en dos grandes grupos: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basadas en preci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Estrategias no basadas en precios.</a:t>
            </a: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006633"/>
                </a:solidFill>
                <a:latin typeface="Garamond"/>
              </a:rPr>
              <a:t>Técnicas basadas en precios predatorios</a:t>
            </a:r>
            <a:endParaRPr b="0" lang="en-US" sz="3800" spc="-1" strike="noStrike">
              <a:solidFill>
                <a:srgbClr val="006633"/>
              </a:solidFill>
              <a:latin typeface="Garamond"/>
            </a:endParaRPr>
          </a:p>
        </p:txBody>
      </p:sp>
      <p:sp>
        <p:nvSpPr>
          <p:cNvPr id="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No confundir con </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Limit pricing (emplea méritos por parte del monopolist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0000"/>
                </a:solidFill>
                <a:latin typeface="Arial"/>
              </a:rPr>
              <a:t>Discriminación de precios (es diferente, aún cuando sirve de indicio)</a:t>
            </a:r>
            <a:endParaRPr b="0" lang="en-US" sz="22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Arial"/>
              </a:rPr>
              <a:t>Predación no basada en precios predatorios:</a:t>
            </a:r>
            <a:endParaRPr b="0" lang="en-US" sz="26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Condiciones de calidad predatorias (modelo casi basado en precios, se absorbe costos)</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Publicidad predatoria</a:t>
            </a:r>
            <a:endParaRPr b="0" lang="en-US" sz="2200" spc="-1" strike="noStrike">
              <a:solidFill>
                <a:srgbClr val="000000"/>
              </a:solidFill>
              <a:latin typeface="Arial"/>
            </a:endParaRPr>
          </a:p>
          <a:p>
            <a:pPr lvl="1" marL="669960" indent="-325440">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000000"/>
                </a:solidFill>
                <a:latin typeface="Arial"/>
              </a:rPr>
              <a:t>Innovación predatoria</a:t>
            </a:r>
            <a:endParaRPr b="0" lang="en-US" sz="2200" spc="-1" strike="noStrike">
              <a:solidFill>
                <a:srgbClr val="000000"/>
              </a:solidFill>
              <a:latin typeface="Arial"/>
            </a:endParaRPr>
          </a:p>
          <a:p>
            <a:pPr lvl="2" marL="1022400" indent="-351000">
              <a:spcBef>
                <a:spcPts val="499"/>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rt.51 ley 19.039 de propiedad industrial respecto de licencias obligatorias.</a:t>
            </a:r>
            <a:endParaRPr b="0" lang="en-US" sz="2000" spc="-1" strike="noStrike">
              <a:solidFill>
                <a:srgbClr val="000000"/>
              </a:solidFill>
              <a:latin typeface="Arial"/>
            </a:endParaRPr>
          </a:p>
          <a:p>
            <a:pPr lvl="1" marL="6699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200" spc="-1" strike="noStrike">
                <a:solidFill>
                  <a:srgbClr val="006633"/>
                </a:solidFill>
                <a:latin typeface="Garamond"/>
              </a:rPr>
              <a:t>Precios predatorios</a:t>
            </a:r>
            <a:endParaRPr b="0" lang="en-US" sz="4200" spc="-1" strike="noStrike">
              <a:solidFill>
                <a:srgbClr val="006633"/>
              </a:solidFill>
              <a:latin typeface="Garamond"/>
            </a:endParaRPr>
          </a:p>
        </p:txBody>
      </p:sp>
      <p:sp>
        <p:nvSpPr>
          <p:cNvPr id="9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Arial"/>
              </a:rPr>
              <a:t>Sólo en circunstancias muy calificadas serán una estrategia rentable para el predador.</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000" spc="-1" strike="noStrike">
                <a:solidFill>
                  <a:srgbClr val="000000"/>
                </a:solidFill>
                <a:latin typeface="Arial"/>
              </a:rPr>
              <a:t>Son los precios inferiores a un determinado nivel de costo, establecidos por una EMPRESA DOMINANTE, con la intención de expulsar o dañar a uno o varios competidores del mercado relevante.</a:t>
            </a:r>
            <a:endParaRPr b="0" lang="en-US" sz="3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1" name="PlaceHolder 2"/>
          <p:cNvSpPr>
            <a:spLocks noGrp="1"/>
          </p:cNvSpPr>
          <p:nvPr>
            <p:ph/>
          </p:nvPr>
        </p:nvSpPr>
        <p:spPr>
          <a:xfrm>
            <a:off x="456840" y="1599840"/>
            <a:ext cx="7924680" cy="3429000"/>
          </a:xfrm>
          <a:prstGeom prst="rect">
            <a:avLst/>
          </a:prstGeom>
          <a:noFill/>
          <a:ln w="0">
            <a:noFill/>
          </a:ln>
        </p:spPr>
        <p:txBody>
          <a:bodyPr lIns="90000" rIns="90000" tIns="46800" bIns="46800" anchor="t">
            <a:normAutofit fontScale="91000"/>
          </a:bodyPr>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Definición establece elementos objetivos y subjetivos</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recio-Cost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Posición</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Intención</a:t>
            </a:r>
            <a:endParaRPr b="0" lang="en-US" sz="2200" spc="-1" strike="noStrike">
              <a:solidFill>
                <a:srgbClr val="000000"/>
              </a:solidFill>
              <a:latin typeface="Arial"/>
            </a:endParaRPr>
          </a:p>
          <a:p>
            <a:pPr marL="312120" indent="-31212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Arial"/>
              </a:rPr>
              <a:t>¿Precio inferior a qué nivel de costo?</a:t>
            </a:r>
            <a:endParaRPr b="0" lang="en-US" sz="26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arginal? (unidad adicional)</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variable (ultimas unidades adicionales) </a:t>
            </a:r>
            <a:r>
              <a:rPr b="0" lang="es-MX" sz="2200" spc="-1" strike="noStrike">
                <a:solidFill>
                  <a:srgbClr val="000000"/>
                </a:solidFill>
                <a:latin typeface="Wingdings"/>
                <a:ea typeface="Wingdings"/>
              </a:rPr>
              <a:t></a:t>
            </a:r>
            <a:r>
              <a:rPr b="0" lang="es-MX" sz="2200" spc="-1" strike="noStrike">
                <a:solidFill>
                  <a:srgbClr val="000000"/>
                </a:solidFill>
                <a:latin typeface="Arial"/>
              </a:rPr>
              <a:t> corregiría costo marginal, y lo haría más o menos restrictivo</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 medio total? </a:t>
            </a:r>
            <a:r>
              <a:rPr b="0" lang="es-MX" sz="2200" spc="-1" strike="noStrike">
                <a:solidFill>
                  <a:srgbClr val="000000"/>
                </a:solidFill>
                <a:latin typeface="Wingdings"/>
                <a:ea typeface="Wingdings"/>
              </a:rPr>
              <a:t></a:t>
            </a:r>
            <a:r>
              <a:rPr b="0" lang="es-MX" sz="2200" spc="-1" strike="noStrike">
                <a:solidFill>
                  <a:srgbClr val="000000"/>
                </a:solidFill>
                <a:latin typeface="Arial"/>
              </a:rPr>
              <a:t> se acepta que si P están sobre CMT no hay precios predatorios.</a:t>
            </a:r>
            <a:endParaRPr b="0" lang="en-US" sz="2200" spc="-1" strike="noStrike">
              <a:solidFill>
                <a:srgbClr val="000000"/>
              </a:solidFill>
              <a:latin typeface="Arial"/>
            </a:endParaRPr>
          </a:p>
          <a:p>
            <a:pPr lvl="1" marL="609480" indent="-295920">
              <a:lnSpc>
                <a:spcPct val="80000"/>
              </a:lnSpc>
              <a:spcBef>
                <a:spcPts val="55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Costos Mg a largo plazo? </a:t>
            </a:r>
            <a:r>
              <a:rPr b="0" lang="es-MX" sz="2200" spc="-1" strike="noStrike">
                <a:solidFill>
                  <a:srgbClr val="000000"/>
                </a:solidFill>
                <a:latin typeface="Wingdings"/>
                <a:ea typeface="Wingdings"/>
              </a:rPr>
              <a:t></a:t>
            </a:r>
            <a:r>
              <a:rPr b="0" lang="es-MX" sz="2200" spc="-1" strike="noStrike">
                <a:solidFill>
                  <a:srgbClr val="000000"/>
                </a:solidFill>
                <a:latin typeface="Arial"/>
              </a:rPr>
              <a:t> otros enfoques</a:t>
            </a:r>
            <a:endParaRPr b="0" lang="en-US" sz="2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457200" y="457200"/>
            <a:ext cx="8229600" cy="529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08T13:11:35Z</dcterms:created>
  <dc:creator>Equipo Docente</dc:creator>
  <dc:description/>
  <dc:language>en-US</dc:language>
  <cp:lastModifiedBy>Sebastian Spolmann</cp:lastModifiedBy>
  <dcterms:modified xsi:type="dcterms:W3CDTF">2007-10-09T20:42:00Z</dcterms:modified>
  <cp:revision>45</cp:revision>
  <dc:subject/>
  <dc:title>Diapositiva 1</dc:title>
</cp:coreProperties>
</file>