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DDF4-C7F1-4B27-95C5-3C5719966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DF0A-3C45-4944-A18C-A9BF3884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0694-8813-46D4-AAB7-4921912A3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4DFB-D3D7-4F30-9962-A1C1D877A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6F76-0A22-4160-B7C5-73C2351D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C2F0-48B8-4AB7-822E-3C9B4E2B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A9C3-F850-4572-8291-D0A3F9B9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C223-6087-4344-9E30-25BC7E62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E5F9-25C9-409F-A027-C91DCE54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24FE-6F9A-4363-8286-D53B00A9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059F-0865-4A4E-AF1A-A2DD1427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2D2C-2A56-4B15-8E86-A893ADA5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A4F4-8DC6-4C84-B0CA-7BBD61D6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680C-6742-4C31-BD11-1C8E73FB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A5332-6370-467F-8D17-35A9A617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BA6D-8C96-40E1-BDD5-28A0D0132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936C-38C6-4944-A028-2DAE257BA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41A6-0C96-4F9F-B013-4337B42A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85D5-9EA3-4470-8D1F-347D0A9B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2922-4140-4F7D-BA94-49059B6F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61F0-CB01-48C0-A26B-90B63551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E190-9F80-49FE-9BAF-305BB34B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5B3B-CFB7-4740-BA1C-A8BA2AA0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2609-7685-4F77-AF53-3283FA39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7EC5-A276-4326-8796-E11D256697F6}" type="slidenum">
              <a:rPr b="0" lang="es-C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BA57-8E1B-47A1-89FB-0D7B82951242}" type="slidenum">
              <a:rPr b="0" lang="es-C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La Posición Dominante</a:t>
            </a:r>
            <a:br>
              <a:rPr sz="5000"/>
            </a:b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(Poder de Mercado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33"/>
                </a:solidFill>
                <a:latin typeface="Garamond"/>
              </a:rPr>
              <a:t>¿Deber de comportamiento?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Qué margen de movimiento en las (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mis)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decisiones de producción es jurídicamente aceptable y lícit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Puedo rediseñar, negociar, reducir P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Debo tomar dichas decisiones como prácticas exclusionarias o predatoria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D en función de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las características del Mercad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Puedo discriminar el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ndard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/ umbral requerido de comportamiento según el tamaño y la importancia del mercad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La función “Bienestar del Consumidor” debe ser comparada con los costos terciarios del sistem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stos terciar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554508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826920" y="476280"/>
            <a:ext cx="7561440" cy="5692680"/>
            <a:chOff x="826920" y="476280"/>
            <a:chExt cx="7561440" cy="569268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826920" y="476280"/>
              <a:ext cx="7561440" cy="569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 txBox="1"/>
            <p:nvPr/>
          </p:nvSpPr>
          <p:spPr>
            <a:xfrm>
              <a:off x="826920" y="476280"/>
              <a:ext cx="7561440" cy="569268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 algn="ctr">
                <a:spcBef>
                  <a:spcPts val="751"/>
                </a:spcBef>
                <a:buClr>
                  <a:srgbClr val="cc9900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aracteriza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Posición Dominante (PD), también denominada Poder de Mercado (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Market Power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) es el último estadio procesal dentro de los criterios de imputación gene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mputación: MR + BE + PD (al men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n embargo, comúnmente se utiliza también en ilícitos de parte espe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Aproxima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remos que una PD es la capacidad de alterar el precio, calidades o condiciones de comercialización (cláusulas contractuales), de los bienes o servicios producidos por una empresa, sin sufrir mayores costos financieros, o a lo menos, proporcionalmente menores a la magnitud del cambio. (Ej. +10% = - 10%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PD, EP-CD e Inelastic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¿Cómo se determina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ando el MR + las BE, además de consideraciones adicionales (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U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cha operación nos proveerá la situación hipotética de la empr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. Monopolio + Bajas BE + 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de “X” = Directrice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Directriz de Funcionamien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esempeño de la Empre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Se desvía de la norma competitiv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Utilidades netas vs. Promedio. (¿Indicativo eficiente?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Mg (¿Por qué podría no ser una solución preferible?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Resulta recomendable utilizar esta directriz en todos los cas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Directriz de Rivalida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Dice relación con el grado de rivalidad y afán de diferenciación entre los competidores de un mercado dado, y no es una consideración significativa adicional al MR (ECD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ensibilidad de las ventas o producción de la firma a los cambios en las ventas o los precios de sus rivales y a los ajustes en la conducta de los comprador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Directriz Estructur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 de oferta y volúmenes de venta individuales, donde se consideran competidores dados (MR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 =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 =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 = 3 = Poder de Mercad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¡Ojo con las Participaciones de Mercado!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Participaciones de Mercado (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rket Shares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tituyen un elemento suficiente (sí necesario y presuntivamente aplicable), para determinar una P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¿Se sancionan </a:t>
            </a:r>
            <a:r>
              <a:rPr b="1" i="1" lang="en-US" sz="4200" spc="-1" strike="noStrike">
                <a:solidFill>
                  <a:srgbClr val="006633"/>
                </a:solidFill>
                <a:latin typeface="Garamond"/>
              </a:rPr>
              <a:t>Per Se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ningún caso una posición dominante implica un ilícito antimonopólico en sí, ya que lo imputable es el 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abuso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que de ésta se hag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coa (Juez Ha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ntencia TD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° 26 Taba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° 27 Insumos Producción de Azú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sideraciones económicas (Objeto de ataque) y d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ue proces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lo impid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incipio de Culp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05:07:44Z</dcterms:created>
  <dc:creator>Equipo Docente</dc:creator>
  <dc:description/>
  <dc:language>en-US</dc:language>
  <cp:lastModifiedBy>Sebastian Spolmann</cp:lastModifiedBy>
  <dcterms:modified xsi:type="dcterms:W3CDTF">2007-10-09T20:39:43Z</dcterms:modified>
  <cp:revision>30</cp:revision>
  <dc:subject/>
  <dc:title>20072_D° Económico_Libre Competencia_6</dc:title>
</cp:coreProperties>
</file>