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07B-67D6-419A-9B8C-DB055FD8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85A-CDAF-46E7-9EFE-AE5F65E2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E02-8B80-442A-A964-525B04CA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F6C-8D22-4268-842D-1CACEA30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680A-199D-4B67-AB1E-A4BAECFB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F054-66BD-43F1-A4E1-0E4285EA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BD40-71D3-4899-B3B9-69F48D94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133B-B61C-4A46-ABFA-D296C2D3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1699-7D6F-4B7F-9364-7F2D4DA7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1132-3EA2-469E-B361-C42F190B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9901-F233-471F-A311-7DA7AE4A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1F1-FC30-4AB6-844E-DC6CD457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B315-AA35-48D9-A9EA-D8EFC14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E328-D246-4660-B1B7-78139ECB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27AB-8AA2-4C04-A7C4-5301011F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0B68-6310-4424-AC53-DEE6C6F3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9A6C-4C9C-41C4-84ED-5851C5BE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32F-0098-4DCB-818B-3F2BF1C8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AB2-48CC-4CCA-A228-391A789C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AB2-133F-444A-B2F8-C42F741D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6F0-A7DD-4D43-9902-BBADBA6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3E3-FADD-4B67-B34D-44D98C1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22B-82A6-48F1-9303-F65EECA3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277-D0FB-4A51-817E-6FAC3245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1375-C400-4549-AEFB-3CA54BCB87C1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B5F8-D9C9-4BD3-8879-03351BE5C398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La Posición Dominante</a:t>
            </a:r>
            <a:br>
              <a:rPr sz="5000"/>
            </a:b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(Poder de Mercado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¿Deber de comportamiento?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margen de movimiento en las (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mis)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decisiones de producción es jurídicamente aceptable y líci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Puedo rediseñar, negociar, reducir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Debo tomar dichas decisiones como prácticas exclusionarias o predator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D en función de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las características del Merc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Puedo discriminar e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/ umbral requerido de comportamiento según el tamaño y la importancia del merca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La función “Bienestar del Consumidor” debe ser comparada con los costos terciarios del sist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stos terci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5450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26920" y="476280"/>
            <a:ext cx="7561440" cy="5692680"/>
            <a:chOff x="826920" y="476280"/>
            <a:chExt cx="7561440" cy="56926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826920" y="476280"/>
              <a:ext cx="7561440" cy="56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826920" y="476280"/>
              <a:ext cx="7561440" cy="56926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751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aracteriz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osición Dominante (PD), también denominada Poder de Mercado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rket Powe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 es el último estadio procesal dentro de los criterios de imputación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utación: MR + BE + PD (al m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 embargo, comúnmente se utiliza también en ilícitos de parte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proxim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remos que una PD es la capacidad de alterar el precio, calidades o condiciones de comercialización (cláusulas contractuales), de los bienes o servicios producidos por una empresa, sin sufrir mayores costos financieros, o a lo menos, proporcionalmente menores a la magnitud del cambio. (Ej. +10% = - 10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D, EP-CD e Inelast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Cómo se determina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ndo el MR + las BE, además de consideraciones adicionales (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ha operación nos proveerá la situación hipotética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. Monopolio + Bajas BE +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de “X” = Directric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rectriz de Funcion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empeño d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Se desvía de la norma competitiv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tilidades netas vs. Promedio. (¿Indicativo eficiente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Mg (¿Por qué podría no ser una solución preferible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Resulta recomendable utilizar esta directriz en todos los cas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rectriz de Riva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ice relación con el grado de rivalidad y afán de diferenciación entre los competidores de un mercado dado, y no es una consideración significativa adicional al MR (EC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nsibilidad de las ventas o producción de la firma a los cambios en las ventas o los precios de sus rivales y a los ajustes en la conducta de los comprado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rectriz Estructur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 de oferta y volúmenes de venta individuales, donde se consideran competidores dados (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3 = Poder de Merca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¡Ojo con las Participaciones de Mercado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articipaciones de Mercado (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 Share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ituyen un elemento suficiente (sí necesario y presuntivamente aplicable), para determinar una P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Se sancionan </a:t>
            </a: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Per Se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ningún caso una posición dominante implica un ilícito antimonopólico en sí, ya que lo imputable es el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abus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que de ésta se ha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coa (Juez H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ntencia T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° 26 Taba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° 27 Insumos Producción de Azú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deraciones económicas (Objeto de ataque) y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e proces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lo impi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incipio de Culp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5:07:44Z</dcterms:created>
  <dc:creator>Equipo Docente</dc:creator>
  <dc:description/>
  <dc:language>en-US</dc:language>
  <cp:lastModifiedBy>Sebastian Spolmann</cp:lastModifiedBy>
  <dcterms:modified xsi:type="dcterms:W3CDTF">2007-10-09T20:39:43Z</dcterms:modified>
  <cp:revision>30</cp:revision>
  <dc:subject/>
  <dc:title>20072_D° Económico_Libre Competencia_6</dc:title>
</cp:coreProperties>
</file>