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F45-80C7-4A6C-A0A9-AEE32DF9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AF2-E8FF-4C1A-8A55-BC9AF918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9EB-62C1-42E0-8CD6-797DEF38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949-F6B7-4AD7-87E4-0B840994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EC4D-B971-4DE2-97AD-D257D6FE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8C9D-CC89-431D-91A4-6BA34C8D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301A-174C-494F-BCF4-A6D5160C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7E4D-0E95-49FE-80B7-D7CA56EE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6732-083E-433B-B9C7-8461AD34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01C4-08B3-4A37-B26E-8A11BEF9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A6E5-D945-427E-A906-14926C3B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189-8BCD-4EC9-A8E1-F48A866D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D9D6-3F68-48E7-A7A7-9634E0AC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13E2-6FCE-4B1C-9B02-CF5A0DB0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97A4-B429-4F3A-9F26-391CA6F4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4B3E-5912-4E56-9F41-C853099B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CBD9-FD19-4B81-8B20-A35641DD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863-E33E-4D33-B270-C403BCF3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41C-8CF3-47B8-8910-7DC4CAAC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5FA-3E75-44B4-9A03-F4C3E715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094-771A-4752-B53A-FBB3ABCA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4C8-1A59-4A88-A9A3-4E38186C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688-167C-476B-9CAC-994DEBF4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FE0-27C7-4FEE-9847-7A140255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AAF2-129B-4A4B-AC27-D483E4B565F0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2D62-5DBE-452B-A6E0-30BE1B2E6C54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La Posición Dominante</a:t>
            </a:r>
            <a:br>
              <a:rPr sz="5000"/>
            </a:b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(Poder de Mercado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¿Deber de comportamiento?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margen de movimiento en las (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mis)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decisiones de producción es jurídicamente aceptable y líci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Puedo rediseñar, negociar, reducir 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Debo tomar dichas decisiones como prácticas exclusionarias o predator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D en función de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las características del Merc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Puedo discriminar e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/ umbral requerido de comportamiento según el tamaño y la importancia del merca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La función “Bienestar del Consumidor” debe ser comparada con los costos terciarios del sist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stos terci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5450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26920" y="476280"/>
            <a:ext cx="7561440" cy="5692680"/>
            <a:chOff x="826920" y="476280"/>
            <a:chExt cx="7561440" cy="56926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826920" y="476280"/>
              <a:ext cx="7561440" cy="56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826920" y="476280"/>
              <a:ext cx="7561440" cy="56926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 algn="ctr">
                <a:spcBef>
                  <a:spcPts val="751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aracteriz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Posición Dominante (PD), también denominada Poder de Mercado 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arket Powe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 es el último estadio procesal dentro de los criterios de imputación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utación: MR + BE + PD (al m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 embargo, comúnmente se utiliza también en ilícitos de parte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proxim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remos que una PD es la capacidad de alterar el precio, calidades o condiciones de comercialización (cláusulas contractuales), de los bienes o servicios producidos por una empresa, sin sufrir mayores costos financieros, o a lo menos, proporcionalmente menores a la magnitud del cambio. (Ej. +10% = - 10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D, EP-CD e Inelastic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Cómo se determina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ndo el MR + las BE, además de consideraciones adicionales (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U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ha operación nos proveerá la situación hipotética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. Monopolio + Bajas BE +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de “X” = Directric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irectriz de Funcion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empeño d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Se desvía de la norma competitiv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tilidades netas vs. Promedio. (¿Indicativo eficiente?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Mg (¿Por qué podría no ser una solución preferible?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Resulta recomendable utilizar esta directriz en todos los cas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irectriz de Riva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ice relación con el grado de rivalidad y afán de diferenciación entre los competidores de un mercado dado, y no es una consideración significativa adicional al MR (ECD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nsibilidad de las ventas o producción de la firma a los cambios en las ventas o los precios de sus rivales y a los ajustes en la conducta de los comprado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irectriz Estructur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 de oferta y volúmenes de venta individuales, donde se consideran competidores dados (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=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=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= 3 = Poder de Mercad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¡Ojo con las Participaciones de Mercado!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Participaciones de Mercado (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 Share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ituyen un elemento suficiente (sí necesario y presuntivamente aplicable), para determinar una P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Se sancionan </a:t>
            </a: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Per Se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ningún caso una posición dominante implica un ilícito antimonopólico en sí, ya que lo imputable es el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abus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que de ésta se ha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coa (Juez H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ntencia T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° 26 Taba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° 27 Insumos Producción de Azú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ideraciones económicas (Objeto de ataque) y 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e proces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lo impi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incipio de Culp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5:07:44Z</dcterms:created>
  <dc:creator>Equipo Docente</dc:creator>
  <dc:description/>
  <dc:language>en-US</dc:language>
  <cp:lastModifiedBy>Sebastian Spolmann</cp:lastModifiedBy>
  <dcterms:modified xsi:type="dcterms:W3CDTF">2007-10-09T20:39:43Z</dcterms:modified>
  <cp:revision>30</cp:revision>
  <dc:subject/>
  <dc:title>20072_D° Económico_Libre Competencia_6</dc:title>
</cp:coreProperties>
</file>