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E14-9611-4F7B-B157-0EC2A0BF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BF5-6CCB-4D53-A2D1-CF1D120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2C5-6C8E-4022-ADB1-A139EC3D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340-5407-4AEC-A36D-3D01A8DE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BF6-8484-486B-9053-BBEBB19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1E22-1622-4D2B-B33A-56281D1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6CD-18A8-4999-8A65-4F33ACA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FCBE-F136-458F-B4CF-F8453AF0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6CF3-DCB3-4DBF-93A5-481EF51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BB0E-C20B-4EB3-B13F-E399AD3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6009-4E00-4B08-8D12-92C2BC4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6A8-C171-4FCD-B248-6649459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F309-B649-45C0-A0E5-18C5A71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101-B23C-42A0-BF73-32FDA05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120-5BDC-45E2-8E9C-6C05F5A8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C4F3-A2D7-4A6A-98DE-8BB434EC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1E6C-F8D4-4F62-B517-E57B78C3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283-5357-443F-A520-0BE2E4A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2C6-9BAC-4D71-8AA2-4F9C127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66A-76BD-4E3E-98BF-7C8A3E7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8B8-2D2B-4D03-9F2B-FA44E389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B6C-4F01-4D39-8A61-3B44C3E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AEE-C6FD-49BA-8D9D-DF22071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0E7-E9AB-4FFE-A145-D13103D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A8F-0C7B-4702-B186-896CB673AA0D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B55-25B3-4DB6-A877-87D65A753F7D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081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Barreras a la Entrad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. Sutton: Si 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independiente de las venta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e realizo como empresa ¿Qué tipo de costo 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 es un Costo Fijo en que se incurre una sola vez en las industrias más grandes y en aquellas en que esta estrategia es especialmente influyente ¿tenderían a ser concentradas o desconcentra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de el punto de vista de los Oligopol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a lealtad debe ser contrarrestada por los potenciales competidores, que enfrentarán una desventaja inicial, y por consiguiente una necesidad de incurrir en mayores gastos para introducir su bien o servicio. Ej. Bebidas Gase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Debe ser esto impu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ormulan fuertes reparos a dicha ide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”Deben transitar por donde otros lo han hecho”; “Esto genera eficiencias y beneficia al consumid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FU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e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ub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mecanismo retórico típicamente exclusion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pela a la cautividad de un consumidor y su grado de aversión al 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e sancionarse en sede de libre competenc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rimientos de Capit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ork: 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Los requisitos de capital existen y ciertamente inhiben la entrada -tanto como el talento es un requisito existente para jugar football profesional e inhibe la entrada”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o grafica la distinción entre BE Artificiales y Na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si el mercado sigue siendo atractivo debido a las rentas sobrenaturales, los costos asociados a la obtención de capital, siguen siendo menores a los beneficios de su utilización. (Papel de los financistas y los capitalist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reras Legales a la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imientos de Capital + Barreras Legales a la 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muy presentes en nuestras legislaciones econó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.: Art. 50 Ley General de Banc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El monto del capital pagado y reservas de un banc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podrá ser inferi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l equivalente de 800.000 unidades de fomento (…)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xiste poco acuerdo sobre el nivel de imputación a conside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Debo prestar los activos de mi empresa, o sub-utilizarlos, sólo porque existen potenciales competidores que no pueden hacer frente a dicha cuest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la respuesta, primariamente -y salvo en casos de prácticas de exclusión que se sancionan bajo requisitos de la parte especial- es que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Barreras a la Entrada (“BE”) ocupan un lugar estratégico en la teoría antimonopol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veremos, no existe una noción unívoca de la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s sobre CMg = ¿Nuev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ontestability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socia a  mercados altamente elá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cionalmente, las BE se han asociado a ciertas condiciones de un mercado relevante dado, que desde un punto de vista económic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recen sumamente el ingreso de nuevos competidores al merc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, por tanto, íntimamente ligado a lo que denominamos “Competencia Potencial” e inclusive a las EC de la Ofert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ciera ser, a lo menos intuitivamente, que las BE implican un desincentivo al cumplimiento -no sólo del tercer requisito de un modelo de competencia perfecta- sino también del pri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mos que el segundo requisito también puede ser incumpl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o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mos que una BE es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costos financieros derivados de variables legales, naturales o privadas que implican un desplazamiento de los activos de una empresa que potencialmente puede ingresar a un mercado relevante, a otro mercado (o a ninguno en particular), debido al desincentivo que implica el asumir tales co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es de Barreras de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variadas taxonom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s.: Barreras Legales, Financieras,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tilizaremos la formulación más restrictiva de B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Naturales vs. Artifi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4 Fuentes prob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Bloqueo al ac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Economías de Esca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equisitos de Capi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Diferenciación de Produ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Artifi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todos aquellos actos en que incurre una empresa ya instalada en el mercado relevante, tendientes a impedir, o a lo menos a desincentivar, el ingreso de potenciales compet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lacionan íntimamente con delitos de la parte especial agrupados bajo “prácticas exclusionar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Natur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características del Mercado Relevante de 2º Grado, no imputables a las empresas ya instaladas en él, pero que implican costos financieros importantes (Ej. Regulaciones Legales, Monopolios Legales, Costos Hundi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uede ser que una ley específica promueva bajas barreras a la entr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iferenciación de Productos y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Marketing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atégic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actuales se caracterizan por una fuerte estrategia comunicacional destinada a diferenciar un bien de otro (generar una mayor inelasticidad precio demanda al aumentar la disposición a pagar por é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stas generan un plusvalor, medido en términos de votos monetarios (lealtad), que los potenciales entrantes deberán comba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s de marcas (¿catalizado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3:10Z</dcterms:created>
  <dc:creator>Equipo Docente</dc:creator>
  <dc:description/>
  <dc:language>en-US</dc:language>
  <cp:lastModifiedBy>Sebastian Spolmann</cp:lastModifiedBy>
  <dcterms:modified xsi:type="dcterms:W3CDTF">2007-10-09T20:37:58Z</dcterms:modified>
  <cp:revision>48</cp:revision>
  <dc:subject/>
  <dc:title>Diapositiva 1</dc:title>
</cp:coreProperties>
</file>