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832-63CB-4281-87B4-6852C0F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C04-EF7A-4D1A-B531-D9A7CE7D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F7E-BD2E-4245-8C08-8A46BCB9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96F-6B22-410A-B8E1-7C2F506D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4C1A-42A1-49DB-8CF3-F7384B2E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DA24-D55C-45BB-B98B-7313845F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D977-2AFA-40AB-B216-9CBDBD2D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F00A-5C8D-4FC9-9BB5-56D8473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B2EB-A203-43BA-A9BA-752EA528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179B-CC1D-4F11-8E34-87F7DF6E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75DB-375C-497B-AB07-FB2B2E0A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7B4-B3E2-400F-8B1B-090A88FA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68EE-E1E4-45B2-B22A-511AF9C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7A9-254D-435A-A5D6-A94D966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7730-1562-40FC-A203-AC8F43F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CC58-9D44-4B61-91CB-6F6294E1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F0D-7DA8-401E-AD44-1AFC866E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7DC-C0B5-4265-BF80-46220295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18B-303E-43AB-B84E-13185DCB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9A4-7353-48D8-8FF3-3D2EFDE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512-8DE4-4265-9671-B347A22B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963-EC62-4F18-A078-3AD592B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EDD-D266-4BB1-8AF6-7F1C28A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8B2-D9F5-41E9-9733-D42DA91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DA62-9198-4FB7-981A-4B3EE4E4EE5C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404-E14E-4893-AF55-CC6870D3067E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081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Barreras a la Entrad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. Sutton: Si 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independiente de las venta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e realizo como empresa ¿Qué tipo de costo 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 es un Costo Fijo en que se incurre una sola vez en las industrias más grandes y en aquellas en que esta estrategia es especialmente influyente ¿tenderían a ser concentradas o desconcentrad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de el punto de vista de los Oligopol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a lealtad debe ser contrarrestada por los potenciales competidores, que enfrentarán una desventaja inicial, y por consiguiente una necesidad de incurrir en mayores gastos para introducir su bien o servicio. Ej. Bebidas Gase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Debe ser esto imput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ormulan fuertes reparos a dicha ide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”Deben transitar por donde otros lo han hecho”; “Esto genera eficiencias y beneficia al consumido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FU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e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ub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mecanismo retórico típicamente exclusiona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pela a la cautividad de un consumidor y su grado de aversión al camb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e sancionarse en sede de libre competenc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rimientos de Capit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ork: 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Los requisitos de capital existen y ciertamente inhiben la entrada -tanto como el talento es un requisito existente para jugar football profesional e inhibe la entrada”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o grafica la distinción entre BE Artificiales y Na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si el mercado sigue siendo atractivo debido a las rentas sobrenaturales, los costos asociados a la obtención de capital, siguen siendo menores a los beneficios de su utilización. (Papel de los financistas y los capitalist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reras Legales a la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imientos de Capital + Barreras Legales a la Entr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muy presentes en nuestras legislaciones econó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.: Art. 50 Ley General de Banco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El monto del capital pagado y reservas de un banc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podrá ser inferi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l equivalente de 800.000 unidades de fomento (…)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xiste poco acuerdo sobre el nivel de imputación a conside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Debo prestar los activos de mi empresa, o sub-utilizarlos, sólo porque existen potenciales competidores que no pueden hacer frente a dicha cuest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la respuesta, primariamente -y salvo en casos de prácticas de exclusión que se sancionan bajo requisitos de la parte especial- es que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Barreras a la Entrada (“BE”) ocupan un lugar estratégico en la teoría antimonopol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veremos, no existe una noción unívoca de las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s sobre CMg = ¿Nuev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ontestability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socia a  mercados altamente elá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cionalmente, las BE se han asociado a ciertas condiciones de un mercado relevante dado, que desde un punto de vista económic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recen sumamente el ingreso de nuevos competidores al merc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, por tanto, íntimamente ligado a lo que denominamos “Competencia Potencial” e inclusive a las EC de la Ofert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ciera ser, a lo menos intuitivamente, que las BE implican un desincentivo al cumplimiento -no sólo del tercer requisito de un modelo de competencia perfecta- sino también del prim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mos que el segundo requisito también puede ser incumpl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epto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mos que una BE es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junto de costos financieros derivados de variables legales, naturales o privadas que implican un desplazamiento de los activos de una empresa que potencialmente puede ingresar a un mercado relevante, a otro mercado (o a ninguno en particular), debido al desincentivo que implica el asumir tales cos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es de Barreras de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variadas taxonom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s.: Barreras Legales, Financieras, Na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tilizaremos la formulación más restrictiva de B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Naturales vs. Artifi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4 Fuentes prob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Bloqueo al ac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Economías de Esca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equisitos de Capi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Diferenciación de Produ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Artifi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todos aquellos actos en que incurre una empresa ya instalada en el mercado relevante, tendientes a impedir, o a lo menos a desincentivar, el ingreso de potenciales competi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lacionan íntimamente con delitos de la parte especial agrupados bajo “prácticas exclusionar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Natur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características del Mercado Relevante de 2º Grado, no imputables a las empresas ya instaladas en él, pero que implican costos financieros importantes (Ej. Regulaciones Legales, Monopolios Legales, Costos Hundi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uede ser que una ley específica promueva bajas barreras a la entr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iferenciación de Productos y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Marketing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atégico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ercados actuales se caracterizan por una fuerte estrategia comunicacional destinada a diferenciar un bien de otro (generar una mayor inelasticidad precio demanda al aumentar la disposición a pagar por é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stas generan un plusvalor, medido en términos de votos monetarios (lealtad), que los potenciales entrantes deberán comba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s de marcas (¿catalizado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3:33:10Z</dcterms:created>
  <dc:creator>Equipo Docente</dc:creator>
  <dc:description/>
  <dc:language>en-US</dc:language>
  <cp:lastModifiedBy>Sebastian Spolmann</cp:lastModifiedBy>
  <dcterms:modified xsi:type="dcterms:W3CDTF">2007-10-09T20:37:58Z</dcterms:modified>
  <cp:revision>48</cp:revision>
  <dc:subject/>
  <dc:title>Diapositiva 1</dc:title>
</cp:coreProperties>
</file>