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7294B-2C14-47F3-991B-66C4AB682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EA801-6979-47F2-9CD6-B9F05C68F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67279-0346-43AE-A0F5-789D5CE7B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33ADD-654B-440C-A393-760AB00C2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62455-D203-4342-8A6F-03F2570EC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DD81C-37F6-49A1-BB04-7BEF76ED7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F6879-F8E4-427D-8384-ADC2295CB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71951-C7FA-419E-BC92-D1B9367FA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68360-F711-4BF8-A003-F0225CAD9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7C0C5-9DC2-4848-B879-1555CC08D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93373-D9B2-4324-B9FF-C2C618825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C4521-04AE-46EC-91EE-CB762AA77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5AA46-97F9-48FB-9AE5-380345107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E4C0F-0DC6-460C-A10C-19DBA30FC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9CD5D-FD9B-497E-AC55-C3E417B48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7BAA4-121B-4CB2-90C1-D7EAB0A94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A2BFC-137A-4E46-8896-25DF9CA59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E3D31-6B01-476C-9B52-350AA3426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28B9D-89A1-495C-B2AD-5664FC190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9C2ED-540A-4B99-86D9-A432DF4E8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64706-5E46-4A92-BE14-FA219D81B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0F9A6-5D07-4CA6-A79B-3019D1937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DB3CB-9E49-4CA9-840E-51B9A96F5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50657-FE6F-41F2-A698-76F23204E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BDF9-6006-4D0F-8A1E-D6BA39CB34B7}"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7E61-163A-448D-BA3C-EBB8F98D35E4}"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precio-cruzada de la 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u="sng">
                <a:solidFill>
                  <a:srgbClr val="000000"/>
                </a:solidFill>
                <a:uFillTx/>
                <a:latin typeface="Arial"/>
              </a:rPr>
              <a:t>referirnos a un mercado</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r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 </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Equipo Docente</dc:creator>
  <dc:description/>
  <dc:language>en-US</dc:language>
  <cp:lastModifiedBy>Sebastian Spolmann</cp:lastModifiedBy>
  <dcterms:modified xsi:type="dcterms:W3CDTF">2007-09-10T16:02:40Z</dcterms:modified>
  <cp:revision>27</cp:revision>
  <dc:subject/>
  <dc:title> El Mercado Relevante</dc:title>
</cp:coreProperties>
</file>