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836A2-E995-4612-8571-F96898F88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4FE27-EAA2-46F8-81F0-815AACA93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7C607-0483-49FF-B5F8-4526E425E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677F2-D8E4-40C1-9B74-E21913533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62F5F-C3C4-4FD2-ADBA-C508ED2C4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00E39-082F-4EBC-BD82-16360790D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4B353-0C08-439A-A561-C27562275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DA896-AE8E-4D25-90AA-2E6E8ADEF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9919C-E4A1-47E1-9B46-9BDFB2AA6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87699-4C43-4773-8FCE-AC5801D90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54DF8-9071-45C1-BB6A-CB2D338D3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6AC5E-9A89-4C76-B6A3-9F348FB11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3D1DF-9022-4610-A778-A3169FF71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F4D1C-1F0C-48F7-840E-B583010D1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59311-2567-4CAB-BFF3-D6E7B475A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30B22-94EB-40E1-AEA8-4C27E0435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EA27C-BB94-4D12-AA63-3BE4A2D3D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3EE70-FB27-44DC-8B8F-6D63CEC71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51680-0D96-4E3F-A166-DFE7F4BF8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71C7E-01A1-4521-974B-A40B083AA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6242D-D750-4B3D-8B20-F20076A16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23C6E-EFE5-4697-9A67-600ABCBEC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4838E-D827-4545-B947-7C760484C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A8A09-3458-4A6E-A391-B6483076E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C9E1-3250-463F-A460-B692C4C95B51}"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09F3-789C-48A6-B9E2-F5CDE527674A}"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precio-cruzada de la 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u="sng">
                <a:solidFill>
                  <a:srgbClr val="000000"/>
                </a:solidFill>
                <a:uFillTx/>
                <a:latin typeface="Arial"/>
              </a:rPr>
              <a:t>referirnos a un mercado</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r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 </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Equipo Docente</dc:creator>
  <dc:description/>
  <dc:language>en-US</dc:language>
  <cp:lastModifiedBy>Sebastian Spolmann</cp:lastModifiedBy>
  <dcterms:modified xsi:type="dcterms:W3CDTF">2007-09-10T16:02:40Z</dcterms:modified>
  <cp:revision>27</cp:revision>
  <dc:subject/>
  <dc:title> El Mercado Relevante</dc:title>
</cp:coreProperties>
</file>