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14E9-C918-40A3-8E3F-3EA59B5AB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AF52-FC2E-4359-BB6A-DC874E695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6C3F-AAA9-414D-9E21-731CE0FC9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69DE-75E7-48D2-9707-664354289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AD35F-13C4-418E-8B22-C6BCC9640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6D0C1-EB87-4266-83B5-39BD27270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329B6-F2DD-4E85-A9F3-A1EAB0A27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5F5BA-9714-48A7-AC09-8577BA796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19876-D57C-43FD-8F05-F862D2095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4B9F1-5B91-4311-8BC1-D0EF3DB08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B5B5C-9858-43B0-91FB-AAF1FDE1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2C3D-35CB-4215-A3F1-7AA66D0B3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2C3E2-C002-49E7-892D-7236A364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BBA21-F4EE-45F3-83EF-18D87B86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BD37C-78A3-4994-AA96-0A776EDE7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B6B38-9A53-4C47-9F23-FBA320E36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0FB63-8261-49A9-8223-ABEF68D26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DE0A8-D775-44DF-9037-FDB324679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AADAF-7B44-4118-800F-5498778C9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937F4-2E83-464C-BAAB-5485FFC27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9926E-1F03-46D7-B23F-EE82D4607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0BB89-1272-4502-8981-CC9C5DB62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99F6-0723-4D01-A986-89FECE80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62B1A-9957-4F8F-B9F2-A8961733E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7FE6E-CEE3-422A-816B-30E8B234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E723E-B35C-49C4-966E-6961C8EF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50E5B-17EC-479E-9FD3-1F446CAF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25953-2EF1-499B-9699-78E4A8C03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004AA-EF99-457B-8E3B-15DCD916E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C3822-FCFC-499E-8A21-8B9F1231D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403B-BC59-4DF0-926A-B85270878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FAC2-0F25-4EDF-AFBC-2422F7BD5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E570-58DB-42BD-AE81-8A48559E7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D66D-8EC4-49F4-BBF3-7FF8CEFE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362C-F653-4149-9993-B574D110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B4BD-978D-4DA8-8639-0E0EFC03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2DCFB-44F2-43A2-A4AD-DE38C195D7BA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B939E-2943-43E3-B051-A338E1D8AF53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78994-EE42-43B4-AD98-2531146BC173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600" spc="-1" strike="noStrike">
                <a:solidFill>
                  <a:srgbClr val="006633"/>
                </a:solidFill>
                <a:latin typeface="Book Antiqua"/>
              </a:rPr>
              <a:t>TEORÍA DE JUEGOS: Organización Industrial. </a:t>
            </a:r>
            <a:r>
              <a:rPr b="0" lang="es-ES" sz="4600" spc="-1" strike="noStrike">
                <a:solidFill>
                  <a:srgbClr val="006633"/>
                </a:solidFill>
                <a:latin typeface="Book Antiqua"/>
              </a:rPr>
              <a:t>Aplicación a los oligopolios.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Información Completa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341440" y="1773360"/>
            <a:ext cx="4175280" cy="34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800" spc="-1" strike="noStrike">
                <a:solidFill>
                  <a:srgbClr val="006633"/>
                </a:solidFill>
                <a:latin typeface="Garamond"/>
                <a:ea typeface="ＭＳ Ｐゴシック"/>
              </a:rPr>
              <a:t>¿Es así siempre?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132000" y="2206800"/>
            <a:ext cx="28083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6633"/>
                </a:solidFill>
                <a:latin typeface="Garamond"/>
              </a:rPr>
              <a:t>Juegos Repetid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¿Y si se juega varias vec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¿Es = que sea un número fijo de veces a uno indefinido? (“Juego de la Agencia”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Se desbarata el jueg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Axelro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Ley del Talió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Teoría Económica de los Contratos.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6633"/>
                </a:solidFill>
                <a:latin typeface="Garamond"/>
              </a:rPr>
              <a:t>¿Y qué … tiene que ver con los Oligopolios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3 estructuras básicas de mercad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Bienes Idéntic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Único Bi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Bienes Diferenciad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6633"/>
                </a:solidFill>
                <a:latin typeface="Garamond"/>
              </a:rPr>
              <a:t>Oligopoli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Mercado en que pocas empresas están en condiciones de suministrar un mismo bien, pero sin que la diferencia sea imperceptible, como lo sería en el caso de competencia perfect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Pocas empresas. Bien “casi” homogéneo, con tendencia a la elasticida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¿Serán Precio-Aceptantes? OPEP, carrera armamentista, guerra publicitari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6633"/>
                </a:solidFill>
                <a:latin typeface="Garamond"/>
              </a:rPr>
              <a:t>Oligopoli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Garamond"/>
              </a:rPr>
              <a:t>Dado que hay pocos vendedores (o compradores), la decisión de uno, influirá sustancialmente en los beneficios de los demás competidores (jugadores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aramond"/>
              </a:rPr>
              <a:t>Farmacias: 20% descuento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aramond"/>
              </a:rPr>
              <a:t>Caso Isapres: Planes 100/80; 90/70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Garamond"/>
              </a:rPr>
              <a:t>Se genera situación de interdependenci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aramond"/>
              </a:rPr>
              <a:t>¿y los Costos de Transacción? o …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0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i="1" lang="es-CL" sz="3000" spc="-1" strike="noStrike">
                <a:solidFill>
                  <a:srgbClr val="000000"/>
                </a:solidFill>
                <a:latin typeface="Garamond"/>
              </a:rPr>
              <a:t>¡¿Qué importa el costo?!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6633"/>
                </a:solidFill>
                <a:latin typeface="Garamond"/>
              </a:rPr>
              <a:t>Oligopolio y Competencia Monopolístic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Diferenciación del producto (¿?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Interrelación entre empresas (¿?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Disyuntiva entre cooperación e interés person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Colusión + Cooperación = Beneficios Monopólic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aramond"/>
              </a:rPr>
              <a:t>… </a:t>
            </a:r>
            <a:r>
              <a:rPr b="0" lang="es-ES" sz="2000" spc="-1" strike="noStrike">
                <a:solidFill>
                  <a:srgbClr val="000000"/>
                </a:solidFill>
                <a:latin typeface="Garamond"/>
              </a:rPr>
              <a:t>¿Y si no se cooper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600" spc="-1" strike="noStrike">
                <a:solidFill>
                  <a:srgbClr val="006633"/>
                </a:solidFill>
                <a:latin typeface="Garamond"/>
              </a:rPr>
              <a:t>Mankiw y el dilema del agua. </a:t>
            </a:r>
            <a:br>
              <a:rPr sz="4600"/>
            </a:br>
            <a:r>
              <a:rPr b="0" lang="es-CL" sz="4600" spc="-1" strike="noStrike">
                <a:solidFill>
                  <a:srgbClr val="006633"/>
                </a:solidFill>
                <a:latin typeface="Garamond"/>
              </a:rPr>
              <a:t>Los duopolios.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erdillo Ltda. (C) y Perrito S.A. (P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Ambos poseen acceso exclusivo a la extracción de agua de un poz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Supongamos demanda de pendiente negativa y costos de producción = 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539640" y="34920"/>
          <a:ext cx="8280360" cy="6539040"/>
        </p:xfrm>
        <a:graphic>
          <a:graphicData uri="http://schemas.openxmlformats.org/drawingml/2006/table">
            <a:tbl>
              <a:tblPr/>
              <a:tblGrid>
                <a:gridCol w="2760840"/>
                <a:gridCol w="2759040"/>
                <a:gridCol w="2760480"/>
              </a:tblGrid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tidad (Lt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o ($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= UT = 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6633"/>
                </a:solidFill>
                <a:latin typeface="Book Antiqua"/>
              </a:rPr>
              <a:t>¿Qué es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 u="sng">
                <a:solidFill>
                  <a:srgbClr val="000000"/>
                </a:solidFill>
                <a:uFillTx/>
                <a:latin typeface="Book Antiqua"/>
              </a:rPr>
              <a:t>Teoría de Juegos:</a:t>
            </a:r>
            <a:r>
              <a:rPr b="0" lang="es-ES" sz="3000" spc="-1" strike="noStrike">
                <a:solidFill>
                  <a:srgbClr val="000000"/>
                </a:solidFill>
                <a:latin typeface="Book Antiqua"/>
              </a:rPr>
              <a:t> Teoría de la toma de decisiones o comportamiento de los individuos en situaciones estratégic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Book Antiqua"/>
              </a:rPr>
              <a:t>¿Por qué nac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Book Antiqua"/>
              </a:rPr>
              <a:t>Uso Descriptivo o Normativ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¿Qué hará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Garamond"/>
              </a:rPr>
              <a:t>Situación Ideal = 30 Lt. c/u = $¿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Garamond"/>
              </a:rPr>
              <a:t>C: “Pero si vendo 10 Lt. Más, ¿cuánto gano?” “¿Me importa que disminuya la UT del mercado?”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Garamond"/>
              </a:rPr>
              <a:t>P: “Pero si vendo 10 Lt. Más, ¿cuánto gano?” “¿Me importa que disminuya la UT del mercado?”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Garamond"/>
              </a:rPr>
              <a:t>Conclusión: Si se producen 80 Lt., el precio baja a $4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¿Qué hará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En el supuesto de Cooperación = ¿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En el supuesto de No Cooperación = ¿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¿Cuándo C y E venden a precio eficiente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¿Por Qué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Entonces…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Garamond"/>
              </a:rPr>
              <a:t>Aunque los duopolistas maximizadores de beneficios terminen por no cooperar y marginen menos c/u, igualmente no se alcanza Pareto (Kaldor-Hicks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aramond"/>
              </a:rPr>
              <a:t>Sentencia Nº 7/2004, Mercado de la Lech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aramond"/>
              </a:rPr>
              <a:t>Sentencia N° 57/2007, Isapr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aramond"/>
              </a:rPr>
              <a:t>Sentencia N° 38-2006. Revocada por Excma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Garamond"/>
              </a:rPr>
              <a:t>¿Se aplica lo mismo a los oligopolistas en sentido estrict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FI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¿Debe el Derecho antitrust encargarse de los oligopolio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Book Antiqua"/>
              </a:rPr>
              <a:t>Conceptos Básic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Book Antiqua"/>
              </a:rPr>
              <a:t>Jueg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Book Antiqua"/>
              </a:rPr>
              <a:t>Jugadores. Actuaciones de individuos en número </a:t>
            </a: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ＭＳ Ｐゴシック"/>
              </a:rPr>
              <a:t>&gt; 1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Book Antiqua"/>
              </a:rPr>
              <a:t>Estrategias de cada un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Book Antiqua"/>
              </a:rPr>
              <a:t>Recompensas (Pagos) por cada movimient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Book Antiqua"/>
              </a:rPr>
              <a:t>Esencia = Las estrategias de los demás jugadores influirán en nuestras decis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6633"/>
                </a:solidFill>
                <a:latin typeface="Book Antiqua"/>
              </a:rPr>
              <a:t>Dilema del Prisioner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Book Antiqua"/>
              </a:rPr>
              <a:t>La policía atrapa a dos ladrone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Book Antiqua"/>
              </a:rPr>
              <a:t>Chacalito y Malul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Book Antiqua"/>
              </a:rPr>
              <a:t>Asalto al banco = 1 año; Homicidio = 20 añ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Book Antiqua"/>
              </a:rPr>
              <a:t>La policía los atrapó saliendo del banco, pero hay sospecha de un homicidio anterio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Book Antiqua"/>
              </a:rPr>
              <a:t>El que confiesa = libre, 20 años al ot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Book Antiqua"/>
              </a:rPr>
              <a:t>Si ambos confiesan = 8 años para cada un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Book Antiqua"/>
              </a:rPr>
              <a:t>Si ambos callan = 1 año para cada un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6633"/>
                </a:solidFill>
                <a:latin typeface="Book Antiqua"/>
              </a:rPr>
              <a:t>Dilema del Prisioner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2027160"/>
                <a:gridCol w="2303640"/>
                <a:gridCol w="2022480"/>
                <a:gridCol w="1876320"/>
              </a:tblGrid>
              <a:tr h="1133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32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Malul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Estrategia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Confies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Silenci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3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Chacalit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Confies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8,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20,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Silenci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0,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Book Antiqua"/>
                          <a:ea typeface="Arial"/>
                        </a:rPr>
                        <a:t>1,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6633"/>
                </a:solidFill>
                <a:latin typeface="Book Antiqua"/>
              </a:rPr>
              <a:t>Dilema del Prisioner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¿Qué les convien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¿Qué es lo mejor que puede hacer cada un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Estrategia Dominante (ED): Movida óptima para un jugador, independiente de lo que los otros haga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6633"/>
                </a:solidFill>
                <a:latin typeface="Garamond"/>
              </a:rPr>
              <a:t>Equilibrio de Nash </a:t>
            </a: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(EqN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Situación en que los agentes económicos (jugadores) que interactúan entre sí eligen cada uno su mejor estrategia, dadas las estrategias que han elegido los demá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Garamond"/>
              </a:rPr>
              <a:t>¿EqN – ED – Paret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6633"/>
                </a:solidFill>
                <a:latin typeface="Garamond"/>
              </a:rPr>
              <a:t>Y el dilema es…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Garamond"/>
              </a:rPr>
              <a:t>¿Cooperar o No Coopera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Tensión entre el maximizador de utilidades (egoísmo) vs. La cooperación que mejora la situación de cada uno de los participa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6633"/>
                </a:solidFill>
                <a:latin typeface="Garamond"/>
              </a:rPr>
              <a:t>Tipos de jueg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Juegos de Suma Cero (Ajedrez, Go, Pok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Juegos de Suma No Cero (Teoría de la Negociación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Juegos Cooperativos (cumplimiento exigible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Juegos No Cooperativos (prisionero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Juegos de Información Completa (= info relevante, conoce estrategias y recompensas de los otros, pero no las accione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3T02:39:29Z</dcterms:created>
  <dc:creator>Equipo Docente</dc:creator>
  <dc:description/>
  <dc:language>en-US</dc:language>
  <cp:lastModifiedBy>Sebastian Spolmann</cp:lastModifiedBy>
  <dcterms:modified xsi:type="dcterms:W3CDTF">2007-08-19T23:33:13Z</dcterms:modified>
  <cp:revision>59</cp:revision>
  <dc:subject/>
  <dc:title>Diapositiva 1</dc:title>
</cp:coreProperties>
</file>