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344-C720-4BB1-AB5B-EBDE0550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583-42E9-4457-99AB-C7C00436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499-74FD-428E-910D-B42CDBB6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585-A25F-4D87-858C-421B9A17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D0D0-FFBB-4FD1-9EF3-FFE93ED7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395B-7A10-4CA9-8385-B59DEEEC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561C-2232-4D3B-8388-54713F11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2694-6F8A-4F84-AD26-4E2DC187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FBFA-8188-4E9F-BEAE-6F89138B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CFD9-99B2-4B7A-B718-90462967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BD74-E3BF-4C75-9B18-ABF635B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4BC-2423-4435-BF9F-7E8A6BC8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D690-231E-4B47-B844-D05A589C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5730-2F6C-41FC-9E8E-2CFFD33A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8CAF-C12B-4F76-9C7E-05056BAE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EBDE-EB7F-48AF-BDAE-941FEE21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D5AC-8E28-4FA0-BA6B-D78C8455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1BFA-4101-403F-A9CD-0D549BE6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44EB-B63F-45A2-BCAB-55E6508B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A86A-4F9E-409C-A85D-316ACC64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A7615-EB57-4B74-8786-8ECBEAF5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307D-3796-4B0E-A16D-0A5EB668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116-89ED-4ED7-AFFC-21B4BF55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DCE06-F023-470F-9096-9E621743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60BBF-F318-4AB7-B567-7B89EC53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E67F-3381-4ED9-968A-1CCF73A6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B46A-6F53-4E60-A503-6E65848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D60E-6349-4673-9556-88AF194A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658F-4C46-4A0C-941E-B3FA796F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9D6A-1EFA-4ADE-9AF7-E4746275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CB3-099E-402B-AA13-0B7CFA1B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6AE-55F7-43B4-8538-8D16CF76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E8D-C816-48DD-BE1B-9FA312C7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35A-2403-440C-B39D-8948E47F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F53-7FD5-40CE-B5DE-B9E6FA70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BDE-BE7C-4E7A-A805-B4847D93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2C10-934D-4B4C-A100-60977BEE0CA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43D5-4364-4608-BBDD-D612B8B7EED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F96B-C38C-42B0-BA49-70FEDF8F11D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6633"/>
                </a:solidFill>
                <a:latin typeface="Book Antiqua"/>
              </a:rPr>
              <a:t>TEORÍA DE JUEGOS: Organización Industrial. </a:t>
            </a:r>
            <a:r>
              <a:rPr b="0" lang="es-ES" sz="4600" spc="-1" strike="noStrike">
                <a:solidFill>
                  <a:srgbClr val="006633"/>
                </a:solidFill>
                <a:latin typeface="Book Antiqua"/>
              </a:rPr>
              <a:t>Aplicación a los oligopolios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formación Completa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1440" y="1773360"/>
            <a:ext cx="41752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¿Es así siempre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2206800"/>
            <a:ext cx="2808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Juegos Repetid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Y si se juega varias vec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Es = que sea un número fijo de veces a uno indefinido? (“Juego de la Agencia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desbarata el ju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xelr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ey del Tal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Teoría Económica de los Contrato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¿Y qué … tiene que ver con los Oligopoli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3 estructuras básicas de merca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ienes Idén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Único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ienes Diferenci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Oligop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 en que pocas empresas están en condiciones de suministrar un mismo bien, pero sin que la diferencia sea imperceptible, como lo sería en el caso de competencia perfec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cas empresas. Bien “casi” homogéneo, con tendencia a la elastic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Serán Precio-Aceptantes? OPEP, carrera armamentista, guerra publicita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Oligop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Dado que hay pocos vendedores (o compradores), la decisión de uno, influirá sustancialmente en los beneficios de los demás competidores (jugadores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Farmacias: 20% descuent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Caso Isapres: Planes 100/80; 90/7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Se genera situación de interdepend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¿y los Costos de Transacción? o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s-CL" sz="3000" spc="-1" strike="noStrike">
                <a:solidFill>
                  <a:srgbClr val="000000"/>
                </a:solidFill>
                <a:latin typeface="Garamond"/>
              </a:rPr>
              <a:t>¡¿Qué importa el costo?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Oligopolio y Competencia Monopolíst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ferenciación del producto (¿?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terrelación entre empresas (¿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syuntiva entre cooperación e interés pers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lusión + Cooperación = Beneficios Monopól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¿Y si no se coop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6633"/>
                </a:solidFill>
                <a:latin typeface="Garamond"/>
              </a:rPr>
              <a:t>Mankiw y el dilema del agua. </a:t>
            </a:r>
            <a:br>
              <a:rPr sz="4600"/>
            </a:br>
            <a:r>
              <a:rPr b="0" lang="es-CL" sz="4600" spc="-1" strike="noStrike">
                <a:solidFill>
                  <a:srgbClr val="006633"/>
                </a:solidFill>
                <a:latin typeface="Garamond"/>
              </a:rPr>
              <a:t>Los duopolios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erdillo Ltda. (C) y Perrito S.A. (P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mbos poseen acceso exclusivo a la extracción de agua de un poz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ongamos demanda de pendiente negativa y costos de producción =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539640" y="34920"/>
          <a:ext cx="8280360" cy="6539040"/>
        </p:xfrm>
        <a:graphic>
          <a:graphicData uri="http://schemas.openxmlformats.org/drawingml/2006/table">
            <a:tbl>
              <a:tblPr/>
              <a:tblGrid>
                <a:gridCol w="2760840"/>
                <a:gridCol w="2759040"/>
                <a:gridCol w="276048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(L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(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= UT = 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¿Qué 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000000"/>
                </a:solidFill>
                <a:uFillTx/>
                <a:latin typeface="Book Antiqua"/>
              </a:rPr>
              <a:t>Teoría de Juegos:</a:t>
            </a: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 Teoría de la toma de decisiones o comportamiento de los individuos en situaciones estratég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¿Por qué na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Uso Descriptivo o Normati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Qué hará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Situación Ideal = 30 Lt. c/u = $¿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C: “Pero si vendo 10 Lt. Más, ¿cuánto gano?” “¿Me importa que disminuya la UT del mercado?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P: “Pero si vendo 10 Lt. Más, ¿cuánto gano?” “¿Me importa que disminuya la UT del mercado?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Conclusión: Si se producen 80 Lt., el precio baja a $4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Qué hará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n el supuesto de Cooperación = ¿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n el supuesto de No Cooperación = ¿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Cuándo C y E venden a precio eficient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Por Qué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ntonces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Aunque los duopolistas maximizadores de beneficios terminen por no cooperar y marginen menos c/u, igualmente no se alcanza Pareto (Kaldor-Hicks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Sentencia Nº 7/2004, Mercado de la Lech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Sentencia N° 57/2007, Isap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Sentencia N° 38-2006. Revocada por Excma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¿Se aplica lo mismo a los oligopolistas en sentido estric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Debe el Derecho antitrust encargarse de los oligopoli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Book Antiqua"/>
              </a:rPr>
              <a:t>Conceptos Bás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Ju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Jugadores. Actuaciones de individuos en número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gt;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Estrategias de cada u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Recompensas (Pagos) por cada movimie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Esencia = Las estrategias de los demás jugadores influirán en nuestras deci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La policía atrapa a dos ladron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Chacalito y Malu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Asalto al banco = 1 año; Homicidio = 20 añ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La policía los atrapó saliendo del banco, pero hay sospecha de un homicidio anteri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El que confiesa = libre, 20 años al o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Si ambos confiesan = 8 años para cada u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Si ambos callan = 1 año para cada u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27160"/>
                <a:gridCol w="2303640"/>
                <a:gridCol w="2022480"/>
                <a:gridCol w="1876320"/>
              </a:tblGrid>
              <a:tr h="113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Malul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Estrategi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onfi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ilenc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hacali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onfi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8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2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ilenc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0,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1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Qué les convie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Qué es lo mejor que puede hacer cada un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strategia Dominante (ED): Movida óptima para un jugador, independiente de lo que los otros hag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Equilibrio de Nash </a:t>
            </a: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(Eq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tuación en que los agentes económicos (jugadores) que interactúan entre sí eligen cada uno su mejor estrategia, dadas las estrategias que han elegido los dem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Garamond"/>
              </a:rPr>
              <a:t>¿EqN – ED – Pare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Y el dilema es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Garamond"/>
              </a:rPr>
              <a:t>¿Cooperar o No Cooper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ensión entre el maximizador de utilidades (egoísmo) vs. La cooperación que mejora la situación de cada uno de los particip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Tipos de jueg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Suma Cero (Ajedrez, Go, Pok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Suma No Cero (Teoría de la Negociació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Cooperativos (cumplimiento exigibl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No Cooperativos (prisioner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Información Completa (= info relevante, conoce estrategias y recompensas de los otros, pero no las accion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2:39:29Z</dcterms:created>
  <dc:creator>Equipo Docente</dc:creator>
  <dc:description/>
  <dc:language>en-US</dc:language>
  <cp:lastModifiedBy>Sebastian Spolmann</cp:lastModifiedBy>
  <dcterms:modified xsi:type="dcterms:W3CDTF">2007-08-19T23:33:13Z</dcterms:modified>
  <cp:revision>59</cp:revision>
  <dc:subject/>
  <dc:title>Diapositiva 1</dc:title>
</cp:coreProperties>
</file>