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AFE-6811-41F4-AB96-0369F50B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758-7763-415A-9336-E627EC6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3DBD-A39D-4CF4-8C24-B057D3E3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D91-A143-4FED-82C5-B230CF293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A0D5-8E6A-428A-98D2-3ECF2A7E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1B22-FDD9-49C6-B084-558689C8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30E-1451-4BB6-84AC-DB19E271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5E8-1EFA-441C-8C0A-51A35613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8F0D-C720-4303-A43D-4FC86ED15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FD60-C261-4CE6-B2DB-3D4CAB4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790E-DBFE-4F92-A19E-D23ED058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0B0-1AD0-4DF1-8700-6F3894E7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D66C-5A81-41FE-8B0F-1FD4AD9A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36DA-6134-4C76-83CB-8256FBFB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A3C3-FD67-40B9-90E9-38FFF30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3C7E-6F93-4867-946F-96ADBA38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62CD-F604-4ED9-9048-87A8340D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6695-1379-44AB-AD4F-DB07D6C1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9CD38-DA80-42E5-A809-A72419D2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3F4BD-3974-4E22-AB46-8EECE003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22C2-C85D-4706-BF3D-373607DE4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371ED-B113-4CE6-B641-44DA600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6A49-CFA8-4BDD-9D4C-2C0975F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FA614-E4BE-4D44-B60C-4B4C6991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E9B4F-ED45-4BBC-A053-05B1ADD9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A548-22F3-48C8-BC9B-D11E0117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29D2E-9F10-44C6-AE23-39DE7E4C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9F0E0-822E-41F0-87EE-4935E04B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9FF9F-495F-438A-8A84-B36CA6216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2BFB8-59F8-46AA-AF67-9D2C67E8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DAED-3B78-47C1-960E-D6D638F2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C30-7B96-40DD-B247-2C0C5EF5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83CE-0845-44CB-8857-40F56FD7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9B6-3BF6-4921-8312-5383F35F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EC8-FDFB-418A-9882-9D1F4ED3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158-1CF0-41EC-9AB0-0951D0E9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E541-AC09-4367-AE95-A37D7B7A8C59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7E9E-9C1C-46C8-A6A6-5A0878958F25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66ED-65CE-4CF2-814D-EAF9BC9EE1CD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33"/>
                </a:solidFill>
                <a:latin typeface="Book Antiqua"/>
              </a:rPr>
              <a:t>TEORÍA DE JUEGOS: Organización Industrial. </a:t>
            </a:r>
            <a:r>
              <a:rPr b="0" lang="es-ES" sz="4600" spc="-1" strike="noStrike">
                <a:solidFill>
                  <a:srgbClr val="006633"/>
                </a:solidFill>
                <a:latin typeface="Book Antiqua"/>
              </a:rPr>
              <a:t>Aplicación a los olig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ormación Completa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1440" y="1773360"/>
            <a:ext cx="41752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¿Es así siempre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206800"/>
            <a:ext cx="28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Juegos Repeti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Y si se juega varias ve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Es = que sea un número fijo de veces a uno indefinido? (“Juego de la Agenci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desbarata el 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xelr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ey del Tal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Teoría Económica de los Contrato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¿Y qué … tiene que ver con los Oligopol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3 estructuras básicas de merc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Idén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Único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Diferenci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 en que pocas empresas están en condiciones de suministrar un mismo bien, pero sin que la diferencia sea imperceptible, como lo sería en el caso de competencia perf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cas empresas. Bien “casi” homogéneo, con tendencia a la elasti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Serán Precio-Aceptantes? OPEP, carrera armamentista, guerra publicit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Dado que hay pocos vendedores (o compradores), la decisión de uno, influirá sustancialmente en los beneficios de los demás competidores (jugadore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Farmacias: 20% descuen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so Isapres: Planes 100/80; 90/7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e genera situación de interdepend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¿y los Costos de Transacción? o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¡¿Qué importa el costo?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Oligopolio y Competencia Monopolís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ferenciación del producto (¿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rrelación entre empresas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yuntiva entre cooperación e interés pers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lusión + Cooperación = Beneficios Monopó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¿Y si no se coop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6633"/>
                </a:solidFill>
                <a:latin typeface="Garamond"/>
              </a:rPr>
              <a:t>Mankiw y el dilema del agua. </a:t>
            </a:r>
            <a:br>
              <a:rPr sz="4600"/>
            </a:br>
            <a:r>
              <a:rPr b="0" lang="es-CL" sz="4600" spc="-1" strike="noStrike">
                <a:solidFill>
                  <a:srgbClr val="006633"/>
                </a:solidFill>
                <a:latin typeface="Garamond"/>
              </a:rPr>
              <a:t>Los du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rdillo Ltda. (C) y Perrito S.A. (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os poseen acceso exclusivo a la extracción de agua de un poz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ongamos demanda de pendiente negativa y costos de producción =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34920"/>
          <a:ext cx="8280360" cy="653904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(L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 UT =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0000"/>
                </a:solidFill>
                <a:uFillTx/>
                <a:latin typeface="Book Antiqua"/>
              </a:rPr>
              <a:t>Teoría de Juegos:</a:t>
            </a: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 Teoría de la toma de decisiones o comportamiento de los individuos en situaciones estratég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¿Por qué n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Uso Descriptivo o Norma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ituación Ideal = 30 Lt. c/u = $¿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P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onclusión: Si se producen 80 Lt., el precio baja a $4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No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Cuándo C y E venden a precio efici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ntonc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Aunque los duopolistas maximizadores de beneficios terminen por no cooperar y marginen menos c/u, igualmente no se alcanza Pareto (Kaldor-Hick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º 7/2004, Mercado de la Lech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57/2007, Isap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38-2006. Revocada por Excma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¿Se aplica lo mismo a los oligopolistas en sentido estric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Debe el Derecho antitrust encargarse de los oligopoli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Book Antiqua"/>
              </a:rPr>
              <a:t>Conceptos Bás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gadores. Actuaciones de individuos en número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gt;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trategias de cada 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Recompensas (Pagos) por cada movimi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encia = Las estrategias de los demás jugadores influirán en nuestras deci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atrapa a dos ladr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hacalito y Mal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Asalto al banco = 1 año; Homicidio = 20 a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los atrapó saliendo del banco, pero hay sospecha de un homicidio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El que confiesa = libre, 20 años al o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onfiesan = 8 años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allan = 1 año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27160"/>
                <a:gridCol w="2303640"/>
                <a:gridCol w="2022480"/>
                <a:gridCol w="18763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Malu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Estrategi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hacali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0,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1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les convie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es lo mejor que puede hacer cada u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strategia Dominante (ED): Movida óptima para un jugador, independiente de lo que los otros hag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Equilibrio de Nash 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(Eq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tuación en que los agentes económicos (jugadores) que interactúan entre sí eligen cada uno su mejor estrategia, dadas las estrategias que han elegido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¿EqN – ED – Pare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Y el dilema 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</a:rPr>
              <a:t>¿Cooperar o No Cooper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sión entre el maximizador de utilidades (egoísmo) vs. La cooperación que mejora la situación de cada uno de los particip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Tipos de jueg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Cero (Ajedrez, Go, Pok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No Cero (Teoría de la Negoci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Cooperativos (cumplimiento exigib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No Cooperativos (prisioner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Información Completa (= info relevante, conoce estrategias y recompensas de los otros, pero no las ac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39:29Z</dcterms:created>
  <dc:creator>Equipo Docente</dc:creator>
  <dc:description/>
  <dc:language>en-US</dc:language>
  <cp:lastModifiedBy>Sebastian Spolmann</cp:lastModifiedBy>
  <dcterms:modified xsi:type="dcterms:W3CDTF">2007-08-19T23:33:13Z</dcterms:modified>
  <cp:revision>59</cp:revision>
  <dc:subject/>
  <dc:title>Diapositiva 1</dc:title>
</cp:coreProperties>
</file>